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BD99-044D-4D0A-B179-9AE490CC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6BE7-BF5C-416B-A410-F9897A89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3CDC-AFB1-41FA-A1EA-E9C78885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ACA9-19B5-4DAA-8676-709528EA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A5EE-BB19-4317-A828-591CCBD9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9EEB-9601-4CC2-830E-B629BFE1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EEC9-61C8-477E-B114-13B915BC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4C23-1E0D-4611-90EC-67EEF7DB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84F7-9E12-4D62-A05C-E33C24F9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90B5-7C21-4E11-9874-52CB66AA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5368-202A-4E15-B3A4-84DB7A74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9525-6FCD-4965-834C-F0E7A75E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2CFB-1C4D-49D6-82BD-E692BC8F0D6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3961080" cy="50958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5651640" y="1844640"/>
            <a:ext cx="280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В.Кокори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четвертом бастионе. Иллюстрация к «Севастопольским рассказам» Л.Н.Толст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1042920" y="7560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Calibri"/>
              </a:rPr>
              <a:t>Оборона Севастополя в произведениях живо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66"/>
                </a:solidFill>
                <a:latin typeface="Calibri"/>
              </a:rPr>
              <a:t>И.Айвазовский «Осада Севастополя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1" descr="sevastopol02"/>
          <p:cNvPicPr/>
          <p:nvPr/>
        </p:nvPicPr>
        <p:blipFill>
          <a:blip r:embed="rId1"/>
          <a:stretch/>
        </p:blipFill>
        <p:spPr>
          <a:xfrm>
            <a:off x="284040" y="1417680"/>
            <a:ext cx="840276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attach"/>
          <p:cNvPicPr/>
          <p:nvPr/>
        </p:nvPicPr>
        <p:blipFill>
          <a:blip r:embed="rId2"/>
          <a:stretch/>
        </p:blipFill>
        <p:spPr>
          <a:xfrm>
            <a:off x="179280" y="1197000"/>
            <a:ext cx="8785440" cy="47322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1042920" y="7560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Calibri"/>
              </a:rPr>
              <a:t>Оборона Севастопол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Calibri"/>
              </a:rPr>
              <a:t>Фрагмент панорамы  Ф. Руб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Calibri"/>
              </a:rPr>
              <a:t>Фрагмент панорамы Ф. Рубо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Calibri"/>
              </a:rPr>
              <a:t>«Оборона Севастополя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327oFA_OtrazhBombAnFrFlotCV"/>
          <p:cNvPicPr/>
          <p:nvPr/>
        </p:nvPicPr>
        <p:blipFill>
          <a:blip r:embed="rId2"/>
          <a:stretch/>
        </p:blipFill>
        <p:spPr>
          <a:xfrm>
            <a:off x="324000" y="1274760"/>
            <a:ext cx="842472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тальной гарнизо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Ф. Рубо. Панорама &quot;Оборона Севастополя&quot; "/>
          <p:cNvPicPr/>
          <p:nvPr/>
        </p:nvPicPr>
        <p:blipFill>
          <a:blip r:embed="rId1"/>
          <a:stretch/>
        </p:blipFill>
        <p:spPr>
          <a:xfrm>
            <a:off x="198360" y="1268280"/>
            <a:ext cx="6123240" cy="4537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6156000" y="836280"/>
            <a:ext cx="298764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Это самый страшный месяц долгой осады, непрерывных, жесточайших, днем и ночью не утихающих бомбардировок, осады,  окончившейся падением Севастополя 27 августа 1855 года. 349 дней героически сражался Севастопол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127160" y="5981760"/>
            <a:ext cx="49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Ф.Рубо. Оборона Севастоп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Calibri"/>
              </a:rPr>
              <a:t>«Штурм Малахова кургана». Раскрашенная литография И.Морина по рисунку с натуры В.Симпсона. 185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1676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12:40:19Z</dcterms:created>
  <dc:creator>uzeer</dc:creator>
  <dc:description/>
  <dc:language>en-US</dc:language>
  <cp:lastModifiedBy>FoxesSamsung</cp:lastModifiedBy>
  <dcterms:modified xsi:type="dcterms:W3CDTF">2018-03-18T00:08:45Z</dcterms:modified>
  <cp:revision>38</cp:revision>
  <dc:subject/>
  <dc:title>Севастопольские рассказы</dc:title>
</cp:coreProperties>
</file>