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A61-70FD-4D0D-A502-26AE674B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848-BFBF-434E-87E4-8DA392E7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A8B-8108-4325-9B40-D018B753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0F4-3433-453A-A7B3-CF7D3976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C1F7-FD25-4C84-8F77-503CB21F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5390-066B-4626-8A99-A6434E29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E9CD-10A3-4201-9737-BB74F3E7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6670-10D6-437B-9340-0870742A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683D-3D97-43FC-80BD-C8DB9D44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7F0B-B2C2-47F2-A114-31C3911B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F7A-E71A-4146-B544-2FAA8EE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084-99E6-47E3-A45E-53064C17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7D49-A8BB-4153-91B6-7B49466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9142-E43B-4D29-AB91-221EE95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923-00F3-4A7B-B2A5-95152E9A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B51-312F-48B6-9F33-F5CAA684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2F8A-BF09-4C8E-B149-05C12B2E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051B-3917-46D0-8B5A-E99AFB9E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15DB-746C-4FF4-B729-B075E15D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00CA-B4D5-4D60-8794-8279D00F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6F2A-3424-4222-B927-E5C5A8F6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5687-B1FD-4F41-B79C-92EE39EF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B21-CF43-49FF-8408-5D60F265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4ABF-0EEF-4350-8DD6-E36D0969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3DF2-610D-4CCF-B241-06F3366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B2A5-E235-44D7-8863-92926C2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47F5-53F3-43B1-BA1C-B2F3F99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4863-67C6-4726-80C3-E6AD60FF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D9CB-AD4F-419E-887D-357E0038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AB56-0EBD-439E-840A-37BF9D5E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87037-83B7-4AEA-B0A5-425A9D5E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2332-1043-4DC3-AEA1-4BF06D14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6E6F-538D-4EFD-AB22-ADBD5D7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C87-5314-4277-8DD0-FC48DC71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BE1E-55FB-491C-A052-82C9FE31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7082A-7B30-40B6-8704-18DAF3B3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4939-DDC7-45C0-AD21-BFA95C24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B260-64AF-49D3-8DEF-7008826E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2664-CC92-4F25-B137-4876E224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F0CC-20BB-4B46-8897-7A22E39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5E0F-4947-4BCA-A3BB-2CEEDC24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725A-774E-4CCD-ADE9-FD5DC77C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1C56-0E0F-4734-9967-AF65F9FD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D69-DF02-495E-86EA-21B5694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FAF-CBD4-4ED6-B48B-FCFBF36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FA8-9944-4B69-B10E-A358ABE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785-C198-4E43-9AC1-CC95151B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685-55EE-4FD4-BC53-00CE492D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BB12-FE71-4DD9-AD7F-DBDE5BF39BF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A9A1-F786-4CE4-8017-DD3FA8ED71E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8F44-19BA-4F12-A73B-D228497CFAE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724A-404A-4FF8-B1D0-583BF299FF1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7776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ашкирские народные подвижные  игр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76360" y="5013000"/>
            <a:ext cx="3886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а Д.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531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4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614cd"/>
                </a:solidFill>
                <a:latin typeface="Times New Roman"/>
              </a:rPr>
              <a:t>Курай. </a:t>
            </a:r>
            <a:br>
              <a:rPr sz="3600"/>
            </a:br>
            <a:r>
              <a:rPr b="0" lang="ru-RU" sz="3600" spc="-1" strike="noStrike">
                <a:solidFill>
                  <a:srgbClr val="e614cd"/>
                </a:solidFill>
                <a:latin typeface="Times New Roman"/>
              </a:rPr>
              <a:t>  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 В центре круга один ребенок, он кураист, ходит в противоположную сторону. Дети, взявшись за руки, идут по кругу, бегут, выполняют притопы на слов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слыхали наш кура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брались все сю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гравшись с кураист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бежались кто ку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, хай, хай, ха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зеленом,  на луг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пляшем под кура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разбегаются врассыпную по площадке, выполняют движения башкирского танца под слов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ы, курай задорный, веселей игра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, кто лучше пляшет, выбира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-кураист  выбирает лучшего исполнителя движений, тот становится водящи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игры: разбегаться только после окончание слов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«Уголки» - «М</a:t>
            </a:r>
            <a:r>
              <a:rPr b="0" lang="ba-RU" sz="2800" spc="-1" strike="noStrike">
                <a:solidFill>
                  <a:srgbClr val="e614cd"/>
                </a:solidFill>
                <a:latin typeface="Times New Roman"/>
              </a:rPr>
              <a:t>ө</a:t>
            </a: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йөш алыш» 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четырем углам площадки стоят 4 стула, на них 4 детей. В центре  стоит водящий. Он подходит по - очереди к сидящим и задает каждому вопрос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Хозяйка, можно истопить у тебя баню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 играющий отвеча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Моя баня заня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 играющий отвеча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Моя собака ощенилас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 играющий отвеча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Печка обвалилас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 играющий отвеча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Воды н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дящий выходит на центр площадки, хлопает в ладоши три раза и кричит: Хоп, хоп, хоп! За это время хозяева быстро меняются местами. Водящий должен успеть занять свободный сту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вила игры: меняться только после хлопков водящего. Игра может проводиться и с большим количеством детей: в этом случае воспитателю следует составить дополнительные ответы для «хозяев».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e614cd"/>
                </a:solidFill>
                <a:latin typeface="Times New Roman"/>
              </a:rPr>
              <a:t>«Белый тополь» - «Аҡ тирәк»</a:t>
            </a:r>
            <a:r>
              <a:rPr b="0" lang="ru-RU" sz="14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ариант 1.Дети стоят в две шеренги по краю площадки напротив друг друга.  Первая команда хором спраш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Белый тополь, синий тополь, что есть на неб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торая команда хором отвеч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стрые птиц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рвая команда спраш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Что есть у них на крыльях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торая команда отвеч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Есть сахар и  мед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рвая команда проси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айте нам саха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торая команда спраш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Зачем вам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рвая команда зов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Белый тополь, синий топол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торая команда спраш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ого выбираете из нас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рвая команда называют имя одного из  играющих  из противоположной команды. Выбранный ребенок бежит навстречу шеренге соперников, которые стоят, сомкнув крепко руки, и  старается разорвать «цепь» соперника. Если он разорвет «цепь», то забирает играющего из команды соперников в свою команду, если нет, то остается в этой команде. Выигрывает та команда, в которой оказывается больше всего игроков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авила игры: разрывать сомкнутые руки двух детей команды-соперницы всем туловищем, а не руками.</a:t>
            </a: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614cd"/>
                </a:solidFill>
                <a:latin typeface="Times New Roman"/>
              </a:rPr>
              <a:t>«Перетягивание каната» - «Арҡан тартыш»</a:t>
            </a:r>
            <a:r>
              <a:rPr b="0" lang="ru-RU" sz="2400" spc="-1" strike="noStrike">
                <a:solidFill>
                  <a:srgbClr val="90c22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  площадку кладется канат, середина которого отмечена цветной лентой. По обе стороны от середины площадки чертятся две параллельные линии. Две команды берут канат и становятся с разных сторон. По сигналу начинают тянуть канат в свою сторону. Побеждает команда, которая перетянет канат  на свою сторону (т.е. цветная ленточка пересечет линию границы команды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Правила игры: не отпускать канат из рук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«Голуби» - «Күгәрсен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лощадке чертятся две параллельные линии на расстоянии 5-8 метров,  вдоль этих линий чертятся круги («гнезда»). Дети стоят в кругах («гнездах») напротив друг друга. Водящий – «пастух», с закрытыми глазами ходит между шеренг и произносит три раза текс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р – гур, күгәрсе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өтә беҙгә бер о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р – гур, голуб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всех нас одно гнездо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окончанием слов дети меняются местами («гнездами») – бегут в противоположные «гнезда». Пастух открывает глаза и старается занять пустое «гнездо». Оставшийся без «гнезда» ребенок «голубь»   становится «пастухом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игры: меняться местами можно  только тогда, когда пастух произнесет  текст  три раза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4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«Поймай воробья поясом» - «Букән ҡайы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парами стоят по кругу: впереди девочка сзади мальчик. Водящий, в руке у которого   пояс (веревка), ходит за кругом и произносит текст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о прошло, осень приш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ки улетели, гуси улет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овьи проп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она стой – воробей лети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, которого выбрали «воробьем» убегает от водящего по кругу, а тот старается догнать и осалить поясом. Если водящий осалит, то занимает место играющего, а осаленный становится водящи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игры: не касаться убегающего рукой, а только поясом. Убегать после слова «лети»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614cd"/>
                </a:solidFill>
                <a:latin typeface="Times New Roman"/>
              </a:rPr>
              <a:t>«Спрячь платочек» - «Йәшерәм яулыҡ»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сидят  по кругу, закрыв глаза. Позади круга ходит водящий с платочком в руках. Подходит сзади к каждому играющему и произносит слов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чу, прячу я плат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 зеленой сосн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аметно полож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кому-то за спино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Йәшерәм яулыҡ, Йәшерәм яулыҡ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Йәшел ҡайын аҫты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Һиззермәйсә ташлап китт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р иптәшем арты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Затем кладет незаметно платочек за спиной у одного из детей. С окончанием текста все дети поворачиваются и ищут платочек у себя за спиной. Тот, у кого платочек, быстро встает и догоняет водящего. Если догонит, то садится на свое место, если нет, то водящий занимает место играющего, а ребенок становится водящим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а игры: бегать через круг нельзя, оборачиваться только после окончания текста.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614cd"/>
                </a:solidFill>
                <a:latin typeface="Times New Roman"/>
              </a:rPr>
              <a:t>«Драчливые петушки» - «Этэстэр талаша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лощадке начерчены круги диаметром 1 м. по одному кругу на пару.   В кругу два ребенка стоят на одной ноге, придерживая другую ногу  рукой. Все произносят слов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өн буйына ҡар яуған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ргә япҡан аҡ юрға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к нинә беҙҙен әтәстә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ынар аяҡлы булған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ю ночь шел снег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рыл он землю белым одеял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ему же  наши петуш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ли одноногими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С этими словами дети-петушки, прыгая на одной ноге и толкаясь плечами, стараются вытолкнуть соперника из круга. Тот, кто оказался за кругом, считается проигравшим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игры: на один бой отводится 1 минута; игрок, коснувшийся земли согнутой ногой, считается проигравшим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  </a:t>
            </a: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«Кот и мыши» - «Бесэй менэн  сыскан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– мыши бегают по площадке очень тихо, на носочках, чтобы не разбудить кота. Кот сиди в кругу на краю площадки, закрыв глаза. Как только кот открывает глаза и поднимается с места, дети – мыши должны присесть и не двигаться. Кот произносит слов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әй сыҡҡан хунарғ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Ҡомаҡ  сысҡан  ауларғ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  Хәҙер барып тотам, - т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  Хоғонам да йотам! – т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тик  вышел погуля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ых мышек пойм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йчас догоню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вачу и прогло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После окончания слов кот ловит мышей, которые встают и убегают от него. В конце игры подсчитывают количество пойманных мышей. Выбирается новый кот, игра повторяетс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игры: не двигаться во время слов кота; осаленные </a:t>
            </a:r>
            <a:r>
              <a:rPr b="0" lang="ru-RU" sz="2000" spc="-1" strike="noStrike">
                <a:solidFill>
                  <a:srgbClr val="90c226"/>
                </a:solidFill>
                <a:latin typeface="Times New Roman"/>
              </a:rPr>
              <a:t>мыши должны прекратить игру, собраться у кота в домике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«Волк и зайцы» - «Буре менэн куян».</a:t>
            </a:r>
            <a:br>
              <a:rPr sz="28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  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Для игры выбираются волк и водящий. Остальные дети – зайцы. Волк прячется  - приседает на одной стороне площадки, а дети - зайцы стоят на другой стороне площадки , ограниченной чертой.  На слова ведущего  «зайцы»  выходят из дома и  прыгают  на двух ногах по всей площадк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ҡ ҡуян, йомшаҡ ҡуя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ҙгә ҡунаҡҡа килгә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Ҡойроғо ҡыҫҡа ғы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Ҡолағы оҙон икән.     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лый заяц, мягкий заяц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гости к нам прише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шки – длинны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роткий хвос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На сигнал ведущего «Буре» («Волк»)  дети-зайцы прыжками быстро возвращаются в свой дом, а волк старается поймать как можно больше дете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авила игры: передвигаться по площадке можно только прыжками на двух ногах; убегать в дом только после сигнала водящего; ловить, касаясь игрока рукой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614cd"/>
                </a:solidFill>
                <a:latin typeface="Times New Roman"/>
              </a:rPr>
              <a:t>«Юрта» - «Тирмә»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игре участвуют четыре подгруппы детей, каждая из которых образует круг на площадке. В центре каждого круга стоит стул, на котором повешен платок с национальным узором. Взявшись за руки, все идут четырьмя кругами переменным шагом и пою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ы весёлые ребя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берёмся все в круж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играем, и попляш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помчимся на лужок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мелодию без слов ребята переменным шагом перемещаются в общий круг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 окончании музыки они быстро бегут к своим стульям, берут платок и натягивают его над головой в виде шатра (крыши, получается юрта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авила игры: С окончанием музыки надо быстро подбежать к своему стулу и образовать юрту. Выигрывает группа детей, первой построившая юрту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«Палка-кидалка» -  «Сойош тая</a:t>
            </a:r>
            <a:r>
              <a:rPr b="0" lang="ba-RU" sz="2800" spc="-1" strike="noStrike">
                <a:solidFill>
                  <a:srgbClr val="e614cd"/>
                </a:solidFill>
                <a:latin typeface="Times New Roman"/>
              </a:rPr>
              <a:t>ҡ</a:t>
            </a:r>
            <a:r>
              <a:rPr b="0" lang="ru-RU" sz="2800" spc="-1" strike="noStrike">
                <a:solidFill>
                  <a:srgbClr val="e614cd"/>
                </a:solidFill>
                <a:latin typeface="Times New Roman"/>
              </a:rPr>
              <a:t>»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тится круг диаметром 1, 5 м. В круг кладут палку-кидалку длиной 50 см. Считалкой выбирают пастуха. Один игрок кидает палку вдаль. Пастух выбегает за брошенной палкой. В это время игроки прячутся. Пастух возвращается с палкой, кладет ее на место и ищет детей. Заметив спрятавшегося, он называет его по имени. Пастух и названный по имени ребенок бегут к палке. Если игрок прибежал раньше пастуха, то он берет палку и опять кидает ее, а сам снова прячется. Если же игрок прибежал позже, то становится пленником. Его может выручить только игрок, который назовет его имя и успеет взять палку раньше пастуха. Когда все будут найдены, пастухом становится тот, кто первым был обнаружен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игр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ть искать игроков можно только тогда, когда палочка найдена и положена в круг. Названный по имени игрок должен сразу выйти из укрытия. Пленника спасает игрок, добежавший до палки раньше пастуха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29480" cy="64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614cd"/>
                </a:solidFill>
                <a:latin typeface="Trebuchet MS"/>
              </a:rPr>
              <a:t>«Медный пень» - «Бакыр букән»</a:t>
            </a:r>
            <a:r>
              <a:rPr b="0" lang="ru-RU" sz="2000" spc="-1" strike="noStrike">
                <a:solidFill>
                  <a:srgbClr val="e614cd"/>
                </a:solidFill>
                <a:latin typeface="Trebuchet MS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90c22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арами располагаются по кругу. Дети, изображающие медные пни, сидят на стульях. Дети – хозяева становятся за стулья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башкирскую народную мелодию водящий – покупатель двигается по кругу переменным шагом, смотрит внимательно на детей, сидящих на стульях, как бы выбирая себе пень. С окончанием музыки останавливается около пары и спрашивает у хозяин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«Я хочу у вас спроси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ль мне ваш пень купить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зяин отвеча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«Коль джигит ты удало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ный пень тот будет тво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этих слов хозяин и покупатель выходят за круг, встают за выбранным пнём друг другу спиной и на слова: «Раз, два, три – беги» - разбегаются в разные стороны. Тот, кто первый добежал, встаёт за медным пнё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игр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жать только по сигналу. Победитель становится хозяином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614cd"/>
                </a:solidFill>
                <a:latin typeface="Times New Roman"/>
              </a:rPr>
              <a:t>«Баран» - «Т</a:t>
            </a:r>
            <a:r>
              <a:rPr b="0" lang="ba-RU" sz="4000" spc="-1" strike="noStrike">
                <a:solidFill>
                  <a:srgbClr val="e614cd"/>
                </a:solidFill>
                <a:latin typeface="Times New Roman"/>
              </a:rPr>
              <a:t>ә</a:t>
            </a:r>
            <a:r>
              <a:rPr b="0" lang="ru-RU" sz="4000" spc="-1" strike="noStrike">
                <a:solidFill>
                  <a:srgbClr val="e614cd"/>
                </a:solidFill>
                <a:latin typeface="Times New Roman"/>
              </a:rPr>
              <a:t>кә».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игры выбирается водящий. Дети встают в большой круг. Водящий выходит в середину круга и начинает считать детей, отмечая каждог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у, яу, ямғыры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Ҡара тәкә суйырмы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ын хинә ҡойормы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ен уҙем ашармын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й, лей, дожд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ежу я черного бара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ло отдам теб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со съем са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т, на кого выпадет последнее слово текста, становится бараном, кричит: «Бе-бе-бе!» и догоняет разбежавшихся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: игрокам следует разбегаться только после крика барана;  барану ловить детей, касаясь рукой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614cd"/>
                </a:solidFill>
                <a:latin typeface="Times New Roman"/>
              </a:rPr>
              <a:t>Тимербай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ющие, взявшись за руки, делают круг. Выбирают водящего – Тимербая. Он становится в центре круга. Водящий говор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ь детей у Тимерба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жно, весело играю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          В речке быстрой искупали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        Нашалились, наплескали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 Хорошенечко отмылис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красиво нарядилис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        И ни есть, ни пить не ста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         В лес под вечер прибежа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    Друг на друга погляде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ли вот та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следними слов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вот та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водящий делает какое –нибудь движение.  Все должны повторить его. Затем водящий выбирает  кого –нибудь на место себ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Правила игры: движения которые уже показали, повторять нельзя. Показанные движения надо выполнять точно. Можно в игре использовать различные предметы (мячи, косички, ленты)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614cd"/>
                </a:solidFill>
                <a:latin typeface="Times New Roman"/>
              </a:rPr>
              <a:t>«Чурбан» - «Б</a:t>
            </a:r>
            <a:r>
              <a:rPr b="0" lang="ba-RU" sz="3600" spc="-1" strike="noStrike">
                <a:solidFill>
                  <a:srgbClr val="e614cd"/>
                </a:solidFill>
                <a:latin typeface="Times New Roman"/>
              </a:rPr>
              <a:t>ү</a:t>
            </a:r>
            <a:r>
              <a:rPr b="0" lang="ru-RU" sz="3600" spc="-1" strike="noStrike">
                <a:solidFill>
                  <a:srgbClr val="e614cd"/>
                </a:solidFill>
                <a:latin typeface="Times New Roman"/>
              </a:rPr>
              <a:t>рәнә»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ередине площадки ставится  чурбан (полено, высокий кубик). Играющие встают по кругу, берутся за руки и говорят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ит чурб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Не мешает н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       Кто чурбан собь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Из круга уйдет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этого все начинают двигаться вокруг чурбана, при этом каждый старается подтянуть своих соседей к чурбану так, чтобы они его свалил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игры: кто свалит чурбан, выходит из круга; руки отпускать нельзя; играют не больше 6-8 детей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614cd"/>
                </a:solidFill>
                <a:latin typeface="Times New Roman"/>
              </a:rPr>
              <a:t>«Лошади» - «Аттар»</a:t>
            </a: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rebuchet MS"/>
              </a:rPr>
              <a:t>            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Площадь разделена на 2 части,  первая часть – конюшня, там находятся дети   лошадки; недалеко от них  сидят на скамейке  конюхи с вожжами. Старший конюх (выбранный по считалке) подходит к дощечк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язанной к дереву и отбивает примерно 15 –18 ударов. За это время конюхи быстро выводят лошадей, запрягают их и выстраиваются друг за другом. На сигнал «поехали» скачут галопом, на сигнал «лошади  испугались» разбегаются в разных направлениях. Конюхи ловят и отводят лошадей в конюшню. Дети меняются ролями, игра продолжаетс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игры: внимательно слушать сигнал и действовать строго после сигнала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614cd"/>
                </a:solidFill>
                <a:latin typeface="Times New Roman"/>
              </a:rPr>
              <a:t>«Липкие пеньки» - «Йәбешкәк бүкәндәр»</a:t>
            </a:r>
            <a:br>
              <a:rPr sz="3200"/>
            </a:br>
            <a:r>
              <a:rPr b="0" lang="ru-RU" sz="3200" spc="-1" strike="noStrike">
                <a:solidFill>
                  <a:srgbClr val="90c22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ри-четыре игрока садятся на корточки                            как можно дальше друг от друга.                                     Они изображают липкие пеньки.                               Остальные играющие бегают по  площадке, стараясь не подбегать близко к пенькам.                           Пенечки должны постараться коснуться пробегающих мимо детей.                                   Осаленные становятся пенькам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авила игры: пеньки не должна вставать с места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4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614cd"/>
                </a:solidFill>
                <a:latin typeface="Times New Roman"/>
              </a:rPr>
              <a:t>«Стрелок» - «У</a:t>
            </a:r>
            <a:r>
              <a:rPr b="0" lang="ba-RU" sz="3200" spc="-1" strike="noStrike">
                <a:solidFill>
                  <a:srgbClr val="e614cd"/>
                </a:solidFill>
                <a:latin typeface="Times New Roman"/>
              </a:rPr>
              <a:t>ҡ</a:t>
            </a:r>
            <a:r>
              <a:rPr b="0" lang="ru-RU" sz="3200" spc="-1" strike="noStrike">
                <a:solidFill>
                  <a:srgbClr val="e614cd"/>
                </a:solidFill>
                <a:latin typeface="Times New Roman"/>
              </a:rPr>
              <a:t>сы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ятся две параллельные линии на расстоянии 10-15 м. друг от друга. В середине между ними чертится круг диаметром 2 м. Один игрок – стрелок. Он с мячом в руках стоит в кругу.  Остальные игроки начинают перебежку от одной линии к другой. Стрелок старается попасть в них мячом. Тот, в кого попал, становится стрелком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игры: в начале игры стрелком становится тот, кто после внезапной команды «Сесть!» присел последним. Момент броска мяча определяется самим стрелком. Мяч, брошенный мимо, игроки перебрасывают стрелку. Если игрок поймал мяч, брошенный в него, то это не считается попаданием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3T04:33:29Z</dcterms:created>
  <dc:creator>Миляуша</dc:creator>
  <dc:description/>
  <dc:language>en-US</dc:language>
  <cp:lastModifiedBy>динара</cp:lastModifiedBy>
  <cp:lastPrinted>2018-01-12T07:55:31Z</cp:lastPrinted>
  <dcterms:modified xsi:type="dcterms:W3CDTF">2022-11-06T17:58:30Z</dcterms:modified>
  <cp:revision>10</cp:revision>
  <dc:subject/>
  <dc:title>Башкирские народные подвижные  игры</dc:title>
</cp:coreProperties>
</file>