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media/image1.jpeg" ContentType="image/jpeg"/>
  <Override PartName="/ppt/media/image14.gif" ContentType="image/gif"/>
  <Override PartName="/ppt/media/image5.jpeg" ContentType="image/jpeg"/>
  <Override PartName="/ppt/media/image15.gif" ContentType="image/gif"/>
  <Override PartName="/ppt/media/image20.png" ContentType="image/png"/>
  <Override PartName="/ppt/media/image16.gif" ContentType="image/gif"/>
  <Override PartName="/ppt/media/image19.png" ContentType="image/png"/>
  <Override PartName="/ppt/media/image21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30.gif" ContentType="image/gif"/>
  <Override PartName="/ppt/media/image24.png" ContentType="image/png"/>
  <Override PartName="/ppt/media/image28.png" ContentType="image/png"/>
  <Override PartName="/ppt/media/image29.png" ContentType="image/png"/>
  <Override PartName="/ppt/media/image6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F37F-B98B-4199-8D0F-F6AEB2FB4B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87E0-1871-4819-BBAA-60D37E61A4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EDD-3505-4E04-A4D7-CB1E3408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C96-3D67-4149-8101-8E7E4BD2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C25-AFCD-44FE-885A-9862D808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69EA-371C-4594-A847-E978892C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BC30-1FD7-4D5E-BF74-DC46FBB2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3FF1-524C-4970-BFF3-E868B215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4568-6C9C-4EAB-8C37-513B81C4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A7CF-1BBD-4A9B-9535-78E6F06F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AEAC-FACE-4311-AA49-678FCA4B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8361-208B-4848-BD97-741EACE9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B29F-BEC1-43FD-A494-1B808386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27D5-5558-458A-91C6-0BFD9FDB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C225-C76A-41A5-9855-F3B6C660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07E2-1476-4A98-A121-82FCAAEF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EFFF-3930-490E-AA16-D7FB7967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014A-FDA4-41DF-AB6A-8BEBBD3A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91A4-8143-4798-856A-52C68250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3A75B-1D08-4472-AC11-615BF32B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7CB7B-E3A5-470E-A0C3-B6641817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837D3-9B16-4B70-9FC4-827FE705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75F7-CE8E-4340-A9C9-DFE21C37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8739D-213B-4C00-A63F-A3377250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5E4-E300-4F0D-85EE-547C27CE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7FBA7-E8FD-4A1E-9E51-2A0CF062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87B7-C303-4F0A-8CBC-13CD1148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4C291-3262-41BA-9B0F-F77DCA3F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34D5F-2621-4F17-B44B-0E7488B5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4BF6-C59B-4E12-B31E-F24242C1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66D2B-7053-4CF6-B963-ECE3735E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F0309-C73A-4EB4-9168-E8FFFAD1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A5164-7411-4994-88A1-008BCDD5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7F59F-AAF8-45F6-BC74-0659F41D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F3483-CB8B-4104-947F-61E3A293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3E6-2E53-4A4F-8166-2844B258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6434B-D0B3-4B5A-9B00-BBE76E18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B65EA-2320-4C34-928B-6205F203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C6E9E-2313-4E2E-B5E9-D626664D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A21C2-C255-4431-8EF7-0C5FD8A0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E61EF-FE65-458D-9A75-29E39280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3CB98-C1D1-4C9B-998F-DDEE8182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FFE44-571F-4B04-8D1F-243BE6A9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0C8E2-2A3D-48BD-B99D-DF56CCCA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41C75-B49C-41BC-BE1B-04E480DD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9239B-C0F7-4B8D-A201-71C868CC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237-8BD4-43F4-B9A5-F59054F0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3B5D0-4C8C-43CF-AE99-80CA7A70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026C5-DD0F-43E8-B25B-0166EF52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20095-3AC3-4308-8BF9-016B8C66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E3E60-6718-4CEB-B901-82DC06AD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F2FAC-A82D-4A62-82BD-29E5C54C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E7D96-5E89-4F7A-ABAC-787C14C7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E5CAE-A940-40D7-BDB3-3FED3B7F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AF6DC-6EA4-4E75-90D7-4C3A4095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F51F7-1528-45F3-ABC2-EA94B3A4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031B7-48B6-4A6C-A332-320F4AD8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52F-BD96-4268-90AC-48B6D5C5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D972B-29C5-4748-9ACF-565EDA7D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6E7D1-8FD8-47AC-A1D0-3895D2BF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E1DA2-19C8-4580-8210-2A2F4A95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7F1A4-B5F9-402B-82E7-F602CAC8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CF3A7-C5D6-4FAD-BB40-C3BC4F41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1DA53-A4C6-4A8A-9F0C-3D154355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04620-7AB1-4FD2-B05F-DF4B28F9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7B4E4-DEEA-4C9C-820A-230B5266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62892-FCBD-4443-8CEF-10AA3766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70F47-81DE-4D20-B512-53DAD1AA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4641-A970-44B9-9125-D2D01630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1F217-FF34-45E0-A92E-0AE4E82D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26801-082F-403A-A08C-008FF112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51E2B-FBEF-4A1C-BA4F-DD4B38D6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717F8-4A6E-4BCE-98CE-D780F960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427AB-55F4-4A5F-97FC-526F5B0C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A2A92-809D-45D1-99F6-31F96BCB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8FA4A-A344-4717-A6F6-88445A1D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AAB66-B502-49E7-9AE9-05508D6C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9CBA0-876E-4A95-8BA9-A2039D25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F04C8-CFBB-41EE-9976-7E0EDA2B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CDA-63E7-4C94-9275-F43F73E1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A7FEB-87E4-4D35-94E0-0365B227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C32AB-946E-46FF-AD4A-3E34087E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489D3-B38C-4CBA-8971-438AC50A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D7F7F-F366-4B8E-9EDD-D32DF801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04A8C-04B7-429C-A4DD-8A9CE10D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8BA2-42D6-4FD4-9D96-F3BC457F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DC51-4424-4217-BDD2-ACE03754A2D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AFD4-2D19-41E5-AE78-B3778984943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C340-FB53-4F6E-B2BB-2E2FED45DE6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E1D0-ED43-4535-A562-CB5531ED355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5874-7757-49E4-A5D3-FBCF11971F2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11BE-A7C4-472E-AED8-6FBD188B64C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63B7-E7AB-432D-8926-E14E058E6E7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52240" y="1557360"/>
            <a:ext cx="84294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5436a"/>
                </a:solidFill>
                <a:latin typeface="바탕"/>
                <a:ea typeface="바탕"/>
              </a:rPr>
              <a:t> </a:t>
            </a:r>
            <a:r>
              <a:rPr b="0" lang="ru-RU" sz="4800" spc="-1" strike="noStrike">
                <a:solidFill>
                  <a:srgbClr val="35436a"/>
                </a:solidFill>
                <a:latin typeface="Arial Black"/>
                <a:ea typeface="바탕"/>
              </a:rPr>
              <a:t>Дыхательная гимнастика</a:t>
            </a:r>
            <a:br>
              <a:rPr sz="4800"/>
            </a:br>
            <a:r>
              <a:rPr b="0" lang="ru-RU" sz="4800" spc="-1" strike="noStrike">
                <a:solidFill>
                  <a:srgbClr val="35436a"/>
                </a:solidFill>
                <a:latin typeface="Arial Black"/>
                <a:ea typeface="바탕"/>
              </a:rPr>
              <a:t> А. Н. Стрельниковой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5667840" y="494172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436a"/>
                </a:solidFill>
                <a:latin typeface="Arial"/>
              </a:rPr>
              <a:t>Составитель: Бесова В.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2862720" y="622440"/>
            <a:ext cx="485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436a"/>
                </a:solidFill>
                <a:latin typeface="Arial"/>
              </a:rPr>
              <a:t>Муниципальное бюджет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436a"/>
                </a:solidFill>
                <a:latin typeface="Arial"/>
              </a:rPr>
              <a:t>дополнительн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436a"/>
                </a:solidFill>
                <a:latin typeface="Arial"/>
              </a:rPr>
              <a:t>Детско-юношеский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4104720" y="6184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436a"/>
                </a:solidFill>
                <a:latin typeface="Arial"/>
              </a:rPr>
              <a:t>Воронеж,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2640" y="785520"/>
            <a:ext cx="7443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713204"/>
                </a:solidFill>
                <a:latin typeface="Corbel"/>
              </a:rPr>
              <a:t>Показания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213920" y="1785600"/>
            <a:ext cx="7643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5436a"/>
                </a:solidFill>
                <a:latin typeface="Corbel"/>
              </a:rPr>
              <a:t>различные заболевания сердечнососудистой системы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5436a"/>
                </a:solidFill>
                <a:latin typeface="Corbel"/>
              </a:rPr>
              <a:t>последствия перенесенного инфаркта миокарда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5436a"/>
                </a:solidFill>
                <a:latin typeface="Corbel"/>
              </a:rPr>
              <a:t>симптоматическая гипертензия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5436a"/>
                </a:solidFill>
                <a:latin typeface="Corbel"/>
              </a:rPr>
              <a:t>вегетососудистая дистония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5436a"/>
                </a:solidFill>
                <a:latin typeface="Corbel"/>
              </a:rPr>
              <a:t>нарушение ритма сердца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5436a"/>
                </a:solidFill>
                <a:latin typeface="Corbel"/>
              </a:rPr>
              <a:t>атеросклероз артерий головного мозга, сердца и нижних конечностей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5436a"/>
                </a:solidFill>
                <a:latin typeface="Corbel"/>
              </a:rPr>
              <a:t>последствия инсульта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5436a"/>
                </a:solidFill>
                <a:latin typeface="Corbel"/>
              </a:rPr>
              <a:t>хронические головные боли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Рисунок 3" descr="Photo 021.gif"/>
          <p:cNvPicPr/>
          <p:nvPr/>
        </p:nvPicPr>
        <p:blipFill>
          <a:blip r:embed="rId1"/>
          <a:stretch/>
        </p:blipFill>
        <p:spPr>
          <a:xfrm rot="589200">
            <a:off x="7500600" y="2642760"/>
            <a:ext cx="1380960" cy="189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57200" y="928440"/>
            <a:ext cx="72295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713204"/>
                </a:solidFill>
                <a:latin typeface="Corbel"/>
              </a:rPr>
              <a:t>Показания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143000" y="1857240"/>
            <a:ext cx="751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воспаление тройничного нерв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паркинсонизм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заболевания пищеварительной систем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заболевания щитовидной желез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малокрови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сахарный диаб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заболевания опорно-двигательного аппарат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хронический насморк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эпилепс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рассеянный склероз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Рисунок 3" descr="Photo 028.gif"/>
          <p:cNvPicPr/>
          <p:nvPr/>
        </p:nvPicPr>
        <p:blipFill>
          <a:blip r:embed="rId1"/>
          <a:stretch/>
        </p:blipFill>
        <p:spPr>
          <a:xfrm rot="801600">
            <a:off x="7637040" y="2398320"/>
            <a:ext cx="1524240" cy="20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857160"/>
            <a:ext cx="7515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713204"/>
                </a:solidFill>
                <a:latin typeface="Corbel"/>
              </a:rPr>
              <a:t>Показания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71720" y="1714680"/>
            <a:ext cx="758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хронический тонзилли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аденоид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заикани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вирусные заболева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воспалительные заболева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кожные заболева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импотенц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заболевания женской половой сфер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избыточный ве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Рисунок 3" descr="Photo 045.gif"/>
          <p:cNvPicPr/>
          <p:nvPr/>
        </p:nvPicPr>
        <p:blipFill>
          <a:blip r:embed="rId1"/>
          <a:stretch/>
        </p:blipFill>
        <p:spPr>
          <a:xfrm rot="1086600">
            <a:off x="6981480" y="2769840"/>
            <a:ext cx="1589040" cy="196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8840" y="571320"/>
            <a:ext cx="72295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713204"/>
                </a:solidFill>
                <a:latin typeface="Corbel"/>
              </a:rPr>
              <a:t>Противопоказания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71360" y="1499760"/>
            <a:ext cx="744372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436a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травмы головного мозг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травмы позвоночник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выраженный остеохондроз шейно-грудного отдела позвоночник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  </a:t>
            </a: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острое лихорадочное состояни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кровотече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острый тромбофлебит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высокое артериальное, внутричерепное или внутриглазное давл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Рисунок 3" descr="Photo 087.gif"/>
          <p:cNvPicPr/>
          <p:nvPr/>
        </p:nvPicPr>
        <p:blipFill>
          <a:blip r:embed="rId1"/>
          <a:stretch/>
        </p:blipFill>
        <p:spPr>
          <a:xfrm flipH="1" rot="673800">
            <a:off x="6700680" y="487440"/>
            <a:ext cx="1795320" cy="2068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571320"/>
            <a:ext cx="751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713204"/>
                </a:solidFill>
                <a:latin typeface="Corbel"/>
              </a:rPr>
              <a:t>Правила выполн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143000" y="1785960"/>
            <a:ext cx="751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36a"/>
                </a:solidFill>
                <a:latin typeface="Corbel"/>
              </a:rPr>
              <a:t>«Чем сильнее волна ударилась о берег, тем дальше она откатится, чем крепче мяч ударит о стену, тем дальше он отлетит. Чем активнее будет вдох, тем легче и естественнее происходит выдох и постепенно со временем он нормализуется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36a"/>
                </a:solidFill>
                <a:latin typeface="Corbel"/>
              </a:rPr>
              <a:t>(А. Н. Стрельникова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Рисунок 3" descr="Photo 007.gif"/>
          <p:cNvPicPr/>
          <p:nvPr/>
        </p:nvPicPr>
        <p:blipFill>
          <a:blip r:embed="rId1"/>
          <a:stretch/>
        </p:blipFill>
        <p:spPr>
          <a:xfrm rot="738000">
            <a:off x="6878160" y="5046480"/>
            <a:ext cx="2283120" cy="147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85920" y="356760"/>
            <a:ext cx="73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713204"/>
                </a:solidFill>
                <a:latin typeface="Corbel"/>
              </a:rPr>
              <a:t>Правила выполн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357200" y="1714680"/>
            <a:ext cx="72295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Вдох должен быть шумным, резким и коротким, как хлопок в ладош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Выдох должен осуществляться после каждого вдоха самостоятельн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 </a:t>
            </a: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Вдох делается одновременно с движениями. .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Счет в гимнастике Стрельниковой – только на восемь, считать следует мысленно, не вслу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 </a:t>
            </a: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Все вдохи и движения делаются в ритме и темпе строевого шаг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Упражнения можно делать стоя, сидя, леж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713204"/>
                </a:solidFill>
                <a:latin typeface="Corbel"/>
              </a:rPr>
              <a:t>Методика провед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13920" y="1428480"/>
            <a:ext cx="7929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5436a"/>
                </a:solidFill>
                <a:latin typeface="Corbel"/>
              </a:rPr>
              <a:t>Занятия по методике дыхательной гимнастики Стрельниковой следует проводить в небольшом помещении, при открытой форточке, натощак или через 1–2 ч после ед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5436a"/>
                </a:solidFill>
                <a:latin typeface="Corbel"/>
              </a:rPr>
              <a:t>При выполнении произвольных движений следует стараться, чтобы мысли следовали за ощущениями. Необходимо освобождаться от всего, что сковывает движ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5436a"/>
                </a:solidFill>
                <a:latin typeface="Corbel"/>
              </a:rPr>
              <a:t> </a:t>
            </a:r>
            <a:r>
              <a:rPr b="1" i="1" lang="ru-RU" sz="2200" spc="-1" strike="noStrike">
                <a:solidFill>
                  <a:srgbClr val="35436a"/>
                </a:solidFill>
                <a:latin typeface="Corbel"/>
              </a:rPr>
              <a:t>В исходном положении нужно стоять прямо. Руки следует свободно опустить вдоль туловища, ноги поставить на расстоянии чуть меньше ширины плеч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5436a"/>
                </a:solidFill>
                <a:latin typeface="Corbel"/>
              </a:rPr>
              <a:t> </a:t>
            </a:r>
            <a:r>
              <a:rPr b="1" i="1" lang="ru-RU" sz="2200" spc="-1" strike="noStrike">
                <a:solidFill>
                  <a:srgbClr val="35436a"/>
                </a:solidFill>
                <a:latin typeface="Corbel"/>
              </a:rPr>
              <a:t>Вдохи должны быть короткими и мгновенными, «шмыгающими». Необходимо заставить ноздри смыкаться. При вдохах плечи должны не подниматься, а опускатьс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99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14280" y="571320"/>
            <a:ext cx="7444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Упражнения из дыхательной гимнастики А. Н. Стрельниковой выполняются в ритме песен, вальсов, который составляет 8, 16, 32 такт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Такой счет является наиболее физиологичным. Счет вдохов и движений рекомендуется проводить следующим образом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1–2–3–4–5–6–7–8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1–2–3–4–5–6-надцать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1–2–3–4–5–6–24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1–2–3–4–5–6–32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2" name="Рисунок 3" descr="Photo 077.gif"/>
          <p:cNvPicPr/>
          <p:nvPr/>
        </p:nvPicPr>
        <p:blipFill>
          <a:blip r:embed="rId1"/>
          <a:stretch/>
        </p:blipFill>
        <p:spPr>
          <a:xfrm flipH="1">
            <a:off x="4071600" y="4707000"/>
            <a:ext cx="4786200" cy="1508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87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713204"/>
                </a:solidFill>
                <a:latin typeface="Corbel"/>
              </a:rPr>
              <a:t>Важно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0004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5436a"/>
                </a:solidFill>
                <a:latin typeface="Corbel"/>
              </a:rPr>
              <a:t>При плохом самочувствии, слабости или обострении заболевания гимнастику необходимо делать сидя или лежа. Начинать выполнение упражнений можно с 2–8 вдохов-движений, отдыхая в перерывах между ними 1–3 с и более в зависимости от состояния организма. Чем хуже самочувствие, тем чаще следует повторять небольшое количество упражнений, увеличивая их по мере улучшения состояния и переходя к выполнению из положения лежа в положение сидя, из положения сидя в положение стоя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Рисунок 3" descr="Photo 035.gif"/>
          <p:cNvPicPr/>
          <p:nvPr/>
        </p:nvPicPr>
        <p:blipFill>
          <a:blip r:embed="rId1"/>
          <a:stretch/>
        </p:blipFill>
        <p:spPr>
          <a:xfrm rot="20369400">
            <a:off x="7701120" y="5216040"/>
            <a:ext cx="1223640" cy="14734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4280" y="571320"/>
            <a:ext cx="751536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713204"/>
                </a:solidFill>
                <a:latin typeface="Corbel"/>
              </a:rPr>
              <a:t>Методика провед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13920" y="1571760"/>
            <a:ext cx="7643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436a"/>
                </a:solidFill>
                <a:latin typeface="Corbel"/>
              </a:rPr>
              <a:t>Рекомендуется делать за один урок весь комплекс упражнений, но не несколько «сотен» одного упражнения. Заниматься следует утром и вечером по 30 мин. При плохом самочувствии можно делать гимнастику несколько раз в день, сократив время выполн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436a"/>
                </a:solidFill>
                <a:latin typeface="Corbel"/>
              </a:rPr>
              <a:t> </a:t>
            </a:r>
            <a:r>
              <a:rPr b="1" i="1" lang="ru-RU" sz="2000" spc="-1" strike="noStrike">
                <a:solidFill>
                  <a:srgbClr val="35436a"/>
                </a:solidFill>
                <a:latin typeface="Corbel"/>
              </a:rPr>
              <a:t>На одно занятие дыхательной гимнастикой должно уходить не более 30 мин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436a"/>
                </a:solidFill>
                <a:latin typeface="Corbel"/>
              </a:rPr>
              <a:t>Гимнастику следует делать 2 раза в день: утром и вечером за 30 мин до еды или через 1–1, 5 ч после ед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436a"/>
                </a:solidFill>
                <a:latin typeface="Corbel"/>
              </a:rPr>
              <a:t>При недостатке времени можно делать весь комплекс дыхательной гимнастики не по три «тридцатки» (одной «сотне»), а по одной (32 вдоха-движения) каждого упражнения. Начинать рекомендуется с упражнения «Ладошки» и заканчивать упражнением «Шаги». Общее время проведения гимнастики в таком случае составляет 6–7 мин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171360" cy="1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71680" y="1714680"/>
            <a:ext cx="81151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Динамические дыхательные упражнения не только улучшают работу дыхательной системы, но и способствуют оздоровлению всего организм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Рисунок 3" descr="796606407cb2d4efe937045b5298e54a.gif"/>
          <p:cNvPicPr/>
          <p:nvPr/>
        </p:nvPicPr>
        <p:blipFill>
          <a:blip r:embed="rId1"/>
          <a:stretch/>
        </p:blipFill>
        <p:spPr>
          <a:xfrm>
            <a:off x="7126200" y="4572000"/>
            <a:ext cx="1660680" cy="1919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74437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713204"/>
                </a:solidFill>
                <a:latin typeface="Corbel"/>
              </a:rPr>
              <a:t>Методика провед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285920" y="856800"/>
            <a:ext cx="7858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При выполнении упражнений считать мысленно только по 8. Если ритм сбивается, можно отдыхать 3–5 с после каждых 8 вдохов-движени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Возраст для занятий дыхательной гимнастикой Стрельниковой не ограничен. Упражнения можно выполнять как детям с 3–4 лет, так и пожилым людя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Курс лечения дыхательной гимнастикой обычно составляет около 1 месяца при ежедневном выполнении упражнени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При достижении результата при лечении какого-либо заболевания не рекомендуется бросать занятия гимнастикой, только в этом случае гарантирован как терапевтический, так и профилактический эффек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71760" y="1213920"/>
            <a:ext cx="721512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5436a"/>
                </a:solidFill>
                <a:latin typeface="Corbel"/>
              </a:rPr>
              <a:t>Основной комплекс дыхательных упражнений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5436a"/>
                </a:solidFill>
                <a:latin typeface="Corbel"/>
              </a:rPr>
              <a:t>Упражнение «Ладошки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2" name="Содержимое 3" descr="http://lib.rus.ec/i/45/180845/d025.png"/>
          <p:cNvPicPr/>
          <p:nvPr/>
        </p:nvPicPr>
        <p:blipFill>
          <a:blip r:embed="rId1"/>
          <a:stretch/>
        </p:blipFill>
        <p:spPr>
          <a:xfrm>
            <a:off x="1000080" y="2143080"/>
            <a:ext cx="2714760" cy="35006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3"/>
          <p:cNvSpPr/>
          <p:nvPr/>
        </p:nvSpPr>
        <p:spPr>
          <a:xfrm>
            <a:off x="3500280" y="1714680"/>
            <a:ext cx="485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Исходное положение: встать прямо, согнуть руки в локтях, локти при этом опущены вн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</a:rPr>
              <a:t>Ладони направлены к «зрителю». Делать шумные, короткие, ритмичные вдохи носом и одновременно сжимать ладони в кулаки, совершая хватательные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5436a"/>
                </a:solidFill>
                <a:latin typeface="Corbel"/>
              </a:rPr>
              <a:t>Упражнение «Погончики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5" name="Содержимое 3" descr="http://lib.rus.ec/i/45/180845/d011.png"/>
          <p:cNvPicPr/>
          <p:nvPr/>
        </p:nvPicPr>
        <p:blipFill>
          <a:blip r:embed="rId1"/>
          <a:stretch/>
        </p:blipFill>
        <p:spPr>
          <a:xfrm>
            <a:off x="928800" y="1857240"/>
            <a:ext cx="3286080" cy="414360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4"/>
          <p:cNvSpPr/>
          <p:nvPr/>
        </p:nvSpPr>
        <p:spPr>
          <a:xfrm>
            <a:off x="4143240" y="1166760"/>
            <a:ext cx="4714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Arial"/>
                <a:ea typeface="Times New Roman"/>
              </a:rPr>
              <a:t>Исходное положение: встать прямо, кисти рук сжать в кулаки и прижать к животу на уровне пояса. При вдохе резко толкать кулаки к полу, как бы отжимаясь от него. Во время толчка кулаки разжимаются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Arial"/>
                <a:ea typeface="Times New Roman"/>
              </a:rPr>
              <a:t>Плечи при этом должны быть напряжены, руки прямые, тянущиеся к полу, пальцы широко растопыр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13920" y="274680"/>
            <a:ext cx="747252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5436a"/>
                </a:solidFill>
                <a:latin typeface="Corbel"/>
              </a:rPr>
              <a:t>Упражнение «Насос»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TextBox 4"/>
          <p:cNvSpPr/>
          <p:nvPr/>
        </p:nvSpPr>
        <p:spPr>
          <a:xfrm>
            <a:off x="4000680" y="1857240"/>
            <a:ext cx="478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Arial"/>
              </a:rPr>
              <a:t>Исходное положение: встать прямо, руки опустить, ноги чуть уже ширины плеч. Слегка наклониться вниз к полу, округлив спину, голову опустить, шею не тянуть и не напрягать, руки опустить вниз. Сделать короткий шумный вдох в конечной точке накл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Содержимое 3" descr="http://lib.rus.ec/i/45/180845/d026.png"/>
          <p:cNvPicPr/>
          <p:nvPr/>
        </p:nvPicPr>
        <p:blipFill>
          <a:blip r:embed="rId1"/>
          <a:stretch/>
        </p:blipFill>
        <p:spPr>
          <a:xfrm>
            <a:off x="357120" y="2286000"/>
            <a:ext cx="357192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13920" y="274680"/>
            <a:ext cx="747252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5436a"/>
                </a:solidFill>
                <a:latin typeface="Corbel"/>
              </a:rPr>
              <a:t>Упражнение «Кошка»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2" name="Содержимое 3" descr="http://lib.rus.ec/i/45/180845/d024.png"/>
          <p:cNvPicPr/>
          <p:nvPr/>
        </p:nvPicPr>
        <p:blipFill>
          <a:blip r:embed="rId1"/>
          <a:stretch/>
        </p:blipFill>
        <p:spPr>
          <a:xfrm>
            <a:off x="500040" y="1785960"/>
            <a:ext cx="2571840" cy="42148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4"/>
          <p:cNvSpPr/>
          <p:nvPr/>
        </p:nvSpPr>
        <p:spPr>
          <a:xfrm>
            <a:off x="3714840" y="1870560"/>
            <a:ext cx="45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Arial"/>
                <a:ea typeface="Times New Roman"/>
              </a:rPr>
              <a:t>Исходное положение: встать прямо, руки опустить, ноги чуть уже ширины плеч. При выполнении упражнения необходимо следить за тем, чтобы ступни ног не отрывались от п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5436a"/>
                </a:solidFill>
                <a:latin typeface="Corbel"/>
              </a:rPr>
              <a:t>Упражнение «Обхвати плечи»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5" name="Содержимое 3" descr="http://lib.rus.ec/i/45/180845/d023.png"/>
          <p:cNvPicPr/>
          <p:nvPr/>
        </p:nvPicPr>
        <p:blipFill>
          <a:blip r:embed="rId1"/>
          <a:stretch/>
        </p:blipFill>
        <p:spPr>
          <a:xfrm>
            <a:off x="0" y="1857240"/>
            <a:ext cx="4000680" cy="43578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3"/>
          <p:cNvSpPr/>
          <p:nvPr/>
        </p:nvSpPr>
        <p:spPr>
          <a:xfrm>
            <a:off x="4286160" y="1643040"/>
            <a:ext cx="450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Arial"/>
              </a:rPr>
              <a:t>Исходное положение: встать прямо, руки согнуть в локтях и поднять на уровень плеч кистями друг к другу. В момент активного шумного вдоха носом выбросить руки навстречу друг к другу, как бы обнимая себя за плечи. Необходимо, чтобы руки двигались параллельно, а не крест-накре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5436a"/>
                </a:solidFill>
                <a:latin typeface="Corbel"/>
              </a:rPr>
              <a:t>Упражнение «Большой маятник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8" name="Содержимое 3" descr="http://lib.rus.ec/i/45/180845/d022.png"/>
          <p:cNvPicPr/>
          <p:nvPr/>
        </p:nvPicPr>
        <p:blipFill>
          <a:blip r:embed="rId1"/>
          <a:stretch/>
        </p:blipFill>
        <p:spPr>
          <a:xfrm>
            <a:off x="571680" y="2071800"/>
            <a:ext cx="4500360" cy="378612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3"/>
          <p:cNvSpPr/>
          <p:nvPr/>
        </p:nvSpPr>
        <p:spPr>
          <a:xfrm>
            <a:off x="4857840" y="2286000"/>
            <a:ext cx="400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Arial"/>
              </a:rPr>
              <a:t>Исходное положение: встать прямо, ноги чуть уже ширины плеч. Слегка наклониться к полу, руки при этом тянуть к коленям, но не опускать ниже – вдо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57200" y="285480"/>
            <a:ext cx="74296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5436a"/>
                </a:solidFill>
                <a:latin typeface="Corbel"/>
              </a:rPr>
              <a:t>Упражнение</a:t>
            </a:r>
            <a:br>
              <a:rPr sz="3900"/>
            </a:br>
            <a:r>
              <a:rPr b="1" i="1" lang="ru-RU" sz="3900" spc="-1" strike="noStrike">
                <a:solidFill>
                  <a:srgbClr val="35436a"/>
                </a:solidFill>
                <a:latin typeface="Corbel"/>
              </a:rPr>
              <a:t> «Повороты головы»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1" name="Содержимое 3" descr="http://lib.rus.ec/i/45/180845/d012.png"/>
          <p:cNvPicPr/>
          <p:nvPr/>
        </p:nvPicPr>
        <p:blipFill>
          <a:blip r:embed="rId1"/>
          <a:stretch/>
        </p:blipFill>
        <p:spPr>
          <a:xfrm>
            <a:off x="571680" y="1413000"/>
            <a:ext cx="2143080" cy="52560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643200" y="1552320"/>
            <a:ext cx="5143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Arial"/>
                <a:ea typeface="Calibri"/>
              </a:rPr>
              <a:t>Исходное положение: встать прямо, ноги чуть уже ширины плеч. Повернуть голову вправо и сделать короткий шумный вдох носом. Затем сразу же повернуть голову влево, опять сделать короткий шумный вдох. При выполнении упражнения посередине голову не останавливать, шею не напрягать, вдох делать корот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5436a"/>
                </a:solidFill>
                <a:latin typeface="Corbel"/>
              </a:rPr>
              <a:t>Упражнение «Ушки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5" name="Содержимое 3" descr="http://lib.rus.ec/i/45/180845/d013.png"/>
          <p:cNvPicPr/>
          <p:nvPr/>
        </p:nvPicPr>
        <p:blipFill>
          <a:blip r:embed="rId1"/>
          <a:stretch/>
        </p:blipFill>
        <p:spPr>
          <a:xfrm>
            <a:off x="571680" y="1197000"/>
            <a:ext cx="2071440" cy="511344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3643200" y="1806480"/>
            <a:ext cx="4714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  <a:ea typeface="Calibri"/>
              </a:rPr>
              <a:t>Исходное положение: </a:t>
            </a:r>
            <a:r>
              <a:rPr b="1" i="1" lang="ru-RU" sz="2400" spc="-1" strike="noStrike">
                <a:solidFill>
                  <a:srgbClr val="35436a"/>
                </a:solidFill>
                <a:latin typeface="Arial"/>
                <a:ea typeface="Calibri"/>
              </a:rPr>
              <a:t>встать прямо, ноги чуть уже ширины плеч. Слегка наклонить голову вправо – правое ухо идет к правому плечу, сделать короткий шумный вдох носом. Затем слегка наклонить голову влево, левое ухо идет к левому плечу, опять сделать короткий шумный вдох н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360" y="42840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11617"/>
                </a:solidFill>
                <a:latin typeface="Corbel"/>
              </a:rPr>
              <a:t>Влияние дыхательной гимнастики на организм человека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Выполнение дыхательной гимнастики имеет 2 главные цели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5436a"/>
                </a:solidFill>
                <a:latin typeface="Corbel"/>
              </a:rPr>
              <a:t>оказать направленное воздействие на дыхательный аппарат, увеличить его функциональные резерв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5436a"/>
                </a:solidFill>
                <a:latin typeface="Corbel"/>
              </a:rPr>
              <a:t>вызвать изменения в различных органах и функциональных системах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Рисунок 3" descr="Candy_Kid_with_gum_prv.gif"/>
          <p:cNvPicPr/>
          <p:nvPr/>
        </p:nvPicPr>
        <p:blipFill>
          <a:blip r:embed="rId1"/>
          <a:stretch/>
        </p:blipFill>
        <p:spPr>
          <a:xfrm>
            <a:off x="7093080" y="4581360"/>
            <a:ext cx="1519200" cy="1741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142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5436a"/>
                </a:solidFill>
                <a:latin typeface="Corbel"/>
              </a:rPr>
              <a:t>Упражнение «Перекаты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»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9" name="Содержимое 3" descr="http://lib.rus.ec/i/45/180845/d018.png"/>
          <p:cNvPicPr/>
          <p:nvPr/>
        </p:nvPicPr>
        <p:blipFill>
          <a:blip r:embed="rId1"/>
          <a:stretch/>
        </p:blipFill>
        <p:spPr>
          <a:xfrm>
            <a:off x="428760" y="2143080"/>
            <a:ext cx="3214440" cy="407196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3"/>
          <p:cNvSpPr/>
          <p:nvPr/>
        </p:nvSpPr>
        <p:spPr>
          <a:xfrm>
            <a:off x="3500280" y="1928880"/>
            <a:ext cx="5286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436a"/>
                </a:solidFill>
                <a:latin typeface="Arial"/>
              </a:rPr>
              <a:t>Исходное положение: встать таким образом, чтобы правая нога была впереди, а левая – на расстоянии одного шага сзади. Тяжесть тела распределить на обе ноги. Перенести тяжесть тела на стоящую впереди правую ногу, левая при этом согнута в колене и отставлена назад на носок для равновесия (на нее не опираться). Выполнить легкое танцевальное приседание на правой ноге – шумный короткий вдох. Затем правое колено выпрямить и перенести тяжесть тела на стоящую сзади левую но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5436a"/>
                </a:solidFill>
                <a:latin typeface="Corbel"/>
              </a:rPr>
              <a:t>Упражнение «Передний шаг»</a:t>
            </a:r>
            <a:br>
              <a:rPr sz="3600"/>
            </a:br>
            <a:r>
              <a:rPr b="1" i="1" lang="ru-RU" sz="3600" spc="-1" strike="noStrike">
                <a:solidFill>
                  <a:srgbClr val="35436a"/>
                </a:solidFill>
                <a:latin typeface="Corbel"/>
              </a:rPr>
              <a:t> (рок-н-ролл)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2" name="Содержимое 3" descr="http://lib.rus.ec/i/45/180845/d019.png"/>
          <p:cNvPicPr/>
          <p:nvPr/>
        </p:nvPicPr>
        <p:blipFill>
          <a:blip r:embed="rId1"/>
          <a:stretch/>
        </p:blipFill>
        <p:spPr>
          <a:xfrm>
            <a:off x="428760" y="2143080"/>
            <a:ext cx="2857320" cy="44290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3214800" y="2015640"/>
            <a:ext cx="535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  <a:ea typeface="Calibri"/>
              </a:rPr>
              <a:t>Исходное положение: встать прямо, ноги чуть уже ширины плеч, руки опущены вдоль тела. Поднять вверх на уровень живота согнутую в колене правую ногу, на левой ноге в этот момент сделать легкое танцевальное приседание – короткий шумный вдох н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5436a"/>
                </a:solidFill>
                <a:latin typeface="Corbel"/>
              </a:rPr>
              <a:t>Упражнение «Задний шаг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»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6" name="Содержимое 3" descr="http://lib.rus.ec/i/45/180845/d020.png"/>
          <p:cNvPicPr/>
          <p:nvPr/>
        </p:nvPicPr>
        <p:blipFill>
          <a:blip r:embed="rId1"/>
          <a:stretch/>
        </p:blipFill>
        <p:spPr>
          <a:xfrm>
            <a:off x="785880" y="1857240"/>
            <a:ext cx="2714400" cy="428652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4"/>
          <p:cNvSpPr/>
          <p:nvPr/>
        </p:nvSpPr>
        <p:spPr>
          <a:xfrm>
            <a:off x="3286080" y="1735200"/>
            <a:ext cx="5572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436a"/>
                </a:solidFill>
                <a:latin typeface="Corbel"/>
                <a:ea typeface="Calibri"/>
              </a:rPr>
              <a:t>Исходное положение: встать прямо, ноги чуть уже ширины плеч. Отвести согнутую в колене правую ногу назад, как бы ударяя себя пяткой по ягодице. На левой ноге в этот момент слегка присесть, одновременно шумно вдыхая носом. Затем обе ноги на одно мгновение вернуть в исходное положение – выдох уходит сразу же после каждого вдо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472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5436a"/>
                </a:solidFill>
                <a:latin typeface="Corbel"/>
              </a:rPr>
              <a:t>Список использованной литератур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143000" y="1857240"/>
            <a:ext cx="758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898c3"/>
                </a:solidFill>
                <a:latin typeface="Corbel"/>
              </a:rPr>
              <a:t> </a:t>
            </a:r>
            <a:r>
              <a:rPr b="1" i="1" lang="ru-RU" sz="3200" spc="-1" strike="noStrike">
                <a:solidFill>
                  <a:srgbClr val="35436a"/>
                </a:solidFill>
                <a:latin typeface="Corbel"/>
              </a:rPr>
              <a:t>Бойко Е.А. Энциклопедия дыхательной гимнастики</a:t>
            </a:r>
            <a:r>
              <a:rPr b="1" lang="ru-RU" sz="3200" spc="-1" strike="noStrike">
                <a:solidFill>
                  <a:srgbClr val="35436a"/>
                </a:solidFill>
                <a:latin typeface="Corbel"/>
              </a:rPr>
              <a:t>. –2007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36a"/>
                </a:solidFill>
                <a:latin typeface="Corbel"/>
              </a:rPr>
              <a:t>Дыхательная гимнастика А.Н. Стрельникова.- 2007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0" name="Рисунок 3" descr="MOI20.gif"/>
          <p:cNvPicPr/>
          <p:nvPr/>
        </p:nvPicPr>
        <p:blipFill>
          <a:blip r:embed="rId1"/>
          <a:stretch/>
        </p:blipFill>
        <p:spPr>
          <a:xfrm>
            <a:off x="6357960" y="3857760"/>
            <a:ext cx="2452680" cy="2409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99760" y="2785680"/>
            <a:ext cx="730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5436a"/>
                </a:solidFill>
                <a:latin typeface="Corbel"/>
              </a:rPr>
              <a:t>Спасибо за внимание!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713204"/>
                </a:solidFill>
                <a:latin typeface="Corbel"/>
              </a:rPr>
              <a:t>Различные комплексы дыхательной гимнастики состоят из следующих компонентов:</a:t>
            </a:r>
            <a:br>
              <a:rPr sz="3900"/>
            </a:br>
            <a:endParaRPr b="0" lang="en-US" sz="27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71720" y="1856880"/>
            <a:ext cx="76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частота и глубина дыха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ритмические характеристики в связи с разными соотношениями временной продолжительности вдоха, выдоха и дыхательной пауз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грудное и диафрагмальное дыхани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направление вдыхаемого воздуха через нос или рот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искусственное сопротивление воздушному поток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Рисунок 3" descr="Photo 002.gif"/>
          <p:cNvPicPr/>
          <p:nvPr/>
        </p:nvPicPr>
        <p:blipFill>
          <a:blip r:embed="rId1"/>
          <a:stretch/>
        </p:blipFill>
        <p:spPr>
          <a:xfrm>
            <a:off x="6948360" y="620640"/>
            <a:ext cx="2071800" cy="19479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2640" y="571320"/>
            <a:ext cx="74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13204"/>
                </a:solidFill>
                <a:latin typeface="Corbel"/>
              </a:rPr>
              <a:t>Основные группы </a:t>
            </a:r>
            <a:br>
              <a:rPr sz="3200"/>
            </a:br>
            <a:r>
              <a:rPr b="1" i="1" lang="ru-RU" sz="3200" spc="-1" strike="noStrike">
                <a:solidFill>
                  <a:srgbClr val="713204"/>
                </a:solidFill>
                <a:latin typeface="Corbel"/>
              </a:rPr>
              <a:t>дыхательных упражнений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43000" y="1857240"/>
            <a:ext cx="758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формирование рационального дыха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увеличение резервных возможностей дыхательного аппарат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сопряженное влияние на функцию внутренних органов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нормализация психического состоя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влияние на функцию двигательного аппарат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влияние на речевую деятельност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Рисунок 3" descr="Photo 083.gif"/>
          <p:cNvPicPr/>
          <p:nvPr/>
        </p:nvPicPr>
        <p:blipFill>
          <a:blip r:embed="rId1"/>
          <a:stretch/>
        </p:blipFill>
        <p:spPr>
          <a:xfrm>
            <a:off x="7459560" y="4500720"/>
            <a:ext cx="1684440" cy="207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71360" y="428400"/>
            <a:ext cx="7515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13204"/>
                </a:solidFill>
                <a:latin typeface="Corbel"/>
              </a:rPr>
              <a:t>Дыхательная гимнастика </a:t>
            </a:r>
            <a:br>
              <a:rPr sz="4400"/>
            </a:br>
            <a:r>
              <a:rPr b="1" i="1" lang="ru-RU" sz="4400" spc="-1" strike="noStrike">
                <a:solidFill>
                  <a:srgbClr val="713204"/>
                </a:solidFill>
                <a:latin typeface="Corbel"/>
              </a:rPr>
              <a:t>А. Н. Стрельниковой</a:t>
            </a:r>
            <a:br>
              <a:rPr sz="3200"/>
            </a:b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914400" y="2133360"/>
            <a:ext cx="822960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436a"/>
                </a:solidFill>
                <a:latin typeface="Corbel"/>
              </a:rPr>
              <a:t>Это одна из наиболее популярных методик оздоровления организм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436a"/>
                </a:solidFill>
                <a:latin typeface="Corbel"/>
              </a:rPr>
              <a:t>Ее особенностью и важным преимуществом являетс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436a"/>
                </a:solidFill>
                <a:latin typeface="Corbel"/>
              </a:rPr>
              <a:t>использование форсированного вдох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436a"/>
                </a:solidFill>
                <a:latin typeface="Corbel"/>
              </a:rPr>
              <a:t>и вовлечение самой мощно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436a"/>
                </a:solidFill>
                <a:latin typeface="Corbel"/>
              </a:rPr>
              <a:t>дыхательной мышцы – диафрагм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85560" y="78552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713204"/>
                </a:solidFill>
                <a:latin typeface="Corbel"/>
              </a:rPr>
              <a:t>Воздействие на организм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43000" y="1785600"/>
            <a:ext cx="75866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Основной задачей дыхательной гимнастики Стрельниковой является нарушение альвеолярного барьера для усиления обмена газов в легочных альвеолах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436a"/>
                </a:solidFill>
                <a:latin typeface="Corbel"/>
              </a:rPr>
              <a:t>Такая гимнастика тренирует всю дыхательную систему, прежде всего легочную ткань, диафрагму, мышцы гортани и носоглотки</a:t>
            </a:r>
            <a:r>
              <a:rPr b="1" i="1" lang="ru-RU" sz="2800" spc="-1" strike="noStrike">
                <a:solidFill>
                  <a:srgbClr val="8898c3"/>
                </a:solidFill>
                <a:latin typeface="Corbe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Рисунок 3" descr="i234820819_71300_5.gif"/>
          <p:cNvPicPr/>
          <p:nvPr/>
        </p:nvPicPr>
        <p:blipFill>
          <a:blip r:embed="rId1"/>
          <a:stretch/>
        </p:blipFill>
        <p:spPr>
          <a:xfrm rot="20818800">
            <a:off x="552600" y="4774680"/>
            <a:ext cx="1233360" cy="1968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778644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713204"/>
                </a:solidFill>
                <a:latin typeface="Corbel"/>
              </a:rPr>
              <a:t>Дыхательная гимнастика, разработанная А. Н. Стрельниковой, способствует: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142640" y="1714320"/>
            <a:ext cx="8001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36a"/>
                </a:solidFill>
                <a:latin typeface="Corbel"/>
              </a:rPr>
              <a:t>повышению двигательной активности, подвижности тел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36a"/>
                </a:solidFill>
                <a:latin typeface="Corbel"/>
              </a:rPr>
              <a:t>– </a:t>
            </a:r>
            <a:r>
              <a:rPr b="1" lang="ru-RU" sz="2400" spc="-1" strike="noStrike">
                <a:solidFill>
                  <a:srgbClr val="35436a"/>
                </a:solidFill>
                <a:latin typeface="Corbel"/>
              </a:rPr>
              <a:t>ликвидации венозного полнокровия в органах грудной и брюшной полосте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36a"/>
                </a:solidFill>
                <a:latin typeface="Corbel"/>
              </a:rPr>
              <a:t>– </a:t>
            </a:r>
            <a:r>
              <a:rPr b="1" lang="ru-RU" sz="2400" spc="-1" strike="noStrike">
                <a:solidFill>
                  <a:srgbClr val="35436a"/>
                </a:solidFill>
                <a:latin typeface="Corbel"/>
              </a:rPr>
              <a:t>обеспечению вентиляции легких с одновременным массирующим действием мускулатуры органов брюшной пол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36a"/>
                </a:solidFill>
                <a:latin typeface="Corbel"/>
              </a:rPr>
              <a:t>– </a:t>
            </a:r>
            <a:r>
              <a:rPr b="1" lang="ru-RU" sz="2400" spc="-1" strike="noStrike">
                <a:solidFill>
                  <a:srgbClr val="35436a"/>
                </a:solidFill>
                <a:latin typeface="Corbel"/>
              </a:rPr>
              <a:t>тренировке и стимуляции отдельных мышц и их групп, необходимых для сужения проходов в различных органах и системах – дыхательной, мочевыделительной, пищеварительной, половых органах, кровеносных и лимфатических сосудах, органах зр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56840" y="856800"/>
            <a:ext cx="6543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713204"/>
                </a:solidFill>
                <a:latin typeface="Corbel"/>
              </a:rPr>
              <a:t>Показания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214280" y="1499760"/>
            <a:ext cx="7444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5436a"/>
                </a:solidFill>
                <a:latin typeface="Corbel"/>
              </a:rPr>
              <a:t>усталость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5436a"/>
                </a:solidFill>
                <a:latin typeface="Corbel"/>
              </a:rPr>
              <a:t>депрессия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5436a"/>
                </a:solidFill>
                <a:latin typeface="Corbel"/>
              </a:rPr>
              <a:t>различные формы невроза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5436a"/>
                </a:solidFill>
                <a:latin typeface="Corbel"/>
              </a:rPr>
              <a:t>воспаление легких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5436a"/>
                </a:solidFill>
                <a:latin typeface="Corbel"/>
              </a:rPr>
              <a:t>бронхит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5436a"/>
                </a:solidFill>
                <a:latin typeface="Corbel"/>
              </a:rPr>
              <a:t>различные формы туберкулеза легких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5436a"/>
                </a:solidFill>
                <a:latin typeface="Corbel"/>
              </a:rPr>
              <a:t>бронхиальная астма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5436a"/>
                </a:solidFill>
                <a:latin typeface="Corbel"/>
              </a:rPr>
              <a:t>дыхательная недостаточность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5436a"/>
                </a:solidFill>
                <a:latin typeface="Corbel"/>
              </a:rPr>
              <a:t>сердечная недостаточность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5436a"/>
                </a:solidFill>
                <a:latin typeface="Corbel"/>
              </a:rPr>
              <a:t>гипертоническая болезнь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Рисунок 4" descr="Photo 018.gif"/>
          <p:cNvPicPr/>
          <p:nvPr/>
        </p:nvPicPr>
        <p:blipFill>
          <a:blip r:embed="rId1"/>
          <a:stretch/>
        </p:blipFill>
        <p:spPr>
          <a:xfrm rot="814800">
            <a:off x="6784560" y="2341080"/>
            <a:ext cx="1559160" cy="1716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0:41:19Z</dcterms:created>
  <dc:creator>МАРУСЯ</dc:creator>
  <dc:description/>
  <dc:language>en-US</dc:language>
  <cp:lastModifiedBy>User</cp:lastModifiedBy>
  <dcterms:modified xsi:type="dcterms:W3CDTF">2022-11-06T13:25:23Z</dcterms:modified>
  <cp:revision>23</cp:revision>
  <dc:subject/>
  <dc:title>Парадоксальная дыхательная гимнастика А. Н. Стрельниковой</dc:title>
</cp:coreProperties>
</file>