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FE32-3982-4A2C-A9F6-D7D2C67E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D507-3ABC-4192-9995-22D43662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8C065-E726-41A4-B2C4-E6AF254B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C5767-2689-463A-BF5E-0DD8EA87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2C0C6-31EB-476F-BF9D-62ABF88F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C0004-22E1-4D7D-A6E5-6FB6270F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D94A7-CDE9-4E26-B35C-59B9978F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ACFEB-670D-4001-962A-DB9FF045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444BB-B7F7-476B-89CE-C86F43E9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12E28-6972-424B-97D8-7B6B3818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B4E9A-EA47-4C69-9662-87018AB9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C8878-E139-48D8-8423-8BACAB0F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495-600C-4EE1-ADC4-58B561EF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C270F-82F6-4207-83DE-C6585BCF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E8DEE-5BEF-401A-BC8C-B8F05516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D2294-99C1-432A-8118-26ECA291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014A7-89FD-41DA-B35B-AA17B0BF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7C101-58CA-4645-94A0-5876A9AA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06C39-CF41-4C1F-9918-0B1669B3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4DAC8-1278-4643-A12C-07324C1D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7B3B1-57AA-4603-A8BC-20100085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49F37-2A29-4EAA-820F-BF2C41F3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276A0-0093-487B-A0A6-C35DDAD5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D28A-6731-4076-AE1B-747C2D55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B106A-D034-4950-A8F8-C217CFBD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FAD7B-EC4A-4450-A0B8-41D9BE87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2D261-4BF3-485F-A2EC-6A720182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94E33-9875-4F7E-93BD-5AA907A4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FD58F-578F-4848-8D91-CDE032BE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45075-52F6-45EF-93E0-F9041ADA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22C25-139D-4600-9707-9564F6E7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97A62-04DD-435F-A2BF-6C632E41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137DA-2CCF-4352-86AC-013F5CCF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846C9-2671-4AF2-9955-A465E368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1AB0-CC90-4D9D-8797-931CB818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B0A68-47E9-43E8-AD31-5D0493A2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CC80E-B5D7-4CF8-9DC3-E1A9AA43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CB6CC-D2E2-44C7-B21D-C8ED281B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1CF23-5972-4ED1-A261-311B4F57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C548F-55B1-401E-8D58-17B6F6CF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3A1D3-1CB1-42DC-A9C8-31789620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79E5E-D11E-4136-8BBC-57EAC46F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E4501-316B-430A-B6A8-6C7A0C04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24855-7B7C-4AB7-8888-7250BE6D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DB1F8-3E03-468A-B0D4-BEFB1CB0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50C8-B1B5-4A1B-8B67-CDAEA4B0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11C92-0EE6-4BED-9D3A-791ABF66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67852-F1D6-43F9-8A6D-3D888B91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0E416-B899-44C6-8176-FEF2DE13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E7637-27FA-4118-B49B-28BDDABC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A5387-4E01-46BC-90C7-ECC1D449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E36F-A738-497C-A012-CEA3E9BD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7B78-D078-4174-A24A-7102578F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9568-CCC2-4359-AAAA-5CBCAD11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86D1-B043-4590-96A4-53AE076D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6F20-8F5B-44C3-A24B-CE2F238C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007-F17D-4A0E-A2EC-7A7DB054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0038-3826-46E2-A14A-96444CE5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2F94-3B6B-46C2-A4EA-8FAFDC18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68A7-B3D3-4279-8011-E426C519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B26C-8DA4-48F7-AC87-2F0BD590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E54D-7191-4C34-B912-72F38307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172E8-13A7-4242-8948-1ED9E064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A1DD7-D10C-404C-B77B-42C84F33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12DB9-0C73-4C01-A293-6C2F4A81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08055-E5EC-43C2-A02C-B75F6894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CE2BE-46BF-49B3-8358-BC44237C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BBB-0D0D-4E8B-8740-FDABA5A2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57712-9B7D-4BCC-906E-81439AD5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EBA7D-968D-43D5-861A-70002DAC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30742-8AB4-4F8B-9C72-C6E9C7EB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5F8F2-5C78-495D-8912-8B0AF75C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8E1DA-E8CB-4069-928F-6EC1ECCF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9A5F2-88D9-4213-A8E1-36F8D693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2FFC9-7166-42D6-B2F2-1A7F494F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55EA4-84D4-41CE-9E40-5432DD08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46F58-22ED-4F31-A36C-226512BB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86263-AB27-47B9-8307-DA7BDEA0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97A1-40FC-4C1A-ADF1-4669677C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540BE-CF6C-42C4-8151-154356CD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0AFA8-D35D-4D6F-B852-F8AD2960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DD164-6DB4-4570-A83C-ADA07897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4499B-8BCD-4DE2-861B-AF6BE5D0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677E2-9A0C-4E4F-B13A-5381C0A9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1057D-926F-48ED-B544-5F55FBDB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F0326-904E-44D1-9040-0AC5E004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0D541-479B-46B7-AB9D-CFA3C8E3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B1153-9CB8-4AE8-A3B8-F2F19FA6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B9022-A20D-4F73-83EF-1DFA4FB4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5BA-490B-4471-AACB-0BC1C54D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06E15-5404-4BBD-BF6E-57E04D19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159D6-C66D-4C11-98B5-EFD64CCC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F57DC-9285-4BAA-8C0D-972F55F8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729BB-CB03-4BF3-ABEB-C1DA03FD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D8A6D-0566-42B6-97AB-2B5ADB81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99C10-F815-4A29-B2B2-C71B424E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3F489-2151-466E-9551-19B4A067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2C631-DAAB-4AB5-99A1-99D2A4B6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CD453-2039-47A3-B85F-DFAB9986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8129A-C90A-479E-A1AD-8F695156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0EED-FBAA-4418-89CC-146C4CB2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58A00-BDED-4B2F-B254-AD62292D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A3832-3BA5-447B-B17C-FAB49230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D4405-DC64-48C1-B6D2-060075E4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CA140-44DC-4150-B55D-9948CAD6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74F94-FCF6-43FE-BEC1-8F8E1831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F2E28-9E05-40F2-BD0F-C94E4359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18014-7DB2-4375-97D8-48149FC8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76B3D-2753-4ABC-A430-1473A793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E7A0E-5F53-4754-8DBF-091730C0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DCE0C-407C-41A2-B7A0-7BE54F43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E20-5BA8-4334-B39A-4AF273DE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6F856-37F0-4629-8CF6-58A37FB5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1B61F-B538-4522-9144-0535198C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4999F-9E9E-4657-9CA9-58A53306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370BF-FFCB-4A8D-9C2C-9A5FBC36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8F26F-B185-4CE4-AF4E-5D62CA39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8E364-A38E-492E-B5D0-28CAAD6D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214EA-FFDD-45AA-A4DF-55141075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F150B-9BF9-401F-A0B5-1E347B7F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45F61-B861-44C9-A9A9-E9AC0EFF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03D58-AE08-4CCA-BFCA-6E49E54E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B67D-CE5C-445C-B8A7-43F1B041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8DF22-6D7A-4B8D-935A-5C697DCA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A64AC-D949-4DBD-B45E-1F29FC18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50A1E-1357-4ACE-94F5-1D28CB1A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73293-D6D3-48C1-8882-185C1A6F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03CF5-2A15-4CB4-9246-4370231F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68A9C-E9B1-4691-ADC6-DE7CF392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EA80F-F909-4641-B098-F0C38A96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43F05-F99D-4A78-ADEA-491043CD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3B7E5-9B7B-460F-B9E6-C16AEA6F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8A7E1-8A4C-4DBC-A1F5-E19F3D08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D2F1-3668-4D1C-9219-815A3850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7432F-ABD8-41FD-B529-5AEC7B4E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64865-0D2E-4451-8B49-859685B5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0C8C5-1E59-4420-8EE8-2FE951D7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03E4E-91AD-4536-9BAE-5ACE72BC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0E069-42DF-4EC0-9F7A-6B4386FC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9DCAF-D0FF-4128-8541-6EAFE713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8831C-AE76-43E6-9E6C-9A5A1EE8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70BEE-5069-4E20-A125-3C8679DA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F1D29-3029-472C-B60E-2C4C59DB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1CD4A-1907-4861-8DB1-5989AB07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5973-823C-4B80-B2D8-D3ED0734A5F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3D9D-7369-4D59-9B1D-3EE3342711C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F6E6-4F50-4300-8DC3-5D91FE351DE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E180-120A-4B12-99BF-A73F82FDE00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BB2E-2EA9-407B-8FFA-AE30B339453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11B2-C136-4C8E-9F13-C98B5E26060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1C84-DF51-4433-BA6A-A2158A0E83C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58B8-87CC-480E-8FA3-FBB3C6252CF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37DF-D968-4F54-B702-2A1565586AC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AFBB-271A-439E-A112-E02F544DC1F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FD21-FC8D-495F-B63D-CFDBFF13C54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A504-7D7C-491D-A7A3-829A6A1FEBD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0920" y="12600"/>
            <a:ext cx="765180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orbel"/>
              </a:rPr>
              <a:t>Основные </a:t>
            </a:r>
            <a:br>
              <a:rPr sz="5000"/>
            </a:br>
            <a:r>
              <a:rPr b="1" lang="ru-RU" sz="5000" spc="-1" strike="noStrike">
                <a:solidFill>
                  <a:srgbClr val="000000"/>
                </a:solidFill>
                <a:latin typeface="Corbel"/>
              </a:rPr>
              <a:t>инфекционные болезни, их классификация и профилактика</a:t>
            </a:r>
            <a:endParaRPr b="0" lang="en-US" sz="5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0" y="3500280"/>
            <a:ext cx="4354560" cy="3329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" descr=""/>
          <p:cNvPicPr/>
          <p:nvPr/>
        </p:nvPicPr>
        <p:blipFill>
          <a:blip r:embed="rId2"/>
          <a:stretch/>
        </p:blipFill>
        <p:spPr>
          <a:xfrm>
            <a:off x="4394160" y="3500280"/>
            <a:ext cx="474984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6"/>
          <p:cNvSpPr/>
          <p:nvPr/>
        </p:nvSpPr>
        <p:spPr>
          <a:xfrm>
            <a:off x="1015920" y="189000"/>
            <a:ext cx="8145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приятия в отношении источника инфек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826920" y="1420920"/>
            <a:ext cx="814572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зинфекция</a:t>
            </a:r>
            <a:r>
              <a:rPr b="0" lang="ru-RU" sz="36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 – комплекс мер по уничтожению возбудителей инфекционных болез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зинсекция</a:t>
            </a:r>
            <a:r>
              <a:rPr b="0" lang="ru-RU" sz="36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 – комплекс мер по уничтожению насекомых, членистоногих (переносчиков: комаров, мух, блох, вшей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ратизация</a:t>
            </a:r>
            <a:r>
              <a:rPr b="0" lang="ru-RU" sz="36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 – комплекс мер по борьбе с грызун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1042560" y="115560"/>
            <a:ext cx="7993080" cy="626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приятия, направленные на пресечение путей распространения инфекции и на предотвращение расширения границ очага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сервация</a:t>
            </a:r>
            <a:r>
              <a:rPr b="0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– специально организованное медицинское наблюдение за населением в очаге инфекции, включающее ряд мероприятий, направленных на своевременное выявление и изоляцию заболевших в целях предупреждения распространения эпидемии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антин</a:t>
            </a:r>
            <a:r>
              <a:rPr b="0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– это система наиболее строгих изоляционно-ограничительных противоэпидемических мероприятий, проводимых для предупреждения распространения инфекционных заболеваний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7058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приятия изменяющие, восприимчивость организма к инфекции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187280" y="1916280"/>
            <a:ext cx="74995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Иммунитет</a:t>
            </a:r>
            <a:r>
              <a:rPr b="0" lang="ru-RU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— невосприимчивость, сопротивляемость организма к инфекциям и инвазиям чужеродных организмов (в том числе — болезнетворных микроорганизмов), а также воздействию чужеродных веществ, обладающих антигенными свойствами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1116000" y="0"/>
            <a:ext cx="7848720" cy="6308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Иммуните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пецифический иммунитет подразделяется на </a:t>
            </a:r>
            <a:r>
              <a:rPr b="0" i="1" lang="ru-RU" sz="2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рожденный (видовой) и приобретенный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ожденный иммунитет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сущ человеку от рождения, наследуется от родителей. Иммунные вещества через плаценту проникают от матери к плоду. Частным случаем врожденного иммунитета можно считать иммунитет, получаемый новорожденным с материнским молоком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обретенный иммунитет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озникает (приобретается) в процессе жизни и подразделяется на естественный и искусственный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002960" y="259920"/>
            <a:ext cx="8032680" cy="6597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стественный приобретенный иммунитет</a:t>
            </a:r>
            <a:r>
              <a:rPr b="1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озникает после перенесённого инфекционного заболеван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скусственный иммунитет</a:t>
            </a:r>
            <a:r>
              <a:rPr b="1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ырабатывается путем специальных медицинских мероприятий, и он может быть активными пассивным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ктивный искусственный иммунитет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озникает в результате предохранительных прививо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ассивный искусственный иммунитет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озникает в результате введения в организм сыворотки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онные болезни </a:t>
            </a:r>
            <a:r>
              <a:rPr b="0" lang="ru-RU" sz="43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– это группа болезней, которые вызываются специфическими возбудителями: болезнетворными бактериями, вирусами, простейшими грибками, спирохетами, стафилококками и др</a:t>
            </a:r>
            <a:r>
              <a:rPr b="0" lang="ru-RU" sz="4300" spc="-1" strike="noStrike">
                <a:solidFill>
                  <a:srgbClr val="ffc000"/>
                </a:solidFill>
                <a:latin typeface="Corbel"/>
              </a:rPr>
              <a:t>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42560" y="73080"/>
            <a:ext cx="79218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ие инфекционных болезней от обычных заболеваний: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042560" y="1568160"/>
            <a:ext cx="810108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Их вызывают болезнетворные микроорганизмы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Каждая заразная болезнь вызывается определенным микробом – возбудителем;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Передаются от зараженного организма здоровому;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Для инфекций характерны периоды течения заболевания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Массовый характер заболеваний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664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новение и распространение   инфекционных   заболеваний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899640" y="1268280"/>
            <a:ext cx="837108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ое распространение инфекционного заболевания, значительно превосходящее обычный уровень заболеваемости, называют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пидемие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сли же оно охватывает территорию целого государства или нескольких стран, его называют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андемие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971280" y="259920"/>
            <a:ext cx="8064360" cy="6597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ые периоды любого инфекционного заболева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кубационный или латентный 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(скрытый) период;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Это время, прошедшее с момента попадания микроорганизма в организм до появления первых клинических признаков заболевания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ромальный период </a:t>
            </a:r>
            <a:r>
              <a:rPr b="1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(предвестники).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 этот период идет колонизация возбудителя на чувствительных клетках организма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инический период болезни 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(разгар болезни);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 этот период идет интенсивное размножение возбудителя, проявление всех его свойств, максимально проявляются клинические проявлени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4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ход инфекционного заболевания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выздоровление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летальный исход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выздоровление с остаточными явлениями     перенесенного заболевания или с его осложнениями,                               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) бактерионосительство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7199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</a:t>
            </a:r>
            <a:br>
              <a:rPr sz="3200"/>
            </a:br>
            <a:r>
              <a:rPr b="0" lang="ru-RU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В зависимости от природы возбудителей инфекционные болезни классифицируются на</a:t>
            </a:r>
            <a:r>
              <a:rPr b="0" lang="ru-RU" sz="3200" spc="-1" strike="noStrike">
                <a:solidFill>
                  <a:srgbClr val="5cadc6"/>
                </a:solidFill>
                <a:latin typeface="Times New Roman"/>
                <a:ea typeface="Times New Roman"/>
              </a:rPr>
              <a:t>: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116000" y="1989000"/>
            <a:ext cx="78487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онные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болезнь Крейтцфельда — Якоба (разрушают структуру головного мозга))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русные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рипп, корь, вирусные гепатиты, ВИЧ-инфекция, цитомегаловирусная инфекция, менингит)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ктериальные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чума, холера, дизентерия, сальмонеллёз, стрептококковая, стафилококковая инфекции, менингит)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тозойные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мебиаз,  токсоплазмоз, малярия)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ибковые инфекци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ли микозы, (эпидермофития, кандидоз, мукормикоз)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Заголовок 1"/>
          <p:cNvSpPr/>
          <p:nvPr/>
        </p:nvSpPr>
        <p:spPr>
          <a:xfrm>
            <a:off x="969840" y="189000"/>
            <a:ext cx="77788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</a:t>
            </a:r>
            <a:r>
              <a:rPr b="1" lang="ru-RU" sz="3200" spc="-1" strike="noStrike">
                <a:solidFill>
                  <a:srgbClr val="5cadc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cadc6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1" lang="ru-RU" sz="2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В зависимости от путей передачи инфекционные болезни классифицируются на</a:t>
            </a:r>
            <a:r>
              <a:rPr b="1" lang="ru-RU" sz="2800" spc="-1" strike="noStrike">
                <a:solidFill>
                  <a:srgbClr val="5cadc6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бъект 2"/>
          <p:cNvSpPr/>
          <p:nvPr/>
        </p:nvSpPr>
        <p:spPr>
          <a:xfrm>
            <a:off x="1150920" y="1484280"/>
            <a:ext cx="741672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бъект 2"/>
          <p:cNvSpPr/>
          <p:nvPr/>
        </p:nvSpPr>
        <p:spPr>
          <a:xfrm>
            <a:off x="1077840" y="2060640"/>
            <a:ext cx="756144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и дыхательных путей (ангина, дифтерия, корь, туберкулё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шечные инфекции (дизентерия, холера, брюшной тиф, сальмонеллё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яные инфекции (малярия, клещевой энцефалит, чума, СПИ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и наружных покровов (чесотка, сибирская язва, столбняк, сифили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инфекционных заболеваний 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848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Комплекс мероприятий, направленных на предупреждение болезней, в частности инфекционных, сохранение здоровья и продление жизни человека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1015920" y="189000"/>
            <a:ext cx="8145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Профилактика инфекционных заболеваний проводится по трём основным направле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1015920" y="2421000"/>
            <a:ext cx="814572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приятия в отношении источника инфекции (устран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приятия по разрыву путей передачи инф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приятия изменяющие, восприимчивость организма к инф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ия</dc:creator>
  <dc:description/>
  <dc:language>en-US</dc:language>
  <cp:lastModifiedBy>Наталия</cp:lastModifiedBy>
  <dcterms:modified xsi:type="dcterms:W3CDTF">2022-11-06T08:55:38Z</dcterms:modified>
  <cp:revision>179</cp:revision>
  <dc:subject/>
  <dc:title>PowerPoint Presentation</dc:title>
</cp:coreProperties>
</file>