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AE01-22B8-48CE-AFFD-6D847426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E69-016D-43C2-9057-AAA325A9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4EE5-EDE1-44F4-9696-377B6397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35A2-2E50-4F59-B4D7-823DA613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2C8F-5D3F-4AB7-9340-1E577F32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C2C0-CF6D-4916-B093-728F6F91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821A-A3C1-4CEC-82C2-A40FBC98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8497-4032-4C4A-ADEE-A904F5A7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B3A7-531F-4E34-807D-C6FBE233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CA97-34A5-45D1-BFC9-F406B31E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3011-AADD-4BB9-AF76-C47E74A9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CEFD-60FB-4885-BB85-37ED45C2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3169-2E05-4565-B032-9FA675ED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55FA-FD3A-45B6-9DD9-B0A9FF6B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A692-ACE4-4AC4-9D79-02BAC0D5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4DD0-B47A-4C2E-8855-44CE9D76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BBAC-C6C7-4513-B86B-FD32F5AF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12AE-A6A6-44E5-892F-6B510317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2CC7-AD71-4791-89BB-88BB8C8B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2E84-58CA-4A8C-BD90-60D87185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A4C2-3505-440C-B0D9-E87138FB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6408-C556-43B6-8508-F41B8D09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1FE1-C00C-46AD-A03C-21624E90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15E3-CD8D-4C8F-8435-F94BF121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2A80-D29D-4257-8481-9DBA0BD7715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18C6-9417-4F11-BB6B-B1781C5CF80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991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Классный час </a:t>
            </a:r>
            <a:br>
              <a:rPr sz="4800"/>
            </a:b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в 1 классе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«9 Мая. День Победы»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427640" y="4868640"/>
            <a:ext cx="446544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Подготовила учитель начальных классов</a:t>
            </a:r>
            <a:endParaRPr b="1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МБОУ «СШ №6 города Смоленска</a:t>
            </a:r>
            <a:endParaRPr b="1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Терешкова Татьяна Михайловна</a:t>
            </a:r>
            <a:endParaRPr b="1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042560" y="1052280"/>
            <a:ext cx="693900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99"/>
                </a:solidFill>
                <a:latin typeface="Arial"/>
              </a:rPr>
              <a:t>9 Мая. </a:t>
            </a:r>
            <a:endParaRPr b="1" lang="en-US" sz="6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99"/>
                </a:solidFill>
                <a:latin typeface="Arial"/>
              </a:rPr>
              <a:t>День Победы</a:t>
            </a:r>
            <a:endParaRPr b="1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87280" y="3009960"/>
            <a:ext cx="6985080" cy="38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826920" y="907560"/>
            <a:ext cx="7632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6699"/>
                </a:solidFill>
                <a:latin typeface="Arial"/>
              </a:rPr>
              <a:t>Храбро…</a:t>
            </a:r>
            <a:endParaRPr b="1" lang="en-US" sz="6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6699"/>
                </a:solidFill>
                <a:latin typeface="Arial"/>
              </a:rPr>
              <a:t>- мужественно</a:t>
            </a:r>
            <a:endParaRPr b="1" lang="en-US" sz="5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6699"/>
                </a:solidFill>
                <a:latin typeface="Arial"/>
              </a:rPr>
              <a:t>- доблестно</a:t>
            </a:r>
            <a:endParaRPr b="1" lang="en-US" sz="5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6699"/>
                </a:solidFill>
                <a:latin typeface="Arial"/>
              </a:rPr>
              <a:t>- самоотверженно</a:t>
            </a:r>
            <a:r>
              <a:rPr b="1" lang="en-US" sz="6000" spc="-1" strike="noStrike">
                <a:solidFill>
                  <a:srgbClr val="006699"/>
                </a:solidFill>
                <a:latin typeface="Arial"/>
              </a:rPr>
              <a:t> </a:t>
            </a:r>
            <a:endParaRPr b="1" lang="en-US" sz="6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843280" y="981000"/>
            <a:ext cx="2944800" cy="3645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68000" y="404640"/>
            <a:ext cx="3384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солда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матрос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сержан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старшина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лейтенан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капитан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майор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полковник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генерал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адмирал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маршал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219640" y="3357720"/>
            <a:ext cx="3708360" cy="24145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580000" y="907920"/>
            <a:ext cx="356400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08428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чники фотографий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artcontract.ru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mos.ru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solovki.livejournal.com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98508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6T18:13:33Z</dcterms:created>
  <dc:creator>ТТМ</dc:creator>
  <dc:description/>
  <dc:language>en-US</dc:language>
  <cp:lastModifiedBy>ТТМ</cp:lastModifiedBy>
  <dcterms:modified xsi:type="dcterms:W3CDTF">2022-11-06T18:46:29Z</dcterms:modified>
  <cp:revision>3</cp:revision>
  <dc:subject/>
  <dc:title>Классный час  в 1 классе  «9 Мая. День Победы»</dc:title>
</cp:coreProperties>
</file>