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B72-5D68-474E-ABDD-2174FBC2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EDA-1A87-4F31-BE41-C06D403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92B-71A4-47DB-A256-1945B751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620-B613-4851-B36A-B49A9B75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7A7-D735-4BB4-905A-B729DC4D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584-1952-4FBE-A5F6-4B584EC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7D6-8610-4015-AA7E-31B31A05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EFC-46DA-448C-AE6B-52113A1C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984-7179-4302-BBE3-38DDBA84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2BE-14FB-40D6-93F5-2A7C24D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F9E-1610-4F59-B8E0-E60F118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153-E5F1-4BB8-87AD-EEE1DAA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D1A-5350-46EC-B076-33C6780D9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14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8426520" y="4773600"/>
            <a:ext cx="2739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подготови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нова Марина Никола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АУ «Моготская СО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ндинского муниципального окру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ур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1025640" y="622440"/>
            <a:ext cx="3208320" cy="49323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5" descr=""/>
          <p:cNvPicPr/>
          <p:nvPr/>
        </p:nvPicPr>
        <p:blipFill>
          <a:blip r:embed="rId3"/>
          <a:stretch/>
        </p:blipFill>
        <p:spPr>
          <a:xfrm>
            <a:off x="4035600" y="1268280"/>
            <a:ext cx="6692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874800" y="987480"/>
          <a:ext cx="10442520" cy="1995480"/>
        </p:xfrm>
        <a:graphic>
          <a:graphicData uri="http://schemas.openxmlformats.org/drawingml/2006/table">
            <a:tbl>
              <a:tblPr/>
              <a:tblGrid>
                <a:gridCol w="496800"/>
                <a:gridCol w="496800"/>
                <a:gridCol w="498600"/>
                <a:gridCol w="496800"/>
                <a:gridCol w="496800"/>
                <a:gridCol w="497160"/>
                <a:gridCol w="498240"/>
                <a:gridCol w="497160"/>
                <a:gridCol w="496800"/>
                <a:gridCol w="496800"/>
                <a:gridCol w="498600"/>
                <a:gridCol w="496800"/>
                <a:gridCol w="496800"/>
                <a:gridCol w="496800"/>
                <a:gridCol w="498600"/>
                <a:gridCol w="496800"/>
                <a:gridCol w="497160"/>
                <a:gridCol w="496800"/>
                <a:gridCol w="498240"/>
                <a:gridCol w="497160"/>
                <a:gridCol w="496800"/>
              </a:tblGrid>
              <a:tr h="99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99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874800" y="3159000"/>
            <a:ext cx="320364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3"/>
          <a:stretch/>
        </p:blipFill>
        <p:spPr>
          <a:xfrm>
            <a:off x="9337680" y="4583160"/>
            <a:ext cx="1704960" cy="1476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920880" y="1085760"/>
            <a:ext cx="34452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895320" y="114156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415880" y="1085760"/>
            <a:ext cx="34308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376280" y="114156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9"/>
          <p:cNvSpPr/>
          <p:nvPr/>
        </p:nvSpPr>
        <p:spPr>
          <a:xfrm>
            <a:off x="1909800" y="1112760"/>
            <a:ext cx="34452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876320" y="114156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1"/>
          <p:cNvSpPr/>
          <p:nvPr/>
        </p:nvSpPr>
        <p:spPr>
          <a:xfrm>
            <a:off x="2451240" y="1117440"/>
            <a:ext cx="34452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301840" y="112716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3"/>
          <p:cNvSpPr/>
          <p:nvPr/>
        </p:nvSpPr>
        <p:spPr>
          <a:xfrm>
            <a:off x="2374920" y="2079720"/>
            <a:ext cx="344520" cy="75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363760" y="2046240"/>
            <a:ext cx="3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5"/>
          <p:cNvSpPr/>
          <p:nvPr/>
        </p:nvSpPr>
        <p:spPr>
          <a:xfrm>
            <a:off x="3467160" y="1098720"/>
            <a:ext cx="3445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325680" y="1127160"/>
            <a:ext cx="3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8"/>
          <p:cNvSpPr/>
          <p:nvPr/>
        </p:nvSpPr>
        <p:spPr>
          <a:xfrm>
            <a:off x="8418600" y="2049480"/>
            <a:ext cx="342720" cy="7556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8337600" y="2079720"/>
            <a:ext cx="3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0"/>
          <p:cNvSpPr/>
          <p:nvPr/>
        </p:nvSpPr>
        <p:spPr>
          <a:xfrm>
            <a:off x="6927840" y="2079720"/>
            <a:ext cx="34308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46840" y="20462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2"/>
          <p:cNvSpPr/>
          <p:nvPr/>
        </p:nvSpPr>
        <p:spPr>
          <a:xfrm>
            <a:off x="7454880" y="2084400"/>
            <a:ext cx="3445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351560" y="2046240"/>
            <a:ext cx="3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4"/>
          <p:cNvSpPr/>
          <p:nvPr/>
        </p:nvSpPr>
        <p:spPr>
          <a:xfrm>
            <a:off x="4371840" y="1098720"/>
            <a:ext cx="34308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5"/>
          <p:cNvSpPr/>
          <p:nvPr/>
        </p:nvSpPr>
        <p:spPr>
          <a:xfrm>
            <a:off x="4902120" y="1127160"/>
            <a:ext cx="34308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387680" y="1141560"/>
            <a:ext cx="3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4859280" y="110952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8"/>
          <p:cNvSpPr/>
          <p:nvPr/>
        </p:nvSpPr>
        <p:spPr>
          <a:xfrm>
            <a:off x="6459480" y="1141560"/>
            <a:ext cx="3445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29520" y="114768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40"/>
          <p:cNvSpPr/>
          <p:nvPr/>
        </p:nvSpPr>
        <p:spPr>
          <a:xfrm>
            <a:off x="2879640" y="2079720"/>
            <a:ext cx="343080" cy="75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854440" y="20462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2"/>
          <p:cNvSpPr/>
          <p:nvPr/>
        </p:nvSpPr>
        <p:spPr>
          <a:xfrm>
            <a:off x="2944800" y="1117440"/>
            <a:ext cx="34452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857680" y="1127160"/>
            <a:ext cx="2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4"/>
          <p:cNvSpPr/>
          <p:nvPr/>
        </p:nvSpPr>
        <p:spPr>
          <a:xfrm>
            <a:off x="920880" y="2127240"/>
            <a:ext cx="344520" cy="75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882720" y="205092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6"/>
          <p:cNvSpPr/>
          <p:nvPr/>
        </p:nvSpPr>
        <p:spPr>
          <a:xfrm>
            <a:off x="1436760" y="2079720"/>
            <a:ext cx="344520" cy="75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355760" y="20750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8"/>
          <p:cNvSpPr/>
          <p:nvPr/>
        </p:nvSpPr>
        <p:spPr>
          <a:xfrm>
            <a:off x="1933560" y="2046240"/>
            <a:ext cx="344520" cy="75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790640" y="20462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0"/>
          <p:cNvSpPr/>
          <p:nvPr/>
        </p:nvSpPr>
        <p:spPr>
          <a:xfrm>
            <a:off x="3922560" y="111744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03760" y="11174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2"/>
          <p:cNvSpPr/>
          <p:nvPr/>
        </p:nvSpPr>
        <p:spPr>
          <a:xfrm>
            <a:off x="5456160" y="1141560"/>
            <a:ext cx="34308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338800" y="113652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4"/>
          <p:cNvSpPr/>
          <p:nvPr/>
        </p:nvSpPr>
        <p:spPr>
          <a:xfrm>
            <a:off x="5924520" y="1081080"/>
            <a:ext cx="34308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861160" y="118908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6"/>
          <p:cNvSpPr/>
          <p:nvPr/>
        </p:nvSpPr>
        <p:spPr>
          <a:xfrm>
            <a:off x="5943600" y="206676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845320" y="20462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8"/>
          <p:cNvSpPr/>
          <p:nvPr/>
        </p:nvSpPr>
        <p:spPr>
          <a:xfrm>
            <a:off x="6386400" y="206676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286680" y="20462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0"/>
          <p:cNvSpPr/>
          <p:nvPr/>
        </p:nvSpPr>
        <p:spPr>
          <a:xfrm>
            <a:off x="6888240" y="111744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848640" y="116532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62"/>
          <p:cNvSpPr/>
          <p:nvPr/>
        </p:nvSpPr>
        <p:spPr>
          <a:xfrm>
            <a:off x="7373880" y="1127160"/>
            <a:ext cx="3445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335720" y="11858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4"/>
          <p:cNvSpPr/>
          <p:nvPr/>
        </p:nvSpPr>
        <p:spPr>
          <a:xfrm>
            <a:off x="8377200" y="1127160"/>
            <a:ext cx="3445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8359920" y="119376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6"/>
          <p:cNvSpPr/>
          <p:nvPr/>
        </p:nvSpPr>
        <p:spPr>
          <a:xfrm>
            <a:off x="7899480" y="1127160"/>
            <a:ext cx="3427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781760" y="1189080"/>
            <a:ext cx="3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8"/>
          <p:cNvSpPr/>
          <p:nvPr/>
        </p:nvSpPr>
        <p:spPr>
          <a:xfrm>
            <a:off x="7918560" y="206676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742160" y="20606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70"/>
          <p:cNvSpPr/>
          <p:nvPr/>
        </p:nvSpPr>
        <p:spPr>
          <a:xfrm>
            <a:off x="8897760" y="2046240"/>
            <a:ext cx="34308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821800" y="207504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2"/>
          <p:cNvSpPr/>
          <p:nvPr/>
        </p:nvSpPr>
        <p:spPr>
          <a:xfrm>
            <a:off x="9383760" y="2127240"/>
            <a:ext cx="342720" cy="75708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301320" y="208440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4"/>
          <p:cNvSpPr/>
          <p:nvPr/>
        </p:nvSpPr>
        <p:spPr>
          <a:xfrm>
            <a:off x="9904320" y="204624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9799560" y="210168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76"/>
          <p:cNvSpPr/>
          <p:nvPr/>
        </p:nvSpPr>
        <p:spPr>
          <a:xfrm>
            <a:off x="10426680" y="2066760"/>
            <a:ext cx="344520" cy="75744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0234440" y="2084400"/>
            <a:ext cx="3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79"/>
          <p:cNvSpPr/>
          <p:nvPr/>
        </p:nvSpPr>
        <p:spPr>
          <a:xfrm>
            <a:off x="10883880" y="1111320"/>
            <a:ext cx="344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799640" y="114768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81"/>
          <p:cNvSpPr/>
          <p:nvPr/>
        </p:nvSpPr>
        <p:spPr>
          <a:xfrm>
            <a:off x="10906200" y="2079720"/>
            <a:ext cx="3445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0812600" y="2101680"/>
            <a:ext cx="3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1T00:46:21Z</dcterms:created>
  <dc:creator>Марина Миронова</dc:creator>
  <dc:description/>
  <dc:language>en-US</dc:language>
  <cp:lastModifiedBy>Марина Миронова</cp:lastModifiedBy>
  <dcterms:modified xsi:type="dcterms:W3CDTF">2022-11-06T15:01:45Z</dcterms:modified>
  <cp:revision>7</cp:revision>
  <dc:subject/>
  <dc:title>Презентация PowerPoint</dc:title>
</cp:coreProperties>
</file>