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850-74E3-4763-9D42-D35DBD1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E1B-5F8C-4BBB-8C44-CC67054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6BB-E2BE-48B3-94E0-ACC8695C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47B-0CBB-49C7-B9C8-0076FE1A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69A-3546-4E65-8B00-E5FA95A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1B5-F838-4076-B373-5450F0B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BF2-F91C-4A0C-844A-129482E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FD1-742E-4884-B5D6-CB8006B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788-8FD0-425E-8105-BCBE882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1CD-66FB-4051-9A1E-5FA7C04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F98-B376-4919-9599-9DB61D0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064-7D6F-48D1-86D0-D609138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9EC672-8FF1-4775-A1F9-B6867D4A6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ЕНИЕ ИТОГОВ УРОКА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РЕФЛЕКС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флексия настроения и эмоционального состоя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«Смайлики. » показ карточек с изображением трех лиц: веселого, грустного, нейтраль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Использование различных изображений:«Букет настроения». В начале урока учащимся раздаются бумажные цветы: красные и голубые. На доске изображена ваза. В конце урока учитель говорит: «Если вам понравилось на уроке, и вы узнали что-то новое, то прикрепите к вазе красный цветок, если не понравилось, - голуб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Дерево чувств». Если чувствую себя хорошо, комфортно, то вешаю на дерево яблоки красного цвета, если нет, зелё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флексия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ает возможность осмысления способов и приемов работы с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ым материал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вид рефлексивной деятельности приемлем на этапе проверки домашнего задания, защите проектных раб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этого вида рефлексии в конце урока дает возможность оценить активность каждого на разных этапах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https://ds04.infourok.ru/uploads/ex/1123/00012292-b7496675/img1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лексия "Плюс – минус – интересно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исьменного выполнения обучающимся предлагается заполнить таблицу из трех граф. В графу «П» – «плюс» записывается все, что понравилось на уроке, информация и формы работы,  которые вызвали положительные эмоции, либо по мнению ученика могут быть ему полезны для достижения каких-то целей. В графу «М» – «минус» записывается все, что не понравилось на уроке, показалось скучным, вызвало неприязнь, осталось непонятным, или информация, которая, по мнению ученика, оказалась для него не нужной, бесполезной с точки зрения решения жизненных ситуаций. В графу «И» – «интересно» обучающиеся вписывают все любопытные факты, о которых узнали на уроке и что бы еще хотелось узнать по данной проблеме, вопросы к учите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содержания учебного материала  (выявление уровня осознания содержания пройденного) «Рефлексии – высказывания» «Прием синквейна» «Пальчиковая гимнастика» «Плюс – минус» «Анкета» «Мини-сочинение» «Сове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квейн является быстрым, мощным инструментом для анализа, синтеза и обобщения понятия и информации. Он учит осмысленно использовать понятия и определять свое отношение к рассматриваемой проблеме. Используя всего 5 ст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https://ds04.infourok.ru/uploads/ex/1289/0012b028-ba63ca0a/img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флексия содержания учебного матери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пользуется для выявления уровн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знания содержания пройденно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ен прием незаконченного предложения, тез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 Я не знал ... - Теперь я знаю 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анализа субъективного опы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 конце урока подводятся его итоги, обсуждение того, что узнали, и того, как работали - т. е. каждый оценивает свой вклад в достижение поставленных в нача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а целей, свою активность, эффективность работы кла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https://ds02.infourok.ru/uploads/ex/082f/00035006-bb3362a7/img1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принципов развивающего обучения - принцип активности и созна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ым услови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я развивающей среды на уроке является этап рефлек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временной педагогике под рефлексией понимают самоанализ деятельности и её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https://fs00.infourok.ru/images/doc/234/101368/1/img1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https://xn--i1abbnckbmcl9fb.xn--p1ai/%D1%81%D1%82%D0%B0%D1%82%D1%8C%D0%B8/611193/img1.gif"/>
          <p:cNvPicPr/>
          <p:nvPr/>
        </p:nvPicPr>
        <p:blipFill>
          <a:blip r:embed="rId1"/>
          <a:stretch/>
        </p:blipFill>
        <p:spPr>
          <a:xfrm>
            <a:off x="2671920" y="2328840"/>
            <a:ext cx="38001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https://ds04.infourok.ru/uploads/ex/055c/00041083-d2b7c935/hello_html_m67e45a1f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3" descr="https://ds02.infourok.ru/uploads/ex/0f1f/00041a46-de3888d4/img1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я, построенная по принципу незаконченного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day I have learnt abou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uld praise myself f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all I liked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I want to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day I could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difficult to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I ca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surprised to know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ommunication in the lesson was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njoy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ntert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form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xc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b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leas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Объект 3" descr="https://ds04.infourok.ru/uploads/ex/02ca/00058109-4253cea8/img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понтанная, нерегулярная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  рефлексия– реплики, мнения, суждения, сомнения, вопросы, выводы учащихся в произвольной форме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огромную ценность и также является богатейшим материалом для анализа своей педагогической деятельности и корректировк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ask is more difficult for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oo fast. I can’t underst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need some time to thi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учитель может спровоцировать обратную связь «по запросу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se dialogue did you like b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se story did you like b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we revised the words?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олжите фразы на дос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 know 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difficult 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must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ask is more difficult for 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oo fast. I can’t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need some time to thi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учитель может спровоцировать обратную связь «по запросу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se dialogue did you like b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se story did you like b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we revised the words?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57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может осуществляться не только в конце урока, но и на любом его этап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направлена на осознание пройденного пути, на сбор в общую копилку замеченного обдуманного, понятого кажд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цель не просто уйти с урока с зафиксированным результатом, а выстроить смысловую цепочку, сравнить способы и методы, применяемые другими со свои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содержания учебного материала  (выявление уровня осознания содержания пройденного) «Рефлексии – высказывания» «Прием синквейна» «Пальчиковая гимнастика» «Плюс – минус» «Анкета» «Мини-сочинение» «Сове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деятельности: (в конце урока дает возможность оценить активность каждого на разных этапах урока) «Лестница успеха» «Зарядка» «Рефлексивный круг» «Рефлексивные группы» «Мишень» «Пять пальце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оциональное состояние и настроение учащихся: (в начале и в конце деятельности) «Смайл» «Лучики солнца» «Яблоня ожиданий» «Цветик – многоцвет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ля подведения итогов урока можно воспользоваться упражнением «Плюс-минус- интересно». Это упражнение можно выполнять как устно, так и письменно, в зависимости от наличия врем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Для письменного выполнения предлагается заполнить таблицу из трех граф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 графу «П»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«плюс» записывается все, что понравилось на уроке, информация и формы работы, которые вызвали положительные эмоции, либо по мнению ученика могут быть ему полезны для достижения каких-то цел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 графу «М» - «минус» записывается все, что не понравилось на уроке, показалось скучным, вызвало неприязнь, осталось непонятным, или информация, которая, по мнению ученика, оказалась для него не нужной, бесполезной с точки зрения решения жизненных ситуац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 графу «И»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«интересно» учащиеся вписывают все любопытные факты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оторых узнали на уроке и что бы еще хотелось узнать по данной проблеме, вопросы к учител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Это упражнение позволяет учителю взгляну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урок глазами учеников, проанализировать его с точки зрения ценности для каждого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ля учащихся наиболее важными будут графы «П» и «И», так как в них будут содержаться памятк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той информации, которая может им когда-нибудь пригодить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 конце урока можно дать ребятам небольшую анкету, которая позволяет осуществить самоанализ, дать качественную и количественную оценку урок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екоторые пункты можно варьировать, дополнять, это зависит от того, на какие элементы урока обращается особое внимание. Можно попросить учащихся 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ргументировать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я работа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воей работой на уроке 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Урок для меня показал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За урок 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Мое настроени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Материал урока мне бы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Домашнее задание мне каж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но / пассивн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волен / не доволе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тким / длинны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устал / уста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ло лучше / стало хуж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нятен / не поняте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езен / бесполезе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ен / скучен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гким / трудны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но / не интерес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Для оценивания учащимися своей активности и качества своей работы на уроке предлагаю ребятам на листочке условно отмечать свои ответы: </a:t>
            </a:r>
            <a:br>
              <a:rPr sz="22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V»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тветил по просьбе учителя, но ответ не правильны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«W»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тветил по просьбе учителя, ответ правильны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тветил по своей инициативе, но ответ не правильны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+» 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тветил по своей инициативе, ответ правильны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«О»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 ответи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бсуждая в конце урока результаты своих наблюдений, учащиеся смогут объективно 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ть свою активность и качество рабо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ля того, чтобы закончить урок на положительной ноте можно воспользоваться одним из вариантов упражнении «Комплимент» (Комплимент-похвала, Комплимент деловым 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ачествам, Комплимент в чувствах), в котором учащиеся оценивают вклад друг друга в урок и благодарят друг друга и учителя за проведенный уро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Такой вариант окончания урока дает возможность удовлетворения потребности в признании личностной значимости каждог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цепция развивающего обучения предполагает научить школьников работать в разных режимах (индивидуальный, групповой, коллективный) Коллективная учебная деятельность создает условия для овладения иноязычным общение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оэтому рефлексивная деятельность, как любая другая, может организовываться в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индивидуальной и групповой форм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бы показать учащимся, как они работали в группе, каков уровень их коммуникации, анализируется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только результат, но и процесс 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ы, который можно оценить по следующему алгоритму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 общение в ходе работы влияло на выполнение зада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елало её более эффектив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тормозило выполнение 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не позволило точно выполнить задачу, испортило отношения в групп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Исходя из функций рефлексии предлагается следующая классификация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настроения и эмоционального состоя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я содержания учебного матери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каком уровне в большей степени осуществлялось общение в группе?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мен информаци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дей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поним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и равномерно задействованы все уров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Какого уровня коммуникативные трудности испытывали участники группы при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выполнении задания?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достаток информ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достаток средств коммуникации (речевых образцов, текст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рудности в общ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акой стиль общения преобладал в работе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риентированный на челове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риентированный на выполнение зад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охранилось ли единство группы в ходе выполнения задания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 группе сохранилось единство и партнерские отнош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единство группы в ходе работы было наруше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Кто или что сыграло решающую роль в том, что произошло в группе?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дер, выдвинувшийся в ходе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желание наладить контакт большинства участников групп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понимание задачи, поставленной для совместной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ма задача оказалась неинтересной, труд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Рефлексивная контрольно-оценочная деятельность при организации коллективно-учебной деятельности в группе предполагает включение каждого учащегося в действие взаимоконтроля и взаимооценк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Для этого используются оценочные карты, цель котор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учить адекватно оценивать себя и друг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ожно предложить учащимся  сделать краткие запис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основания оценки в виде похвалы, одобрения, пожелания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се, что делается на уроке по организации рефлексивно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е самоцель, а подготовка в сознательной внутренней рефлексии развитию очень важных качеств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временной личнос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самостоятель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предприимчивости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 конкурентоспособ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аким образом, рефлексия на урок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это совместная деятельность учащихся и учителя, позволяющая совершенствовать учебный процесс, ориентируясь на личность каждого учени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ие виды рефлексии быва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одерж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мволическа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ученик выставляет оценку уроку при помощи карточек с цифрами и других характерных изобра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тна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рассказывает о своих впечатл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исьменна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излагает мысли в форме сочинения, ответов на вопросы анкеты 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виду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о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е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оценивает настроение и восприятие учебного материала — понравилось/нет, понятно/не понятно, интересно/не интересно 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флексия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применяется на этапе проверки домашних заданий либо закрепления пройденного материала («дерево успеха», «лесенка успеха», «вагончики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я материала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проводится в конце урока. Ребенок в письменной или устной форме отвечает на вопросы, продолжает предложение либо описывает свои впечатления о пройденном материале (анкета, сочинение, облако тегов и п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https://ds04.infourok.ru/uploads/ex/1289/0012b028-ba63ca0a/img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флексия настроения и эмоционального состоя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сообразно проводить в начале урока с целью установления эмоционального контакта c классом или в конце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можно применя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рточки с изображением лица (грустного, веселого); показ большого пальца вверх или вниз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ышко” – мне всё удалось, “солнышко и тучка” – мне не всё удалось, “тучка” – у меня ничего не получилось. “Радостный гномик” – всё хорошо, “грустный гномик” – грустно.  Светофо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ои ожидания”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Возьмитесь за руки, улыбнитесь друг другу. Что вы ожидаете от сегодняшнего урока? Я надеюсь, что ваши ожидания исполнятся, а насколько - посмотрим в конце урока (получить новые знания, справиться со всеми заданиями, помочь своему товарищу и т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флексии настроения и эмоционального состоя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целесообразно в начале урока с целью установления эмоционального контакта с группой и в конце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3:43:12Z</dcterms:created>
  <dc:creator>Администратор</dc:creator>
  <dc:description/>
  <dc:language>en-US</dc:language>
  <cp:lastModifiedBy>MAX</cp:lastModifiedBy>
  <cp:lastPrinted>2019-05-15T21:34:13Z</cp:lastPrinted>
  <dcterms:modified xsi:type="dcterms:W3CDTF">2019-05-16T03:42:16Z</dcterms:modified>
  <cp:revision>20</cp:revision>
  <dc:subject/>
  <dc:title>ПОДВЕДЕНИЕ ИТОГОВ УРОКА. РЕФЛЕКСИЯ.</dc:title>
</cp:coreProperties>
</file>