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7D8-E7A3-4BA2-A399-D10D397E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C36-2742-4E26-81B2-53F65313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F31-F874-416A-B50B-D96D1619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8B1-3946-4BAE-87DB-0869F5D5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33C-B52B-4282-BBEE-ED47E25B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156-E422-4E43-AD32-5C80FC43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4E9-B7A7-476D-BA2D-A62E170E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929-B270-45B1-8D57-1C53F6DF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04F-DE7C-4CFC-A964-8900C5D5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F2A-85B7-45D3-B9EC-5527A4E0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269-70EB-452F-965D-0D8DA467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1BD-F61B-4E89-B196-FCA7FCD2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2D61-018A-47CF-84CA-F3EF9B823A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РАЗНЫЕ КАРТИНКИ\открытки\день космонавтики\2285842.jpg"/>
          <p:cNvPicPr/>
          <p:nvPr/>
        </p:nvPicPr>
        <p:blipFill>
          <a:blip r:embed="rId2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марта 1934 г. в селе Клушин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 Смоленская область)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лся Ю.А. Гагар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Текст 2" descr=""/>
          <p:cNvPicPr/>
          <p:nvPr/>
        </p:nvPicPr>
        <p:blipFill>
          <a:blip r:embed="rId2"/>
          <a:stretch/>
        </p:blipFill>
        <p:spPr>
          <a:xfrm>
            <a:off x="112680" y="1700280"/>
            <a:ext cx="4745160" cy="482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59280" y="1773360"/>
            <a:ext cx="4033800" cy="3220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РАЗНЫЕ КАРТИНКИ\открытки\день космонавтики\rukopis.JPG"/>
          <p:cNvPicPr/>
          <p:nvPr/>
        </p:nvPicPr>
        <p:blipFill>
          <a:blip r:embed="rId2"/>
          <a:stretch/>
        </p:blipFill>
        <p:spPr>
          <a:xfrm>
            <a:off x="4357800" y="214200"/>
            <a:ext cx="4572000" cy="642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D:\РАЗНЫЕ КАРТИНКИ\открытки\день космонавтики\gagarin01.jpg"/>
          <p:cNvPicPr/>
          <p:nvPr/>
        </p:nvPicPr>
        <p:blipFill>
          <a:blip r:embed="rId3"/>
          <a:stretch/>
        </p:blipFill>
        <p:spPr>
          <a:xfrm>
            <a:off x="214200" y="214200"/>
            <a:ext cx="3929040" cy="642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4681440" cy="395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67280" y="2349360"/>
            <a:ext cx="3754440" cy="41436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0" y="0"/>
            <a:ext cx="421164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211640" y="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292720" y="3284640"/>
            <a:ext cx="2755800" cy="357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4643280" y="128520"/>
            <a:ext cx="4429440" cy="64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зал `поехали` Гагар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кета в космос понес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это был рисковый парен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тех пор эпоха нача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поха странствий и открыт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есса, мира и тр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ежд, желаний и событ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все это - навсе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упят дни, когда простр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хочет, сможет борозд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ь на Луну, пожалуйста, странству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то не сможет запрет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будет жизнь! Но все же вспомн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кто-то первым полетел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йор Гагарин, парень скром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ь эпоху он сум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Махмуд Отар-Мухта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:\РАЗНЫЕ КАРТИНКИ\открытки\день космонавтики\гагарин.jpg"/>
          <p:cNvPicPr/>
          <p:nvPr/>
        </p:nvPicPr>
        <p:blipFill>
          <a:blip r:embed="rId2"/>
          <a:stretch/>
        </p:blipFill>
        <p:spPr>
          <a:xfrm>
            <a:off x="285840" y="285840"/>
            <a:ext cx="4143240" cy="628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:\РАЗНЫЕ КАРТИНКИ\открытки\день космонавтики\35c44ef1-5a46-4533-a65f-351ca58914db.jpg"/>
          <p:cNvPicPr/>
          <p:nvPr/>
        </p:nvPicPr>
        <p:blipFill>
          <a:blip r:embed="rId2"/>
          <a:stretch/>
        </p:blipFill>
        <p:spPr>
          <a:xfrm>
            <a:off x="357120" y="357120"/>
            <a:ext cx="8429760" cy="6072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6351480" y="4280040"/>
            <a:ext cx="2584440" cy="2584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85840" y="571680"/>
            <a:ext cx="4572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свет. Еще не знали нич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ычные `Последние известия`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 он летит через созвезд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емля проснется с именем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`Широка страна моя родная`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накомый голос первых позыв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ы наши сводки начинали с н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я недаром это вспомина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 попросив подмог ни у ког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а восстав из пепла и из прах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я страна, не знающая страх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лет в космос ныне сына сво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D:\РАЗНЫЕ КАРТИНКИ\открытки\день космонавтики\mini_DSCN8523.jpg"/>
          <p:cNvPicPr/>
          <p:nvPr/>
        </p:nvPicPr>
        <p:blipFill>
          <a:blip r:embed="rId2"/>
          <a:stretch/>
        </p:blipFill>
        <p:spPr>
          <a:xfrm>
            <a:off x="4933800" y="357120"/>
            <a:ext cx="39243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:\РАЗНЫЕ КАРТИНКИ\открытки\день космонавтики\270579-55aaf919a63199f8.jpg"/>
          <p:cNvPicPr/>
          <p:nvPr/>
        </p:nvPicPr>
        <p:blipFill>
          <a:blip r:embed="rId2"/>
          <a:stretch/>
        </p:blipFill>
        <p:spPr>
          <a:xfrm>
            <a:off x="4572000" y="285840"/>
            <a:ext cx="4354560" cy="6215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D:\РАЗНЫЕ КАРТИНКИ\открытки\день космонавтики\10856.jpg"/>
          <p:cNvPicPr/>
          <p:nvPr/>
        </p:nvPicPr>
        <p:blipFill>
          <a:blip r:embed="rId3"/>
          <a:stretch/>
        </p:blipFill>
        <p:spPr>
          <a:xfrm>
            <a:off x="285840" y="3398760"/>
            <a:ext cx="3929040" cy="310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D:\РАЗНЫЕ КАРТИНКИ\открытки\день космонавтики\1(106).jpg"/>
          <p:cNvPicPr/>
          <p:nvPr/>
        </p:nvPicPr>
        <p:blipFill>
          <a:blip r:embed="rId4"/>
          <a:stretch/>
        </p:blipFill>
        <p:spPr>
          <a:xfrm>
            <a:off x="285840" y="285840"/>
            <a:ext cx="3929040" cy="2892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571680" y="428760"/>
            <a:ext cx="828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 этот полёт космонавт получил звание Героя Советского Союза. С 1962 года 12 апреля объявлен государственным праздником - Днём космонав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D:\РАЗНЫЕ КАРТИНКИ\открытки\день космонавтики\270562-8e6e3891f143f28d.jpg"/>
          <p:cNvPicPr/>
          <p:nvPr/>
        </p:nvPicPr>
        <p:blipFill>
          <a:blip r:embed="rId2"/>
          <a:stretch/>
        </p:blipFill>
        <p:spPr>
          <a:xfrm>
            <a:off x="4932360" y="1628640"/>
            <a:ext cx="3830760" cy="482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Гагарин Юрий Алексеевич"/>
          <p:cNvPicPr/>
          <p:nvPr/>
        </p:nvPicPr>
        <p:blipFill>
          <a:blip r:embed="rId3"/>
          <a:stretch/>
        </p:blipFill>
        <p:spPr>
          <a:xfrm>
            <a:off x="684360" y="1628640"/>
            <a:ext cx="3933720" cy="482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смонавтика как наука неразрывно связана с Россией. В начале 20 века основоположник современной космонавтики Константин Эдуардович Циолковский обосновал возможность использования ракет для межпланетных сообщений, указал пути развития космонавтики и ракетостроени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00720" y="836640"/>
            <a:ext cx="4462200" cy="558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РАЗНЫЕ КАРТИНКИ\открытки\день космонавтики\13_01_00.jpg"/>
          <p:cNvPicPr/>
          <p:nvPr/>
        </p:nvPicPr>
        <p:blipFill>
          <a:blip r:embed="rId2"/>
          <a:stretch/>
        </p:blipFill>
        <p:spPr>
          <a:xfrm>
            <a:off x="4572000" y="357120"/>
            <a:ext cx="4143240" cy="6000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571680" y="500040"/>
            <a:ext cx="371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ольше всех возвращения на Землю Юрия Гагарина ждали жена Валентина, дочери Елена и Га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D:\РАЗНЫЕ КАРТИНКИ\открытки\день космонавтики\g_11_10.jpg"/>
          <p:cNvPicPr/>
          <p:nvPr/>
        </p:nvPicPr>
        <p:blipFill>
          <a:blip r:embed="rId3"/>
          <a:stretch/>
        </p:blipFill>
        <p:spPr>
          <a:xfrm>
            <a:off x="357120" y="3286080"/>
            <a:ext cx="3921120" cy="303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285840" y="285840"/>
            <a:ext cx="3857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рман Степанович Титов. Герой Советского Союза. Летчик-космонавт СССР, генерал-лейтенант авиации. При подготовке к выполнению первого в мире полета человека в космическое пространство был дублером Гагарина Ю.А. Космический полет совершил 6-7 августа 1961 года нa корабле-спутнике Восток-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РАЗНЫЕ КАРТИНКИ\открытки\день космонавтики\титов.jpg"/>
          <p:cNvPicPr/>
          <p:nvPr/>
        </p:nvPicPr>
        <p:blipFill>
          <a:blip r:embed="rId2"/>
          <a:stretch/>
        </p:blipFill>
        <p:spPr>
          <a:xfrm>
            <a:off x="4464000" y="285840"/>
            <a:ext cx="4384800" cy="621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ервые советские космонав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D:\РАЗНЫЕ КАРТИНКИ\открытки\день космонавтики\первые советские космонавты.jpg"/>
          <p:cNvPicPr/>
          <p:nvPr/>
        </p:nvPicPr>
        <p:blipFill>
          <a:blip r:embed="rId2"/>
          <a:stretch/>
        </p:blipFill>
        <p:spPr>
          <a:xfrm>
            <a:off x="357120" y="1285920"/>
            <a:ext cx="8502840" cy="521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:\РАЗНЫЕ КАРТИНКИ\открытки\день космонавтики\валентина терешкова.jpeg"/>
          <p:cNvPicPr/>
          <p:nvPr/>
        </p:nvPicPr>
        <p:blipFill>
          <a:blip r:embed="rId2"/>
          <a:stretch/>
        </p:blipFill>
        <p:spPr>
          <a:xfrm>
            <a:off x="4433760" y="357120"/>
            <a:ext cx="4349880" cy="62150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285840" y="357120"/>
            <a:ext cx="38574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алентина Владимировна Николаева-Терешкова. Первая в мире женщина-космонавт.  Герой Советского Союза. Летчик-космонавт, полковник, кандидат технических нау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вершила космический полет 16-19 июня 1963 года на космическом корабле «Восток-6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428760" y="428760"/>
            <a:ext cx="3714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ексей Архипович Леонов 18-19 марта 1965 года совместно с Павлом Беляевым совершил полёт в космос в качестве второго пилота на космическом корабле Восход-2. Продолжительность полёта 1 сутки 2 часа 2 минуты 17 секунд. В ходе этого полёта Леонов совершил первый в истории космонавтики выход в открытый космос продолжительностью 12 минут 9 секу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РАЗНЫЕ КАРТИНКИ\открытки\день космонавтики\леонов.jpg"/>
          <p:cNvPicPr/>
          <p:nvPr/>
        </p:nvPicPr>
        <p:blipFill>
          <a:blip r:embed="rId2"/>
          <a:stretch/>
        </p:blipFill>
        <p:spPr>
          <a:xfrm>
            <a:off x="4500720" y="357120"/>
            <a:ext cx="4281480" cy="614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642960" y="357120"/>
            <a:ext cx="814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 июля 1969 года американские астронавты совершили посадку на поверхность Лу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андир корабля Нейл Алден Армстронг, пилот лунного модуля Эдвин Юджин Олдрин, пилот орбитального модуля Майкл Коллинз. Все они отправились в космос второй раз. Полёт стартовал с мыса Канаверал 16 июля 1969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D:\РАЗНЫЕ КАРТИНКИ\открытки\день космонавтики\американцы.jpg"/>
          <p:cNvPicPr/>
          <p:nvPr/>
        </p:nvPicPr>
        <p:blipFill>
          <a:blip r:embed="rId2"/>
          <a:stretch/>
        </p:blipFill>
        <p:spPr>
          <a:xfrm>
            <a:off x="1214280" y="2643120"/>
            <a:ext cx="671544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428760" y="357120"/>
            <a:ext cx="83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ый человек, ступивший на Луну, - командир корабля Нейл Армстрон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РАЗНЫЕ КАРТИНКИ\открытки\день космонавтики\272397-936496ffbcb7a47d.jpg"/>
          <p:cNvPicPr/>
          <p:nvPr/>
        </p:nvPicPr>
        <p:blipFill>
          <a:blip r:embed="rId2"/>
          <a:stretch/>
        </p:blipFill>
        <p:spPr>
          <a:xfrm>
            <a:off x="857160" y="1285920"/>
            <a:ext cx="7429680" cy="5180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D:\РАЗНЫЕ КАРТИНКИ\открытки\день космонавтики\883.jpg"/>
          <p:cNvPicPr/>
          <p:nvPr/>
        </p:nvPicPr>
        <p:blipFill>
          <a:blip r:embed="rId2"/>
          <a:stretch/>
        </p:blipFill>
        <p:spPr>
          <a:xfrm>
            <a:off x="4786200" y="357120"/>
            <a:ext cx="4098960" cy="62071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8"/>
          <p:cNvSpPr/>
          <p:nvPr/>
        </p:nvSpPr>
        <p:spPr>
          <a:xfrm>
            <a:off x="357120" y="357120"/>
            <a:ext cx="4071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ощадь Гага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мятник открыт 4 июля 1980 г. Колонна находится по центру круглой площадки-подиума, облицованной полированными плитами черного гранита. Рядом - серебристый шар, макет космического корабля `Восток`. На шаре литая надпись в память первого космического поле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ульптор П. Бондаренко, арх. Я. Белопольский, Ф. Гажевский, конструктор А. Суда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539640" y="333360"/>
            <a:ext cx="3961080" cy="3164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4646520" y="692280"/>
            <a:ext cx="4497480" cy="3400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1187280" y="3446640"/>
            <a:ext cx="4537080" cy="3411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ервого полёта человека в космос стали учитываться космические рекорды по продолжительности полёта, дальности, высоте, поднятой на высоту массе, времени пребывания членов экипажа вне корабля. Большинство рекордов сегодня принадлежит отечественным космонавта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5480" y="28584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 февраля 1955 года принято постановление Правительства СССР о строительстве полигона для проведения испытаний межконтинентальных баллистических ракет. Космодром Байконур решили построить в Казахстане. С 1957 года Байконур первый и крупнейший космодром в мир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D:\РАЗНЫЕ КАРТИНКИ\открытки\день космонавтики\байконур.jpg"/>
          <p:cNvPicPr/>
          <p:nvPr/>
        </p:nvPicPr>
        <p:blipFill>
          <a:blip r:embed="rId2"/>
          <a:stretch/>
        </p:blipFill>
        <p:spPr>
          <a:xfrm>
            <a:off x="428760" y="1785960"/>
            <a:ext cx="828648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:\РАЗНЫЕ КАРТИНКИ\открытки\день космонавтики\4b04563755c9c.jpg"/>
          <p:cNvPicPr/>
          <p:nvPr/>
        </p:nvPicPr>
        <p:blipFill>
          <a:blip r:embed="rId2"/>
          <a:stretch/>
        </p:blipFill>
        <p:spPr>
          <a:xfrm>
            <a:off x="357120" y="357120"/>
            <a:ext cx="2043360" cy="2928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:\РАЗНЫЕ КАРТИНКИ\открытки\день космонавтики\206sew.jpg"/>
          <p:cNvPicPr/>
          <p:nvPr/>
        </p:nvPicPr>
        <p:blipFill>
          <a:blip r:embed="rId3"/>
          <a:stretch/>
        </p:blipFill>
        <p:spPr>
          <a:xfrm>
            <a:off x="2714760" y="4572000"/>
            <a:ext cx="2646360" cy="188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D:\РАЗНЫЕ КАРТИНКИ\открытки\день космонавтики\428px-Soviet_Union-1965-Stamp-0.12._Cosmonautics_Day_2.jpg"/>
          <p:cNvPicPr/>
          <p:nvPr/>
        </p:nvPicPr>
        <p:blipFill>
          <a:blip r:embed="rId4"/>
          <a:stretch/>
        </p:blipFill>
        <p:spPr>
          <a:xfrm>
            <a:off x="6713640" y="3500280"/>
            <a:ext cx="2163600" cy="304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РАЗНЫЕ КАРТИНКИ\открытки\день космонавтики\620px-1968._День_космонавтики_(марка_3).jpg"/>
          <p:cNvPicPr/>
          <p:nvPr/>
        </p:nvPicPr>
        <p:blipFill>
          <a:blip r:embed="rId5"/>
          <a:stretch/>
        </p:blipFill>
        <p:spPr>
          <a:xfrm>
            <a:off x="2786040" y="357120"/>
            <a:ext cx="2067120" cy="2000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D:\РАЗНЫЕ КАРТИНКИ\открытки\день космонавтики\a5ac8b05d42d.jpg"/>
          <p:cNvPicPr/>
          <p:nvPr/>
        </p:nvPicPr>
        <p:blipFill>
          <a:blip r:embed="rId6"/>
          <a:stretch/>
        </p:blipFill>
        <p:spPr>
          <a:xfrm>
            <a:off x="357120" y="3571920"/>
            <a:ext cx="2008080" cy="296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D:\РАЗНЫЕ КАРТИНКИ\открытки\день космонавтики\i41lvj.jpg"/>
          <p:cNvPicPr/>
          <p:nvPr/>
        </p:nvPicPr>
        <p:blipFill>
          <a:blip r:embed="rId7"/>
          <a:stretch/>
        </p:blipFill>
        <p:spPr>
          <a:xfrm>
            <a:off x="6715080" y="198360"/>
            <a:ext cx="2000160" cy="2778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D:\РАЗНЫЕ КАРТИНКИ\открытки\день космонавтики\xmkom10 (8).gif"/>
          <p:cNvPicPr/>
          <p:nvPr/>
        </p:nvPicPr>
        <p:blipFill>
          <a:blip r:embed="rId8"/>
          <a:stretch/>
        </p:blipFill>
        <p:spPr>
          <a:xfrm>
            <a:off x="3714840" y="2500200"/>
            <a:ext cx="2657520" cy="192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12000" y="277920"/>
            <a:ext cx="2674800" cy="43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бор продуктов для космонав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796000" cy="666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459640" cy="6249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0" y="-1025280"/>
            <a:ext cx="6984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28760" y="42876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октября 1957 года наша страна запустила на орбиту первый искусственный спутник Земли (Спутник-1). Он находился на орбите 92 дня с 4 октября 1957 года по 4 января 1958 года, за этот период совершил 1400 оборотов вокруг Земли. На каждый виток вокруг Земли уходило около 100 минут. Затем спутник сгорел в атмосфере Зем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D:\РАЗНЫЕ КАРТИНКИ\открытки\день космонавтики\спутник.jpg"/>
          <p:cNvPicPr/>
          <p:nvPr/>
        </p:nvPicPr>
        <p:blipFill>
          <a:blip r:embed="rId2"/>
          <a:stretch/>
        </p:blipFill>
        <p:spPr>
          <a:xfrm>
            <a:off x="1214280" y="2643120"/>
            <a:ext cx="6500880" cy="38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57120" y="428760"/>
            <a:ext cx="842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октября 1957 года считается началом космической э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честь этого события в 1964 году в Москве был сооружен 99-метровый обелиск «Покорителям космоса» в виде взлетающей ракеты, оставляющей за собой огненный шлейф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D:\РАЗНЫЕ КАРТИНКИ\открытки\день космонавтики\обелиск.jpg"/>
          <p:cNvPicPr/>
          <p:nvPr/>
        </p:nvPicPr>
        <p:blipFill>
          <a:blip r:embed="rId2"/>
          <a:stretch/>
        </p:blipFill>
        <p:spPr>
          <a:xfrm>
            <a:off x="1714680" y="2000160"/>
            <a:ext cx="5786280" cy="453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:\РАЗНЫЕ КАРТИНКИ\открытки\день космонавтики\1224272004_8007.jpg"/>
          <p:cNvPicPr/>
          <p:nvPr/>
        </p:nvPicPr>
        <p:blipFill>
          <a:blip r:embed="rId2"/>
          <a:stretch/>
        </p:blipFill>
        <p:spPr>
          <a:xfrm>
            <a:off x="214200" y="214200"/>
            <a:ext cx="3929040" cy="642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:\РАЗНЫЕ КАРТИНКИ\открытки\день космонавтики\лайка.jpg"/>
          <p:cNvPicPr/>
          <p:nvPr/>
        </p:nvPicPr>
        <p:blipFill>
          <a:blip r:embed="rId3"/>
          <a:stretch/>
        </p:blipFill>
        <p:spPr>
          <a:xfrm>
            <a:off x="4262400" y="214200"/>
            <a:ext cx="4667400" cy="35006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4286160" y="4233960"/>
            <a:ext cx="4714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ым животным, выведенным на орбиту Земли, была собака Лайка. Она была запущена в космос 3 ноября 1957 года в половине шестого утра по московскому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D:\РАЗНЫЕ КАРТИНКИ\открытки\день космонавтики\belka-strelka-crop.jpg"/>
          <p:cNvPicPr/>
          <p:nvPr/>
        </p:nvPicPr>
        <p:blipFill>
          <a:blip r:embed="rId2"/>
          <a:stretch/>
        </p:blipFill>
        <p:spPr>
          <a:xfrm>
            <a:off x="1357200" y="2357280"/>
            <a:ext cx="6643800" cy="4113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428760" y="285840"/>
            <a:ext cx="8215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 августа 1960 года в космос летали собаки Белка и Стрелка, это были первые животные, которые  благополучно вернулись  из космического полета. После суточного полета они были возвращены на Землю в катапультируемой капсуле и стали мировыми знаменитост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7120" y="285840"/>
            <a:ext cx="835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 апреля 1961 года в 9 часов 7 минут Советский Союз вывел на орбиту Земли космический корабль-спутник `Восток` с человеком на борт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D:\РАЗНЫЕ КАРТИНКИ\открытки\день космонавтики\восток.jpg"/>
          <p:cNvPicPr/>
          <p:nvPr/>
        </p:nvPicPr>
        <p:blipFill>
          <a:blip r:embed="rId2"/>
          <a:stretch/>
        </p:blipFill>
        <p:spPr>
          <a:xfrm>
            <a:off x="500040" y="1357200"/>
            <a:ext cx="8143920" cy="507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D:\РАЗНЫЕ КАРТИНКИ\открытки\день космонавтики\Juri_Gagarin_3.jpg"/>
          <p:cNvPicPr/>
          <p:nvPr/>
        </p:nvPicPr>
        <p:blipFill>
          <a:blip r:embed="rId2"/>
          <a:stretch/>
        </p:blipFill>
        <p:spPr>
          <a:xfrm>
            <a:off x="857160" y="1185840"/>
            <a:ext cx="7532640" cy="5243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785960" y="500040"/>
            <a:ext cx="585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Это был Юрий Алексеевич Гагар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kyanovЫ</dc:creator>
  <dc:description/>
  <dc:language>en-US</dc:language>
  <cp:lastModifiedBy>ПТАШКА</cp:lastModifiedBy>
  <dcterms:modified xsi:type="dcterms:W3CDTF">2012-03-30T09:03:36Z</dcterms:modified>
  <cp:revision>70</cp:revision>
  <dc:subject/>
  <dc:title>День космонавтики</dc:title>
</cp:coreProperties>
</file>