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677-63B5-4421-A1D9-9ECCAE54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779-0532-4B29-BFBC-D658E32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9B4-28F9-46C3-BFB9-ECC4320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C58-BC60-4A06-9E79-808AF7A9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2534-C3F9-4E80-8F77-70E0B5C5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1DD7-D5FD-4794-83B1-3BE6979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BDB-063C-4767-B707-88675637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4121-22FD-4D73-85D1-BE65252A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295A-B6A2-41CD-A6DB-0B1655E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2E4-E56A-4D7C-B820-285C1F8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F2D-BBE6-4149-AFC2-4E40EE1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93B-D3FC-4025-9243-865157F8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F7E9-0B65-4F8D-89C6-33D6E595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F2F1-269A-4B2C-9964-A468F34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8714-A2E2-4562-A7D0-9416C85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F68D-C505-46BE-97F1-C5DB3465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923-9D92-431E-9B99-D3D509F1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EC5-76B5-4353-9ECB-CE5158C8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C60-98F7-4A4A-BC84-25D27A3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165-68E9-4D55-8D2F-FF4A61D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776-7481-4077-B105-15BF1A39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170-9503-49C6-AF24-AE85605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A6F-2B13-450D-BC3B-C1E8FB8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79A-D4ED-49E9-9856-D37AE1A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279-F129-4E89-9B54-8C21C54B338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FF7-A445-4C11-AC48-5DAB994655C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ная деятельность учителя</a:t>
            </a:r>
            <a:endParaRPr b="0" lang="en-US" sz="80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Проект «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словицы</a:t>
            </a: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 в современном мире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олнить активный словарный запас учащихся пословиц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очнить смысл и значение каждой из них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применять их в реч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 создать книгу – сборник «Любимые пословицы», в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й собрать тематические пословицы русского народа и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, придуманные ученик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толкование пословицам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совать к пословицам иллюстраци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диагностику уровня знаний пословиц у детей 5 классов 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оценку полученных результатов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ть решения и соответствующие мероприятия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 школьников самостоятельно искать необходимую информацию с использованием различных источников, обмениваться информацией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способности учеников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рукописный вариант книги «Любимые пословицы ученико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его класса»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о его оформит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блемный вопрос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ождаются пословицы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та в группах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знаки и функции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народов мир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ие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времен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с поэтическим и прозаическим складом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о пословица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источников происхождения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й и переносный смысл послов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детских исследований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книги пословиц, в которой каждый ученик представляет свою страницу (пословица, толкование, иллюстрация)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: урок – презентация «Пословицы в современном мире»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Palatino Linotype"/>
              </a:rPr>
              <a:t>«ГЕНИЙ И ЗЛОДЕЙСТВО - ДВЕ ВЕЩИ НЕСОВМЕСТНЫЕ»?              </a:t>
            </a:r>
            <a:r>
              <a:rPr b="1" i="1" lang="ru-RU" sz="1800" spc="-1" strike="noStrike">
                <a:solidFill>
                  <a:srgbClr val="212745"/>
                </a:solidFill>
                <a:latin typeface="Palatino Linotype"/>
              </a:rPr>
              <a:t>Урок-проект по произведению А.С.Пушкина «Моцарт и Сальери» (2 часа) </a:t>
            </a:r>
            <a:br>
              <a:rPr sz="4900"/>
            </a:br>
            <a:endParaRPr b="0" lang="en-US" sz="1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571400"/>
            <a:ext cx="8229600" cy="48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ь общечеловеческий смысл пьесы , идейно-художественное своеобразие драматического произведения, авторскую позицию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-проек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оизведению А.С.Пушкина «Моцарт и Сальери»: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личнос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и совершенствование  готовности и способности учащихся к определению своей жизненной и нравственной позиции, формирование мотивации к оценке своих поступков в среде  межличностных отношений на примере отношения к проблематике литературного произведения 19 века, ценностно-смысловых установок, способности ставить цели и строить жизненные планы, опираясь на этические нормы человеческих взаимоотношений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мета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учающимися межпредметных понятий и универсальных учебных действий (регулятивные, познавательные, коммуникативные), их использование в жизни, развитие самостоятельности и умения работать в группах,  сотрудничества с педагогами и сверстниками, способности к построению индивидуального образовательного маршрута, освоение навыков учебно-исследовательской, проектной деятельности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анализу драматического произведения, умению работать с текстом художественного произведения, сравнительной характеристике, совершенствование работы над проектом, формирование научного типа мышления, владение научной терминологией, ключевыми понятиями, методами и приёмами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Palatino Linotype"/>
              </a:rPr>
              <a:t>Предварительная работа по проекту.                                                              Домашнее задание(по </a:t>
            </a: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группам</a:t>
            </a:r>
            <a:r>
              <a:rPr b="1" lang="ru-RU" sz="2400" spc="-1" strike="noStrike">
                <a:solidFill>
                  <a:srgbClr val="212745"/>
                </a:solidFill>
                <a:latin typeface="Palatino Linotype"/>
              </a:rPr>
              <a:t> дается заранее): </a:t>
            </a:r>
            <a:br>
              <a:rPr sz="4900"/>
            </a:br>
            <a:br>
              <a:rPr sz="4900"/>
            </a:br>
            <a:endParaRPr b="0" lang="en-US" sz="2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трагедию А.С.Пушкина «Моцарт и Сальери»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я (с использованием мультимедийных технологий) по темам (по 4 минуты)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текст трагед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 материал сообщений (домашнего задания) для работы по проекту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вехи жизненного и творческого пути А.С.Пушкина, определить его позицию в отношении гениальности и злодей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ою позицию по теме и аргументировать е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8000" y="1000080"/>
          <a:ext cx="8856720" cy="4876920"/>
        </p:xfrm>
        <a:graphic>
          <a:graphicData uri="http://schemas.openxmlformats.org/drawingml/2006/table">
            <a:tbl>
              <a:tblPr/>
              <a:tblGrid>
                <a:gridCol w="804960"/>
                <a:gridCol w="804600"/>
                <a:gridCol w="804960"/>
                <a:gridCol w="806400"/>
                <a:gridCol w="804960"/>
                <a:gridCol w="804960"/>
                <a:gridCol w="804600"/>
                <a:gridCol w="804960"/>
                <a:gridCol w="806400"/>
                <a:gridCol w="804960"/>
                <a:gridCol w="804960"/>
              </a:tblGrid>
              <a:tr h="20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альн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ды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м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тере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новные темы твор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юбовь в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му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Бо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создан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00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С.Пу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ц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ль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4"/>
          <p:cNvSpPr/>
          <p:nvPr/>
        </p:nvSpPr>
        <p:spPr>
          <a:xfrm>
            <a:off x="357120" y="285840"/>
            <a:ext cx="82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ются сообщения учеников (в ходе их выступлений используются материал презентаций, включающих портреты А.Пушкина, Моцарта, Сальери)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словарем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оведческих термин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рагедия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трагед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толкование сл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дей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цель проекта? Как будем ее достигать? Какой продукт произведем? Насколько эта тема актуальна в наше время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ники формулируют сами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– исследовать текст трагедии и выяснить авторскую позицию, соотнести с современным представлением о гениальности  и злодействе, обосновав актуальность данного произведения в 21 веке. </a:t>
            </a:r>
            <a:br>
              <a:rPr sz="1600"/>
            </a:br>
            <a:endParaRPr b="0" lang="en-US" sz="16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00040" y="1500120"/>
          <a:ext cx="8229600" cy="483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ц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алье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, нет спеси, чванства; ценит дружбу, щедр, доверчив; обладает чувством юмора и т.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ует глубоко обиду; горд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сл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музыке говорит сдержанно, что он работает по ночам, что это огромная внутренняя работа, мучительный и томительный труд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бя считает избранным, жрецом в искусстве; ему кажется оскорбительным, что простой скрипач играет Моцарта. Главный смысл его жизни – музыка, всё остальное – «праздные забавы». Добился искусной игры ежедневной работой, «алгеброй поверил гармонию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Б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жи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 насыщенной, наполненной жизнью. Открыт людям, радостен. Предупредителен с женой, любит сы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ён, что правды нет ни на земле, ни на небе…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, что «мало жизнь люблю…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ебрежительное отношение к простым люд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друг к д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ит талант Сальери; считает его сыном гармо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мневается в его гениальности, но считает, что «недостоин сам себя», называет «гулякой праздны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Варианты 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омашнего</a:t>
            </a: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 задания (завершающий этап проекта)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28576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браз гения всех времен и народов (на основе маленькой трагедии А.Пушкина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эссе на темы : «Тварь я дрожащая или право имею?», «К чему приводит гениальное злодейство?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олученные знания, создать проект  «Сильные мира сего: гении или злодеи?» (Наполеон, Гитлер, Ленин, др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70c0"/>
                </a:solidFill>
                <a:latin typeface="Palatino Linotype"/>
              </a:rPr>
              <a:t>Проект «Словарные слова»</a:t>
            </a:r>
            <a:br>
              <a:rPr sz="4900"/>
            </a:br>
            <a:endParaRPr b="0" lang="en-US" sz="49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1.</a:t>
            </a: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слово, поставь ударе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 количество букв, звуков, слогов в слов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ть, где написание расходится с произношение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«Толковом словаре» и выпиши лексическое значение слов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редложение со слово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иши из словаря или подбери сам родственные слов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слова, обозначающие действие этого предмет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слова, обозначающие признак этого предмета. Или – подбери слова, которые можно употреблять вместе с данным слово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художественной литературе предложение или отрывок из стихотворения с этим слово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пословицы, поговорки с этим слово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 прощание…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Творите, дерзайте, экспериментируйте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Не ошибается только тот, кто ничего не делает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333360"/>
          <a:ext cx="8712000" cy="6620040"/>
        </p:xfrm>
        <a:graphic>
          <a:graphicData uri="http://schemas.openxmlformats.org/drawingml/2006/table">
            <a:tbl>
              <a:tblPr/>
              <a:tblGrid>
                <a:gridCol w="4608360"/>
                <a:gridCol w="4103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иши слово, поставь уда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вѐд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редели количество букв, звуков, слогов в слов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меть, где написание расходится с произношени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йди в «Толковом словаре» и выпиши лексическое значение сл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ь предложение со слов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пиши из словаря или подбери сам родственные сл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и слова, обозначающие действие этого предм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и слова, обозначающие признак этого предмета. Или – подбери слова, которые можно употреблять вместе с данным слов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йди в художественной литературе предложение или отрывок из стихотворения с этим слов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йди пословицы, поговорки с этим слов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Palatino Linotype"/>
              </a:rPr>
              <a:t>Образец </a:t>
            </a: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5400" spc="-1" strike="noStrike">
                <a:solidFill>
                  <a:srgbClr val="0070c0"/>
                </a:solidFill>
                <a:latin typeface="Palatino Linotype"/>
              </a:rPr>
              <a:t> ученика</a:t>
            </a:r>
            <a:br>
              <a:rPr sz="5400"/>
            </a:b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ѐдь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едь – 7 б., 6 зв., 2 с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ь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едь – крупное хищное животное с длинной шерстью и короткими ногам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едь ест малин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едь – медвежонок, медведица, медвежь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дит, охотится, спит,  ревет, добывает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ый, белый, гималайский, злой, сильный, олимпийски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ет медведь между елками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едет медведь между березками,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вражки спускается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ригорки поднимаетс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ведь на ухо наступил. Медвежья услуг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мысл</a:t>
            </a:r>
            <a:r>
              <a:rPr b="0" lang="ru-RU" sz="5400" spc="-1" strike="noStrike">
                <a:solidFill>
                  <a:srgbClr val="212745"/>
                </a:solidFill>
                <a:latin typeface="Palatino Linotype"/>
              </a:rPr>
              <a:t> работы?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я над подобным мини – проектом, школьник учится планировать свою деятельность с помощью предложенного алгоритма, получая желаемый результат. Работая с информацией, ученик овладевает определенными навыками: умение работать со справочной литературой, ставить цель и планировать свою работу и т.п. Наработанный материал используем для словарно – орфографической работы на уроках: диктант по памяти, диктант с использованием загадок, творческие диктант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Palatino Linotype"/>
              </a:rPr>
              <a:t>Работаем над проектом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ые темы учебных проектов: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я говорю и пишу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сные и согласные бывают такие опасные …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и – «двойняшки»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поставить ударение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да ли мягкий мягкий знак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вняя письменность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уда растет корень слова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атые слова и выражения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ительные Ь и Ъ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арстве трёх склонений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что похоже наречие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части речи я знаю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азличать омонимы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разные синонимы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йны морфемы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в современном мире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мствованные слова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Palatino Linotype"/>
              </a:rPr>
              <a:t>Давайте побудем детьми!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 «Крылатые слова и выражения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«Пословицы в современном мире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Определите цель, задачи, проблему проекта, составьте план работы над проектом, поделитесь на группы, определите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Palatino Linotype"/>
              </a:rPr>
              <a:t>Проект  «Крылатые слова и выражения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едусматривает организацию самостоятельных детских исследований, направленных на получение знаний о богатстве родной речи, о русском языке как исключительной ценности в жизни общества, каждого отдельного человек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 прививать любовь и уважение к родному язык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я и навыки самостоятельной работы с разными источниками информации, развивать умения анализировать информацию, выделять главное, обобщать и делать вывод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структурировать информацию, правильно излагать свои мысли устно и письменно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у детей навыки работы в групп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ить представления детей о родном языке, о его многообрази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в группах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кроссворда «Речь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ние «Что любят читать мои одноклассники?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готовление буклета «Эти многоликие слова» (однозначные слова, многозначные слова, прямое и переносное значение слов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мультимедийной презентации «Крылатые слова и выражения». (Какие слова и выражения называют «крылатыми»? Почему? Что такое фразеологизмы? Как они вошли в нашу речь? Рождаются фразеологизмы в наше время?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работы: кроссворд, таблица с результатами исследований, буклеты, электронная презентаци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лушивание устных сообщений по результатам работы каждой групп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атериалов проекта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изучении ряда тем по русскому языку («Лексическое значение слова», «Однозначные и многозначные слова», «Прямое и переносное значение слова», «Крылатые слова и выражения»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неклассной работе (при проведении викторин, читательских конференций, КВН и т.п.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1:40:05Z</dcterms:created>
  <dc:creator>Alexandr</dc:creator>
  <dc:description/>
  <dc:language>en-US</dc:language>
  <cp:lastModifiedBy>Галина Лисина</cp:lastModifiedBy>
  <dcterms:modified xsi:type="dcterms:W3CDTF">2022-11-06T16:36:56Z</dcterms:modified>
  <cp:revision>15</cp:revision>
  <dc:subject/>
  <dc:title>Проектная деятельность учителя</dc:title>
</cp:coreProperties>
</file>