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883-35DF-43F1-A816-76952FC1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174-9189-4D6F-9BF7-6783026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C3C-71A7-4A1D-935B-1D624414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1BA-A72C-4A70-98C7-30201BF8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E76-D409-4C0A-846F-A24DE220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EA4-66B5-4F4F-970A-2AB977F6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827-08BA-44EA-B360-A421F75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FDB-A188-42DA-B0AE-963AB15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CE5-7C84-4C95-9BE9-70B13C5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589-35E4-438F-A1D3-223289C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36A-1A12-4D63-8103-9DC11F1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047-F706-470E-AB15-6FE3B2B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81A-FCF8-4D5E-BABC-487066E2B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865160" y="1785960"/>
            <a:ext cx="54136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135000" y="2192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206800" y="700200"/>
            <a:ext cx="473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ПЛАН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ОЧИНЕНИЯ-ПОВЕСТВ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238400" y="1714680"/>
            <a:ext cx="72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066680" y="1952640"/>
            <a:ext cx="579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уп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ие действий – завязка (поступки героев и причины этих поступ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льминация (самый напряженный момент сюжета)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лючение (развяз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5477040" y="4224240"/>
            <a:ext cx="3095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96840" y="333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206800" y="700200"/>
            <a:ext cx="473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 чего начать работу над сочинением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000080" y="1886040"/>
            <a:ext cx="7496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.Продумай название. Чтобы это сделать, нужно точно определить, о чём пойдёт речь в сочин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.Сформулируй, вырази основную мысль сочинения. Чтобы это сделать, нужно ответить на вопрос: что я хочу сказать своей работой, к какому выводу должен прий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.Определи жанр своего сочинения (это может быть сочинение – описание, повествование, рассуждени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.Составь план (обрати внимание на соразмерность частей – вступление и заключение намного короче основной ча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6691320" y="5672160"/>
            <a:ext cx="1450800" cy="101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1287360" y="5629320"/>
            <a:ext cx="14050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68200" y="59832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238400" y="1714680"/>
            <a:ext cx="72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066680" y="2028960"/>
            <a:ext cx="723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СПАСИБО ЗА ВНИМАНИЕ!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ВСЕМ УДАЧНЫХ СОЧИНЕНИЙ!!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2"/>
          <a:stretch/>
        </p:blipFill>
        <p:spPr>
          <a:xfrm>
            <a:off x="4070520" y="4443480"/>
            <a:ext cx="399096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Что такое сочинение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000080" y="1628640"/>
            <a:ext cx="7372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ОЧИНЕНИЕ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изложение в письменной форме своих мыслей, знаний на заданную 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Сочин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– это небольшое произведение. Поэтому оно должно быть написано по установленным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АВИЛ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-Сочинение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олжно соответствовать теме, раскрывать её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Текст должен быть содержательным, грамотным, без ошибок, в одном сти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Слова должны быть употреблены в правильном знач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Изложение мысли в сочинении должно быть последовательным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4680" y="-8568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Заголовок сочи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000080" y="141912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е сочинение должно иметь название, которое отражает содержание всего сочинения в целом, но кратк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arhivurokov.ru/multiurok/html/2016/12/25/s_585fe37d6f130/514417_2.jpeg"/>
          <p:cNvPicPr/>
          <p:nvPr/>
        </p:nvPicPr>
        <p:blipFill>
          <a:blip r:embed="rId2"/>
          <a:stretch/>
        </p:blipFill>
        <p:spPr>
          <a:xfrm>
            <a:off x="1382760" y="2468520"/>
            <a:ext cx="635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87480" y="2379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ОЧИНЕНИЕ-ОПИС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885960" y="1314360"/>
            <a:ext cx="7610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Это текст, в котором названы ПРИЗНАКИ предмета, человека или животного. Оно отвечает на вопрос «КАКОЙ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этому для текста – описания нужны имена прилагательные. Помогают сравнения с чем – либо</a:t>
            </a:r>
            <a:r>
              <a:rPr b="1" lang="ru-RU" sz="2000" spc="-1" strike="noStrike">
                <a:solidFill>
                  <a:srgbClr val="44546a"/>
                </a:solidFill>
                <a:latin typeface="Calibri"/>
              </a:rPr>
              <a:t>. Используй слова «КАК БУДТО», «КАК», «СЛОВНО», «ПОХОЖ Н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 описании мало действия, движения. Оно дается для того, чтобы читатель смог «увидеть» то, что видел ты; чтобы читатель испытывал те же чувства, что и 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5181480" y="4183200"/>
            <a:ext cx="26481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87480" y="2379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План сочинения-опис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000080" y="1628640"/>
            <a:ext cx="67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Представление предмета (человека, животног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Основные признак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Твоя оценка, твоё отношение к предм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Твоё заключение (выво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4543560" y="4395960"/>
            <a:ext cx="3429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5920" y="2570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ОЧИНЕНИЕ- РАСС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809640" y="1859040"/>
            <a:ext cx="779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Это текст, в котором даётся ОБЪЯСНЕНИЕ какому – либо явлению, событию, проводятся размышления о предмете. Текст отвечает на вопрос «ПОЧЕМУ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чему это 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чему это произошло, случилос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чему та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3733920" y="5275440"/>
            <a:ext cx="4133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24768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206800" y="700200"/>
            <a:ext cx="473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ПЛАН СОЧИНЕНИЯ-РАС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285920" y="171468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Вступ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Тезис(ы) (то, о чём хочешь рассказа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Аргументы (доказательство тезиса): доводы, примеры, случаи, факты, цифры, мнения других людей, цита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Вывод(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5038560" y="4124160"/>
            <a:ext cx="27622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87480" y="2379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2206800" y="700200"/>
            <a:ext cx="47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ОЧИНЕНИЕ-ПОВЕСТВ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1181160" y="1868400"/>
            <a:ext cx="71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Это сочинение отвечает на вопросы: «КТО? ЧТО ДЕЛАЛ? ГДЕ? КОГДА? КАК?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вная особенность такого текста – СООБЩЕНИЕ о развивающихся действиях и об их заверш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повествовании много глаголов. </a:t>
            </a:r>
            <a:r>
              <a:rPr b="1" lang="ru-RU" sz="2400" spc="-1" strike="noStrike">
                <a:solidFill>
                  <a:srgbClr val="44546a"/>
                </a:solidFill>
                <a:latin typeface="Calibri"/>
              </a:rPr>
              <a:t>Используй слова: «СНАЧАЛА», «ПОТОМ», «ЗАТЕМ», «ТОГДА», «СНОВА», «ЕЩЁ», «УЖ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4638600" y="4219560"/>
            <a:ext cx="3733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63440" y="514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085840" y="1181160"/>
            <a:ext cx="48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Garamond Premr Pro Smbd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Garamond Premr Pro Smbd"/>
                <a:ea typeface="Tahoma"/>
              </a:rPr>
              <a:t>СЮЖЕТ-это последовательность развития действия, ход собы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000080" y="16286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885960" y="131436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085760" y="2171880"/>
            <a:ext cx="712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СТУПЛЕНИЕ (место, время действ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-НАЧАЛО ДЕЙСТВИЯ (завяз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-КУЛЬМИНАЦИЯ (самый напряженный моме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-КОНЕЦ ДЕЙСТВИЯ (развяз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6145200" y="4114800"/>
            <a:ext cx="23511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Пользователь</cp:lastModifiedBy>
  <dcterms:modified xsi:type="dcterms:W3CDTF">2022-11-06T13:35:13Z</dcterms:modified>
  <cp:revision>51</cp:revision>
  <dc:subject/>
  <dc:title>Презентация PowerPoint</dc:title>
</cp:coreProperties>
</file>