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47B-A265-4666-9851-76C342B9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8BD-29E7-4FCF-99BE-F6565FD4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C7F-9EDB-4F99-9A2D-03F2F94C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A52-7056-437F-A5A3-7AC84EF0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2258-65F7-43CF-BD44-E459C536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A777-C3EE-489A-841B-5D8EA2F2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9EE-9DD3-45B5-BF18-1BFD413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7F86-046D-4991-AA83-6B4F4FB3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F29-ECF4-4331-9B64-CEA6622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36A-33F9-49E3-A9F9-3501E45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C590-05C5-4240-84CC-375EE9E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256-BB94-49C0-A4DA-1BF0083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130-166F-4824-B133-6377B74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A14A-F7D0-4229-8F67-2BF79EB0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0F77-A0B4-42D2-995A-546D347E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6416-24D6-477F-98CD-0B0422E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C644-E5FF-4131-BF88-D6BF88C1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8766-86B8-4244-BE28-C17FF5B8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1F9D-ED83-497D-AE0D-36910A10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0C11-2979-413E-AB94-83DC3051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266C3-AEAC-4597-8F72-E26CA31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69C1-A3A1-4D78-B3EB-9F62105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9F-866A-470E-BA63-731F483A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59E3-9C16-4129-8F0A-C37AC3A9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A8D0-E398-48C2-9702-CF682CB0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9442-C04C-4139-B663-ED8B28E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10B6-5B7B-44CA-93DB-70DF436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F0B4-9E34-4487-A85B-DC6BC88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580C-E994-4398-8E30-1F98D0D5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0C5A-319F-4601-A8F7-1B7CD0F3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47A7-6FDC-440A-858B-7C8125B0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0C59-7B37-4E54-AD2D-D99F6613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759A-015A-48D5-A0CB-ACD380C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3BE-1B9B-4736-B2B3-07FA22D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DB93-8DFC-4D06-8E80-DE5CF426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3829-867C-4C2C-B801-375FB5E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A0F2-1569-45E2-84E8-F03A0C7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8061-26DE-4727-8526-FBDBA18D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8789-97A7-4FFE-A951-D25B31C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2252-F2DE-41E1-9340-7B0F458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3AE9-DF0A-4854-BBD5-82F983F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05FD-5E92-4D80-9F3C-BB25FCB4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6DD2A-BC59-4BA4-AED4-192A4E1B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5FF9-02AB-4826-A322-238E71BF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150-85FC-4BC7-8322-F85F761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8D43-B250-45EF-921C-1854F93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D5D4-5FD9-434E-BD44-4258B23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A787-05AC-411D-80B8-ACC33469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FE51-974D-4762-8537-732E1B7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D88D-5AA3-43E6-8D9D-DF60E74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46EA-1850-451D-A823-D77778F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E5B2-0BD1-4568-9AA6-57A0657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A84A-1274-41A2-B809-E3311D6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FCB0B-5C0E-46F2-83FC-2CA4472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8557-A132-4F89-8DCB-B241E4E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4E5-15A9-4818-A6DB-C573E2D6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14D9-6B00-4915-9963-1ADDCD04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145-462F-403B-9F12-0DC26A6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2C3-8910-43D1-A90B-27FFE73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00A-D14E-423B-8963-8E32D1F2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1B1B-3DF3-4F04-803D-EE459B502415}" type="slidenum">
              <a:rPr b="0" lang="fr-FR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A89-9787-4E29-99F1-DA04B425F445}" type="slidenum">
              <a:rPr b="0" lang="fr-FR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5A15-744E-4452-9E85-857F55F0BAE1}" type="slidenum">
              <a:rPr b="0" lang="fr-FR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2F3F-15D7-4D10-A092-9464BE5BF2C2}" type="slidenum">
              <a:rPr b="0" lang="fr-FR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393-C10E-416C-B57A-01385B0032DC}" type="slidenum">
              <a:rPr b="0" lang="fr-FR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03280" y="2382840"/>
          <a:ext cx="8211960" cy="354636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67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то я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то я ХОЧУ 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то я 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62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89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ЧЕГО ЗАВИСИТ СКОРОСТЬ, СИЛА,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89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НАБЛЮДЕНИЯ ЗА ВЕТ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</a:tbl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ТЕР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WordArt 4" descr=""/>
          <p:cNvPicPr/>
          <p:nvPr/>
        </p:nvPicPr>
        <p:blipFill>
          <a:blip r:embed="rId1"/>
          <a:stretch/>
        </p:blipFill>
        <p:spPr>
          <a:xfrm>
            <a:off x="1859040" y="628560"/>
            <a:ext cx="5194080" cy="1028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500040" y="1557360"/>
            <a:ext cx="8032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ОЗДУХА В ГОРИЗОН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1835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ВЕТР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1571760" y="3071880"/>
            <a:ext cx="5527080" cy="1617840"/>
            <a:chOff x="1571760" y="3071880"/>
            <a:chExt cx="5527080" cy="1617840"/>
          </a:xfrm>
        </p:grpSpPr>
        <p:sp>
          <p:nvSpPr>
            <p:cNvPr id="226" name="Text Box 4"/>
            <p:cNvSpPr/>
            <p:nvPr/>
          </p:nvSpPr>
          <p:spPr>
            <a:xfrm>
              <a:off x="1571760" y="3071880"/>
              <a:ext cx="13363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002060"/>
                  </a:solidFill>
                  <a:latin typeface="Arial"/>
                </a:rPr>
                <a:t>Н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5762520" y="3071880"/>
              <a:ext cx="13363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143520" y="3643560"/>
              <a:ext cx="2124720" cy="410400"/>
            </a:xfrm>
            <a:prstGeom prst="leftArrow">
              <a:avLst>
                <a:gd name="adj1" fmla="val 50000"/>
                <a:gd name="adj2" fmla="val 9398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5"/>
          <p:cNvSpPr/>
          <p:nvPr/>
        </p:nvSpPr>
        <p:spPr>
          <a:xfrm>
            <a:off x="714240" y="4857840"/>
            <a:ext cx="7848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ИЗ</a:t>
            </a:r>
            <a:r>
              <a:rPr b="1" lang="ru-RU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(фр.) -   легкий вете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28760" y="5357880"/>
            <a:ext cx="8286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c3af8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ТЕР, МЕНЯЮЩИЙ НАПРАВЛЕНИЕ 2 РАЗА В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6" descr="1651049371_4-vsegda-pomnim-com-p-bereg-morya-foto-5.jpg"/>
          <p:cNvPicPr/>
          <p:nvPr/>
        </p:nvPicPr>
        <p:blipFill>
          <a:blip r:embed="rId1"/>
          <a:stretch/>
        </p:blipFill>
        <p:spPr>
          <a:xfrm>
            <a:off x="384120" y="858960"/>
            <a:ext cx="4132440" cy="2944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14324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0" y="861840"/>
            <a:ext cx="28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16   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98280" y="1220760"/>
            <a:ext cx="28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60 ММ.РТ.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098800" y="3166920"/>
            <a:ext cx="28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8 ММ РТ.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362320" y="2770200"/>
            <a:ext cx="28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 rot="11067000">
            <a:off x="1126800" y="2642760"/>
            <a:ext cx="2025720" cy="376200"/>
          </a:xfrm>
          <a:prstGeom prst="leftArrow">
            <a:avLst>
              <a:gd name="adj1" fmla="val 50000"/>
              <a:gd name="adj2" fmla="val 9979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9" descr="1651049371_4-vsegda-pomnim-com-p-bereg-morya-foto-5.jpg"/>
          <p:cNvPicPr/>
          <p:nvPr/>
        </p:nvPicPr>
        <p:blipFill>
          <a:blip r:embed="rId2"/>
          <a:stretch/>
        </p:blipFill>
        <p:spPr>
          <a:xfrm>
            <a:off x="4572000" y="3024360"/>
            <a:ext cx="4224240" cy="3004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9"/>
          <p:cNvSpPr/>
          <p:nvPr/>
        </p:nvSpPr>
        <p:spPr>
          <a:xfrm>
            <a:off x="-60480" y="1508040"/>
            <a:ext cx="2881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478560" y="3716280"/>
            <a:ext cx="28814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e0d"/>
                </a:solidFill>
                <a:latin typeface="Times New Roman"/>
                <a:ea typeface="Times New Roman"/>
              </a:rPr>
              <a:t>С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737240" y="2484360"/>
            <a:ext cx="39384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Ч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 rot="469800">
            <a:off x="6473520" y="4950000"/>
            <a:ext cx="1965240" cy="358560"/>
          </a:xfrm>
          <a:prstGeom prst="leftArrow">
            <a:avLst>
              <a:gd name="adj1" fmla="val 50000"/>
              <a:gd name="adj2" fmla="val 997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4289400" y="304488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4465800" y="3409920"/>
            <a:ext cx="28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8 ММ РТ.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6515280" y="5072040"/>
            <a:ext cx="28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6270480" y="5316480"/>
            <a:ext cx="28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60 ММ РТ.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67"/>
          <p:cNvGrpSpPr/>
          <p:nvPr/>
        </p:nvGrpSpPr>
        <p:grpSpPr>
          <a:xfrm>
            <a:off x="928800" y="1643040"/>
            <a:ext cx="6984720" cy="3960720"/>
            <a:chOff x="928800" y="1643040"/>
            <a:chExt cx="6984720" cy="3960720"/>
          </a:xfrm>
        </p:grpSpPr>
        <p:sp>
          <p:nvSpPr>
            <p:cNvPr id="249" name="Oval 7"/>
            <p:cNvSpPr/>
            <p:nvPr/>
          </p:nvSpPr>
          <p:spPr>
            <a:xfrm>
              <a:off x="928800" y="1643040"/>
              <a:ext cx="6984720" cy="396072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>
              <a:off x="3088800" y="3227400"/>
              <a:ext cx="2663640" cy="792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9f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ЕТЕ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Прямоугольник 33"/>
          <p:cNvSpPr/>
          <p:nvPr/>
        </p:nvSpPr>
        <p:spPr>
          <a:xfrm>
            <a:off x="768960" y="64296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ключается в понятие «ВЕТЕР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АСТ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253" name="Group 67"/>
          <p:cNvGrpSpPr/>
          <p:nvPr/>
        </p:nvGrpSpPr>
        <p:grpSpPr>
          <a:xfrm>
            <a:off x="928800" y="1643040"/>
            <a:ext cx="6984720" cy="3960720"/>
            <a:chOff x="928800" y="1643040"/>
            <a:chExt cx="6984720" cy="3960720"/>
          </a:xfrm>
        </p:grpSpPr>
        <p:sp>
          <p:nvSpPr>
            <p:cNvPr id="254" name="Oval 7"/>
            <p:cNvSpPr/>
            <p:nvPr/>
          </p:nvSpPr>
          <p:spPr>
            <a:xfrm>
              <a:off x="928800" y="1643040"/>
              <a:ext cx="6984720" cy="396072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7"/>
            <p:cNvSpPr/>
            <p:nvPr/>
          </p:nvSpPr>
          <p:spPr>
            <a:xfrm flipV="1">
              <a:off x="2584080" y="301140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"/>
            <p:cNvSpPr/>
            <p:nvPr/>
          </p:nvSpPr>
          <p:spPr>
            <a:xfrm>
              <a:off x="2657160" y="2579760"/>
              <a:ext cx="3526920" cy="2087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3088800" y="3227400"/>
              <a:ext cx="2663640" cy="792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9f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ЕТЕ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3233520" y="4235400"/>
              <a:ext cx="2520360" cy="8492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дстилающ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верх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 flipV="1">
              <a:off x="6833880" y="294012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2"/>
            <p:cNvSpPr/>
            <p:nvPr/>
          </p:nvSpPr>
          <p:spPr>
            <a:xfrm flipH="1" flipV="1">
              <a:off x="6041520" y="2940120"/>
              <a:ext cx="2174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5"/>
            <p:cNvSpPr/>
            <p:nvPr/>
          </p:nvSpPr>
          <p:spPr>
            <a:xfrm flipV="1">
              <a:off x="5033520" y="401940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8"/>
            <p:cNvSpPr/>
            <p:nvPr/>
          </p:nvSpPr>
          <p:spPr>
            <a:xfrm flipH="1" flipV="1">
              <a:off x="3664800" y="4019400"/>
              <a:ext cx="21708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9"/>
            <p:cNvSpPr/>
            <p:nvPr/>
          </p:nvSpPr>
          <p:spPr>
            <a:xfrm flipH="1" flipV="1">
              <a:off x="1791720" y="3082680"/>
              <a:ext cx="21708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5"/>
            <p:cNvSpPr/>
            <p:nvPr/>
          </p:nvSpPr>
          <p:spPr>
            <a:xfrm>
              <a:off x="5752800" y="3156120"/>
              <a:ext cx="1726920" cy="86328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емпе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6"/>
            <p:cNvSpPr/>
            <p:nvPr/>
          </p:nvSpPr>
          <p:spPr>
            <a:xfrm>
              <a:off x="1649160" y="3227400"/>
              <a:ext cx="143928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1"/>
          <p:cNvGrpSpPr/>
          <p:nvPr/>
        </p:nvGrpSpPr>
        <p:grpSpPr>
          <a:xfrm>
            <a:off x="611280" y="3284280"/>
            <a:ext cx="936360" cy="1008360"/>
            <a:chOff x="611280" y="3284280"/>
            <a:chExt cx="936360" cy="1008360"/>
          </a:xfrm>
        </p:grpSpPr>
        <p:sp>
          <p:nvSpPr>
            <p:cNvPr id="267" name="Line 34"/>
            <p:cNvSpPr/>
            <p:nvPr/>
          </p:nvSpPr>
          <p:spPr>
            <a:xfrm flipV="1">
              <a:off x="1330200" y="3284280"/>
              <a:ext cx="216000" cy="2156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0"/>
            <p:cNvSpPr/>
            <p:nvPr/>
          </p:nvSpPr>
          <p:spPr>
            <a:xfrm flipH="1" flipV="1">
              <a:off x="611280" y="3284280"/>
              <a:ext cx="217440" cy="2156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68"/>
            <p:cNvSpPr/>
            <p:nvPr/>
          </p:nvSpPr>
          <p:spPr>
            <a:xfrm>
              <a:off x="611280" y="3429000"/>
              <a:ext cx="93636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3"/>
          <p:cNvGrpSpPr/>
          <p:nvPr/>
        </p:nvGrpSpPr>
        <p:grpSpPr>
          <a:xfrm>
            <a:off x="3708360" y="1557360"/>
            <a:ext cx="1441440" cy="1006560"/>
            <a:chOff x="3708360" y="1557360"/>
            <a:chExt cx="1441440" cy="1006560"/>
          </a:xfrm>
        </p:grpSpPr>
        <p:sp>
          <p:nvSpPr>
            <p:cNvPr id="271" name="Line 33"/>
            <p:cNvSpPr/>
            <p:nvPr/>
          </p:nvSpPr>
          <p:spPr>
            <a:xfrm flipV="1">
              <a:off x="4859280" y="1557360"/>
              <a:ext cx="21600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1"/>
            <p:cNvSpPr/>
            <p:nvPr/>
          </p:nvSpPr>
          <p:spPr>
            <a:xfrm flipH="1" flipV="1">
              <a:off x="3780000" y="1557360"/>
              <a:ext cx="2174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9"/>
            <p:cNvSpPr/>
            <p:nvPr/>
          </p:nvSpPr>
          <p:spPr>
            <a:xfrm>
              <a:off x="3708360" y="1700280"/>
              <a:ext cx="144144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кор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2"/>
          <p:cNvGrpSpPr/>
          <p:nvPr/>
        </p:nvGrpSpPr>
        <p:grpSpPr>
          <a:xfrm>
            <a:off x="3285720" y="5214600"/>
            <a:ext cx="2428560" cy="1128600"/>
            <a:chOff x="3285720" y="5214600"/>
            <a:chExt cx="2428560" cy="1128600"/>
          </a:xfrm>
        </p:grpSpPr>
        <p:sp>
          <p:nvSpPr>
            <p:cNvPr id="275" name="Line 36"/>
            <p:cNvSpPr/>
            <p:nvPr/>
          </p:nvSpPr>
          <p:spPr>
            <a:xfrm flipV="1">
              <a:off x="5396040" y="5214600"/>
              <a:ext cx="315720" cy="26028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 flipH="1" flipV="1">
              <a:off x="3285720" y="5214600"/>
              <a:ext cx="318600" cy="26028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70"/>
            <p:cNvSpPr/>
            <p:nvPr/>
          </p:nvSpPr>
          <p:spPr>
            <a:xfrm>
              <a:off x="3390840" y="5301360"/>
              <a:ext cx="2323440" cy="10418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Прямоугольник 33"/>
          <p:cNvSpPr/>
          <p:nvPr/>
        </p:nvSpPr>
        <p:spPr>
          <a:xfrm>
            <a:off x="768960" y="64296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ключается в понятие «ВЕТЕР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АСТ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280" name="Group 74"/>
          <p:cNvGrpSpPr/>
          <p:nvPr/>
        </p:nvGrpSpPr>
        <p:grpSpPr>
          <a:xfrm>
            <a:off x="468360" y="1413000"/>
            <a:ext cx="8207280" cy="4824360"/>
            <a:chOff x="468360" y="1413000"/>
            <a:chExt cx="8207280" cy="4824360"/>
          </a:xfrm>
        </p:grpSpPr>
        <p:sp>
          <p:nvSpPr>
            <p:cNvPr id="281" name="Oval 5"/>
            <p:cNvSpPr/>
            <p:nvPr/>
          </p:nvSpPr>
          <p:spPr>
            <a:xfrm>
              <a:off x="468360" y="1413000"/>
              <a:ext cx="8064360" cy="475452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539640" y="5229360"/>
              <a:ext cx="1656000" cy="1008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5300f"/>
                  </a:solidFill>
                  <a:latin typeface="Times New Roman"/>
                  <a:ea typeface="Times New Roman"/>
                </a:rPr>
                <a:t>Мусс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3"/>
            <p:cNvSpPr/>
            <p:nvPr/>
          </p:nvSpPr>
          <p:spPr>
            <a:xfrm>
              <a:off x="7020000" y="1413000"/>
              <a:ext cx="1655640" cy="1008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6e0d"/>
                  </a:solidFill>
                  <a:latin typeface="Verdana"/>
                </a:rPr>
                <a:t>Бриз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6877080" y="5229360"/>
              <a:ext cx="1655640" cy="1008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ассаты</a:t>
              </a:r>
              <a:r>
                <a:rPr b="1" lang="ru-RU" sz="2400" spc="-1" strike="noStrike">
                  <a:solidFill>
                    <a:srgbClr val="f5300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5"/>
            <p:cNvSpPr/>
            <p:nvPr/>
          </p:nvSpPr>
          <p:spPr>
            <a:xfrm>
              <a:off x="468360" y="1413000"/>
              <a:ext cx="1655640" cy="1008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Ураг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67"/>
          <p:cNvGrpSpPr/>
          <p:nvPr/>
        </p:nvGrpSpPr>
        <p:grpSpPr>
          <a:xfrm>
            <a:off x="928800" y="1643040"/>
            <a:ext cx="6984720" cy="3960720"/>
            <a:chOff x="928800" y="1643040"/>
            <a:chExt cx="6984720" cy="3960720"/>
          </a:xfrm>
        </p:grpSpPr>
        <p:sp>
          <p:nvSpPr>
            <p:cNvPr id="287" name="Oval 7"/>
            <p:cNvSpPr/>
            <p:nvPr/>
          </p:nvSpPr>
          <p:spPr>
            <a:xfrm>
              <a:off x="928800" y="1643040"/>
              <a:ext cx="6984720" cy="396072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7"/>
            <p:cNvSpPr/>
            <p:nvPr/>
          </p:nvSpPr>
          <p:spPr>
            <a:xfrm flipV="1">
              <a:off x="2584080" y="301140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2657160" y="2579760"/>
              <a:ext cx="3526920" cy="2087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"/>
            <p:cNvSpPr/>
            <p:nvPr/>
          </p:nvSpPr>
          <p:spPr>
            <a:xfrm>
              <a:off x="3088800" y="3227400"/>
              <a:ext cx="2663640" cy="79200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9f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ЕТЕ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6"/>
            <p:cNvSpPr/>
            <p:nvPr/>
          </p:nvSpPr>
          <p:spPr>
            <a:xfrm>
              <a:off x="3233520" y="4235400"/>
              <a:ext cx="2520360" cy="8492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дстилающ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оверх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V="1">
              <a:off x="6833880" y="294012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2"/>
            <p:cNvSpPr/>
            <p:nvPr/>
          </p:nvSpPr>
          <p:spPr>
            <a:xfrm flipH="1" flipV="1">
              <a:off x="6041520" y="2940120"/>
              <a:ext cx="2174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V="1">
              <a:off x="5033520" y="4019400"/>
              <a:ext cx="2156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 flipH="1" flipV="1">
              <a:off x="3664800" y="4019400"/>
              <a:ext cx="21708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 flipH="1" flipV="1">
              <a:off x="1791720" y="3082680"/>
              <a:ext cx="21708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65"/>
            <p:cNvSpPr/>
            <p:nvPr/>
          </p:nvSpPr>
          <p:spPr>
            <a:xfrm>
              <a:off x="5752800" y="3156120"/>
              <a:ext cx="1726920" cy="86328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емпе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66"/>
            <p:cNvSpPr/>
            <p:nvPr/>
          </p:nvSpPr>
          <p:spPr>
            <a:xfrm>
              <a:off x="1649160" y="3227400"/>
              <a:ext cx="143928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71"/>
          <p:cNvGrpSpPr/>
          <p:nvPr/>
        </p:nvGrpSpPr>
        <p:grpSpPr>
          <a:xfrm>
            <a:off x="611280" y="3284280"/>
            <a:ext cx="936360" cy="1008360"/>
            <a:chOff x="611280" y="3284280"/>
            <a:chExt cx="936360" cy="1008360"/>
          </a:xfrm>
        </p:grpSpPr>
        <p:sp>
          <p:nvSpPr>
            <p:cNvPr id="300" name="Line 34"/>
            <p:cNvSpPr/>
            <p:nvPr/>
          </p:nvSpPr>
          <p:spPr>
            <a:xfrm flipV="1">
              <a:off x="1330200" y="3284280"/>
              <a:ext cx="216000" cy="2156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0"/>
            <p:cNvSpPr/>
            <p:nvPr/>
          </p:nvSpPr>
          <p:spPr>
            <a:xfrm flipH="1" flipV="1">
              <a:off x="611280" y="3284280"/>
              <a:ext cx="217440" cy="2156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68"/>
            <p:cNvSpPr/>
            <p:nvPr/>
          </p:nvSpPr>
          <p:spPr>
            <a:xfrm>
              <a:off x="611280" y="3429000"/>
              <a:ext cx="93636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3708360" y="1557360"/>
            <a:ext cx="1441440" cy="1006560"/>
            <a:chOff x="3708360" y="1557360"/>
            <a:chExt cx="1441440" cy="1006560"/>
          </a:xfrm>
        </p:grpSpPr>
        <p:sp>
          <p:nvSpPr>
            <p:cNvPr id="304" name="Line 33"/>
            <p:cNvSpPr/>
            <p:nvPr/>
          </p:nvSpPr>
          <p:spPr>
            <a:xfrm flipV="1">
              <a:off x="4859280" y="1557360"/>
              <a:ext cx="21600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1"/>
            <p:cNvSpPr/>
            <p:nvPr/>
          </p:nvSpPr>
          <p:spPr>
            <a:xfrm flipH="1" flipV="1">
              <a:off x="3780000" y="1557360"/>
              <a:ext cx="2174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69"/>
            <p:cNvSpPr/>
            <p:nvPr/>
          </p:nvSpPr>
          <p:spPr>
            <a:xfrm>
              <a:off x="3708360" y="1700280"/>
              <a:ext cx="1441440" cy="8636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кор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2"/>
          <p:cNvGrpSpPr/>
          <p:nvPr/>
        </p:nvGrpSpPr>
        <p:grpSpPr>
          <a:xfrm>
            <a:off x="3285720" y="5214600"/>
            <a:ext cx="2428560" cy="1128600"/>
            <a:chOff x="3285720" y="5214600"/>
            <a:chExt cx="2428560" cy="1128600"/>
          </a:xfrm>
        </p:grpSpPr>
        <p:sp>
          <p:nvSpPr>
            <p:cNvPr id="308" name="Line 36"/>
            <p:cNvSpPr/>
            <p:nvPr/>
          </p:nvSpPr>
          <p:spPr>
            <a:xfrm flipV="1">
              <a:off x="5396040" y="5214600"/>
              <a:ext cx="315720" cy="26028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2"/>
            <p:cNvSpPr/>
            <p:nvPr/>
          </p:nvSpPr>
          <p:spPr>
            <a:xfrm flipH="1" flipV="1">
              <a:off x="3285720" y="5214600"/>
              <a:ext cx="318600" cy="26028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0"/>
            <p:cNvSpPr/>
            <p:nvPr/>
          </p:nvSpPr>
          <p:spPr>
            <a:xfrm>
              <a:off x="3390840" y="5301360"/>
              <a:ext cx="2323440" cy="1041840"/>
            </a:xfrm>
            <a:prstGeom prst="ellipse">
              <a:avLst/>
            </a:prstGeom>
            <a:solidFill>
              <a:srgbClr val="ffff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3"/>
          <p:cNvSpPr/>
          <p:nvPr/>
        </p:nvSpPr>
        <p:spPr>
          <a:xfrm>
            <a:off x="768960" y="64296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ключается в понятие «ВЕТЕР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37"/>
          <p:cNvGrpSpPr/>
          <p:nvPr/>
        </p:nvGrpSpPr>
        <p:grpSpPr>
          <a:xfrm>
            <a:off x="1332000" y="1413000"/>
            <a:ext cx="5957640" cy="5146920"/>
            <a:chOff x="1332000" y="1413000"/>
            <a:chExt cx="5957640" cy="5146920"/>
          </a:xfrm>
        </p:grpSpPr>
        <p:sp>
          <p:nvSpPr>
            <p:cNvPr id="313" name="Text Box 8"/>
            <p:cNvSpPr/>
            <p:nvPr/>
          </p:nvSpPr>
          <p:spPr>
            <a:xfrm>
              <a:off x="4067280" y="14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4067280" y="6100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0"/>
            <p:cNvSpPr/>
            <p:nvPr/>
          </p:nvSpPr>
          <p:spPr>
            <a:xfrm>
              <a:off x="6929280" y="378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1"/>
            <p:cNvSpPr/>
            <p:nvPr/>
          </p:nvSpPr>
          <p:spPr>
            <a:xfrm>
              <a:off x="1332000" y="3839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5796000" y="2074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с-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6012000" y="56055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ю -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1547640" y="21474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с - 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1763640" y="56055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</a:rPr>
                <a:t>ю - 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>
              <a:off x="1692360" y="4208760"/>
              <a:ext cx="5040360" cy="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6"/>
            <p:cNvSpPr/>
            <p:nvPr/>
          </p:nvSpPr>
          <p:spPr>
            <a:xfrm flipV="1">
              <a:off x="2646360" y="2587680"/>
              <a:ext cx="3274920" cy="324216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7"/>
            <p:cNvSpPr/>
            <p:nvPr/>
          </p:nvSpPr>
          <p:spPr>
            <a:xfrm flipV="1">
              <a:off x="4284720" y="2000880"/>
              <a:ext cx="0" cy="419436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8"/>
            <p:cNvSpPr/>
            <p:nvPr/>
          </p:nvSpPr>
          <p:spPr>
            <a:xfrm flipH="1" flipV="1">
              <a:off x="2261520" y="2888640"/>
              <a:ext cx="4170240" cy="279936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05"/>
          <p:cNvGrpSpPr/>
          <p:nvPr/>
        </p:nvGrpSpPr>
        <p:grpSpPr>
          <a:xfrm>
            <a:off x="2771640" y="2637000"/>
            <a:ext cx="2927880" cy="3168360"/>
            <a:chOff x="2771640" y="2637000"/>
            <a:chExt cx="2927880" cy="3168360"/>
          </a:xfrm>
        </p:grpSpPr>
        <p:grpSp>
          <p:nvGrpSpPr>
            <p:cNvPr id="326" name="Group 238"/>
            <p:cNvGrpSpPr/>
            <p:nvPr/>
          </p:nvGrpSpPr>
          <p:grpSpPr>
            <a:xfrm>
              <a:off x="2931480" y="3247560"/>
              <a:ext cx="1242360" cy="867240"/>
              <a:chOff x="2931480" y="3247560"/>
              <a:chExt cx="1242360" cy="867240"/>
            </a:xfrm>
          </p:grpSpPr>
          <p:sp>
            <p:nvSpPr>
              <p:cNvPr id="327" name="Line 239"/>
              <p:cNvSpPr/>
              <p:nvPr/>
            </p:nvSpPr>
            <p:spPr>
              <a:xfrm flipH="1">
                <a:off x="4091400" y="3988440"/>
                <a:ext cx="82440" cy="12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40"/>
              <p:cNvSpPr/>
              <p:nvPr/>
            </p:nvSpPr>
            <p:spPr>
              <a:xfrm flipH="1">
                <a:off x="3898080" y="3864960"/>
                <a:ext cx="82440" cy="12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41"/>
              <p:cNvSpPr/>
              <p:nvPr/>
            </p:nvSpPr>
            <p:spPr>
              <a:xfrm flipH="1">
                <a:off x="3703320" y="3741120"/>
                <a:ext cx="82800" cy="12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42"/>
              <p:cNvSpPr/>
              <p:nvPr/>
            </p:nvSpPr>
            <p:spPr>
              <a:xfrm flipH="1">
                <a:off x="3510360" y="3617280"/>
                <a:ext cx="82440" cy="12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43"/>
              <p:cNvSpPr/>
              <p:nvPr/>
            </p:nvSpPr>
            <p:spPr>
              <a:xfrm flipH="1">
                <a:off x="3317040" y="3493800"/>
                <a:ext cx="82440" cy="12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44"/>
              <p:cNvSpPr/>
              <p:nvPr/>
            </p:nvSpPr>
            <p:spPr>
              <a:xfrm flipH="1">
                <a:off x="3124440" y="3371400"/>
                <a:ext cx="82440" cy="12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45"/>
              <p:cNvSpPr/>
              <p:nvPr/>
            </p:nvSpPr>
            <p:spPr>
              <a:xfrm flipH="1">
                <a:off x="2931480" y="3247560"/>
                <a:ext cx="82440" cy="1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46"/>
            <p:cNvGrpSpPr/>
            <p:nvPr/>
          </p:nvGrpSpPr>
          <p:grpSpPr>
            <a:xfrm>
              <a:off x="2771640" y="2637000"/>
              <a:ext cx="2927880" cy="3168360"/>
              <a:chOff x="2771640" y="2637000"/>
              <a:chExt cx="2927880" cy="3168360"/>
            </a:xfrm>
          </p:grpSpPr>
          <p:sp>
            <p:nvSpPr>
              <p:cNvPr id="335" name="Line 247"/>
              <p:cNvSpPr/>
              <p:nvPr/>
            </p:nvSpPr>
            <p:spPr>
              <a:xfrm>
                <a:off x="4211640" y="263700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48"/>
              <p:cNvSpPr/>
              <p:nvPr/>
            </p:nvSpPr>
            <p:spPr>
              <a:xfrm>
                <a:off x="4211640" y="285264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49"/>
              <p:cNvSpPr/>
              <p:nvPr/>
            </p:nvSpPr>
            <p:spPr>
              <a:xfrm>
                <a:off x="4211640" y="306864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50"/>
              <p:cNvSpPr/>
              <p:nvPr/>
            </p:nvSpPr>
            <p:spPr>
              <a:xfrm>
                <a:off x="4211640" y="328608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51"/>
              <p:cNvSpPr/>
              <p:nvPr/>
            </p:nvSpPr>
            <p:spPr>
              <a:xfrm>
                <a:off x="4211640" y="350208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52"/>
              <p:cNvSpPr/>
              <p:nvPr/>
            </p:nvSpPr>
            <p:spPr>
              <a:xfrm>
                <a:off x="4211640" y="371808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53"/>
              <p:cNvSpPr/>
              <p:nvPr/>
            </p:nvSpPr>
            <p:spPr>
              <a:xfrm>
                <a:off x="4211640" y="393372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254"/>
              <p:cNvGrpSpPr/>
              <p:nvPr/>
            </p:nvGrpSpPr>
            <p:grpSpPr>
              <a:xfrm>
                <a:off x="2771640" y="2917800"/>
                <a:ext cx="2927880" cy="2887560"/>
                <a:chOff x="2771640" y="2917800"/>
                <a:chExt cx="2927880" cy="2887560"/>
              </a:xfrm>
            </p:grpSpPr>
            <p:sp>
              <p:nvSpPr>
                <p:cNvPr id="343" name="Line 255"/>
                <p:cNvSpPr/>
                <p:nvPr/>
              </p:nvSpPr>
              <p:spPr>
                <a:xfrm flipH="1" flipV="1">
                  <a:off x="4378320" y="3981600"/>
                  <a:ext cx="101520" cy="102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56"/>
                <p:cNvSpPr/>
                <p:nvPr/>
              </p:nvSpPr>
              <p:spPr>
                <a:xfrm flipH="1" flipV="1">
                  <a:off x="4532400" y="3828960"/>
                  <a:ext cx="10152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57"/>
                <p:cNvSpPr/>
                <p:nvPr/>
              </p:nvSpPr>
              <p:spPr>
                <a:xfrm flipH="1" flipV="1">
                  <a:off x="4686480" y="3678120"/>
                  <a:ext cx="10152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58"/>
                <p:cNvSpPr/>
                <p:nvPr/>
              </p:nvSpPr>
              <p:spPr>
                <a:xfrm flipH="1" flipV="1">
                  <a:off x="4840200" y="3524400"/>
                  <a:ext cx="101520" cy="102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59"/>
                <p:cNvSpPr/>
                <p:nvPr/>
              </p:nvSpPr>
              <p:spPr>
                <a:xfrm flipH="1" flipV="1">
                  <a:off x="4994280" y="3373560"/>
                  <a:ext cx="101520" cy="102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60"/>
                <p:cNvSpPr/>
                <p:nvPr/>
              </p:nvSpPr>
              <p:spPr>
                <a:xfrm flipH="1" flipV="1">
                  <a:off x="5148360" y="3220920"/>
                  <a:ext cx="10152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61"/>
                <p:cNvSpPr/>
                <p:nvPr/>
              </p:nvSpPr>
              <p:spPr>
                <a:xfrm flipH="1" flipV="1">
                  <a:off x="5300640" y="3070080"/>
                  <a:ext cx="10152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62"/>
                <p:cNvSpPr/>
                <p:nvPr/>
              </p:nvSpPr>
              <p:spPr>
                <a:xfrm flipH="1" flipV="1">
                  <a:off x="5454720" y="2917800"/>
                  <a:ext cx="101520" cy="102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3"/>
                <p:cNvGrpSpPr/>
                <p:nvPr/>
              </p:nvGrpSpPr>
              <p:grpSpPr>
                <a:xfrm>
                  <a:off x="2771640" y="4076280"/>
                  <a:ext cx="2927880" cy="1729080"/>
                  <a:chOff x="2771640" y="4076280"/>
                  <a:chExt cx="2927880" cy="1729080"/>
                </a:xfrm>
              </p:grpSpPr>
              <p:sp>
                <p:nvSpPr>
                  <p:cNvPr id="352" name="Line 264"/>
                  <p:cNvSpPr/>
                  <p:nvPr/>
                </p:nvSpPr>
                <p:spPr>
                  <a:xfrm flipV="1">
                    <a:off x="4716360" y="4076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265"/>
                  <p:cNvSpPr/>
                  <p:nvPr/>
                </p:nvSpPr>
                <p:spPr>
                  <a:xfrm flipV="1">
                    <a:off x="4933800" y="4076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66"/>
                  <p:cNvSpPr/>
                  <p:nvPr/>
                </p:nvSpPr>
                <p:spPr>
                  <a:xfrm flipV="1">
                    <a:off x="5149800" y="4076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67"/>
                  <p:cNvSpPr/>
                  <p:nvPr/>
                </p:nvSpPr>
                <p:spPr>
                  <a:xfrm flipV="1">
                    <a:off x="5365800" y="4076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68"/>
                  <p:cNvSpPr/>
                  <p:nvPr/>
                </p:nvSpPr>
                <p:spPr>
                  <a:xfrm flipV="1">
                    <a:off x="5581800" y="4076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69"/>
                  <p:cNvGrpSpPr/>
                  <p:nvPr/>
                </p:nvGrpSpPr>
                <p:grpSpPr>
                  <a:xfrm>
                    <a:off x="2771640" y="4076280"/>
                    <a:ext cx="2927880" cy="1729080"/>
                    <a:chOff x="2771640" y="4076280"/>
                    <a:chExt cx="2927880" cy="1729080"/>
                  </a:xfrm>
                </p:grpSpPr>
                <p:sp>
                  <p:nvSpPr>
                    <p:cNvPr id="358" name="Line 270"/>
                    <p:cNvSpPr/>
                    <p:nvPr/>
                  </p:nvSpPr>
                  <p:spPr>
                    <a:xfrm flipH="1">
                      <a:off x="5616000" y="503316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71"/>
                    <p:cNvSpPr/>
                    <p:nvPr/>
                  </p:nvSpPr>
                  <p:spPr>
                    <a:xfrm flipH="1">
                      <a:off x="5441400" y="490752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72"/>
                    <p:cNvSpPr/>
                    <p:nvPr/>
                  </p:nvSpPr>
                  <p:spPr>
                    <a:xfrm flipH="1">
                      <a:off x="5265360" y="478224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73"/>
                    <p:cNvSpPr/>
                    <p:nvPr/>
                  </p:nvSpPr>
                  <p:spPr>
                    <a:xfrm flipH="1">
                      <a:off x="5087520" y="4656600"/>
                      <a:ext cx="83520" cy="1180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4"/>
                    <p:cNvSpPr/>
                    <p:nvPr/>
                  </p:nvSpPr>
                  <p:spPr>
                    <a:xfrm flipH="1">
                      <a:off x="4911120" y="453132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75"/>
                    <p:cNvSpPr/>
                    <p:nvPr/>
                  </p:nvSpPr>
                  <p:spPr>
                    <a:xfrm flipH="1">
                      <a:off x="4735080" y="440604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76"/>
                    <p:cNvSpPr/>
                    <p:nvPr/>
                  </p:nvSpPr>
                  <p:spPr>
                    <a:xfrm flipH="1">
                      <a:off x="4558680" y="4282200"/>
                      <a:ext cx="83520" cy="1177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277"/>
                    <p:cNvSpPr/>
                    <p:nvPr/>
                  </p:nvSpPr>
                  <p:spPr>
                    <a:xfrm flipH="1">
                      <a:off x="4382640" y="4156560"/>
                      <a:ext cx="83520" cy="1180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66" name="Group 278"/>
                    <p:cNvGrpSpPr/>
                    <p:nvPr/>
                  </p:nvGrpSpPr>
                  <p:grpSpPr>
                    <a:xfrm>
                      <a:off x="2771640" y="4076280"/>
                      <a:ext cx="1584360" cy="1729080"/>
                      <a:chOff x="2771640" y="4076280"/>
                      <a:chExt cx="1584360" cy="1729080"/>
                    </a:xfrm>
                  </p:grpSpPr>
                  <p:sp>
                    <p:nvSpPr>
                      <p:cNvPr id="367" name="Line 279"/>
                      <p:cNvSpPr/>
                      <p:nvPr/>
                    </p:nvSpPr>
                    <p:spPr>
                      <a:xfrm flipV="1">
                        <a:off x="277164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8" name="Line 280"/>
                      <p:cNvSpPr/>
                      <p:nvPr/>
                    </p:nvSpPr>
                    <p:spPr>
                      <a:xfrm flipV="1">
                        <a:off x="298764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" name="Line 281"/>
                      <p:cNvSpPr/>
                      <p:nvPr/>
                    </p:nvSpPr>
                    <p:spPr>
                      <a:xfrm flipV="1">
                        <a:off x="320364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Line 282"/>
                      <p:cNvSpPr/>
                      <p:nvPr/>
                    </p:nvSpPr>
                    <p:spPr>
                      <a:xfrm flipV="1">
                        <a:off x="342108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Line 283"/>
                      <p:cNvSpPr/>
                      <p:nvPr/>
                    </p:nvSpPr>
                    <p:spPr>
                      <a:xfrm flipV="1">
                        <a:off x="363708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Line 284"/>
                      <p:cNvSpPr/>
                      <p:nvPr/>
                    </p:nvSpPr>
                    <p:spPr>
                      <a:xfrm flipV="1">
                        <a:off x="385272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Line 285"/>
                      <p:cNvSpPr/>
                      <p:nvPr/>
                    </p:nvSpPr>
                    <p:spPr>
                      <a:xfrm flipV="1">
                        <a:off x="4068720" y="4076280"/>
                        <a:ext cx="0" cy="144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74" name="Group 286"/>
                      <p:cNvGrpSpPr/>
                      <p:nvPr/>
                    </p:nvGrpSpPr>
                    <p:grpSpPr>
                      <a:xfrm>
                        <a:off x="3009960" y="4076640"/>
                        <a:ext cx="1346040" cy="1728720"/>
                        <a:chOff x="3009960" y="4076640"/>
                        <a:chExt cx="1346040" cy="1728720"/>
                      </a:xfrm>
                    </p:grpSpPr>
                    <p:sp>
                      <p:nvSpPr>
                        <p:cNvPr id="375" name="Line 287"/>
                        <p:cNvSpPr/>
                        <p:nvPr/>
                      </p:nvSpPr>
                      <p:spPr>
                        <a:xfrm flipH="1" flipV="1">
                          <a:off x="3009960" y="5276880"/>
                          <a:ext cx="101520" cy="102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288"/>
                        <p:cNvSpPr/>
                        <p:nvPr/>
                      </p:nvSpPr>
                      <p:spPr>
                        <a:xfrm flipH="1" flipV="1">
                          <a:off x="3164040" y="5124600"/>
                          <a:ext cx="10152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289"/>
                        <p:cNvSpPr/>
                        <p:nvPr/>
                      </p:nvSpPr>
                      <p:spPr>
                        <a:xfrm flipH="1" flipV="1">
                          <a:off x="3317760" y="4973760"/>
                          <a:ext cx="10152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290"/>
                        <p:cNvSpPr/>
                        <p:nvPr/>
                      </p:nvSpPr>
                      <p:spPr>
                        <a:xfrm flipH="1" flipV="1">
                          <a:off x="3471840" y="4819680"/>
                          <a:ext cx="101520" cy="102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291"/>
                        <p:cNvSpPr/>
                        <p:nvPr/>
                      </p:nvSpPr>
                      <p:spPr>
                        <a:xfrm flipH="1" flipV="1">
                          <a:off x="3625920" y="4668840"/>
                          <a:ext cx="101520" cy="102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292"/>
                        <p:cNvSpPr/>
                        <p:nvPr/>
                      </p:nvSpPr>
                      <p:spPr>
                        <a:xfrm flipH="1" flipV="1">
                          <a:off x="3780000" y="4516560"/>
                          <a:ext cx="10152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293"/>
                        <p:cNvSpPr/>
                        <p:nvPr/>
                      </p:nvSpPr>
                      <p:spPr>
                        <a:xfrm flipH="1" flipV="1">
                          <a:off x="3932280" y="4365720"/>
                          <a:ext cx="10152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82" name="Group 294"/>
                        <p:cNvGrpSpPr/>
                        <p:nvPr/>
                      </p:nvGrpSpPr>
                      <p:grpSpPr>
                        <a:xfrm>
                          <a:off x="4086360" y="4076640"/>
                          <a:ext cx="269640" cy="1728720"/>
                          <a:chOff x="4086360" y="4076640"/>
                          <a:chExt cx="269640" cy="1728720"/>
                        </a:xfrm>
                      </p:grpSpPr>
                      <p:sp>
                        <p:nvSpPr>
                          <p:cNvPr id="383" name="Line 295"/>
                          <p:cNvSpPr/>
                          <p:nvPr/>
                        </p:nvSpPr>
                        <p:spPr>
                          <a:xfrm>
                            <a:off x="4211640" y="429264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4" name="Line 296"/>
                          <p:cNvSpPr/>
                          <p:nvPr/>
                        </p:nvSpPr>
                        <p:spPr>
                          <a:xfrm>
                            <a:off x="4211640" y="450864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Line 297"/>
                          <p:cNvSpPr/>
                          <p:nvPr/>
                        </p:nvSpPr>
                        <p:spPr>
                          <a:xfrm>
                            <a:off x="4211640" y="472428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Line 298"/>
                          <p:cNvSpPr/>
                          <p:nvPr/>
                        </p:nvSpPr>
                        <p:spPr>
                          <a:xfrm>
                            <a:off x="4211640" y="494172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Line 299"/>
                          <p:cNvSpPr/>
                          <p:nvPr/>
                        </p:nvSpPr>
                        <p:spPr>
                          <a:xfrm>
                            <a:off x="4211640" y="515772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Line 300"/>
                          <p:cNvSpPr/>
                          <p:nvPr/>
                        </p:nvSpPr>
                        <p:spPr>
                          <a:xfrm>
                            <a:off x="4211640" y="537372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Line 301"/>
                          <p:cNvSpPr/>
                          <p:nvPr/>
                        </p:nvSpPr>
                        <p:spPr>
                          <a:xfrm>
                            <a:off x="4211640" y="558972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0" name="Line 302"/>
                          <p:cNvSpPr/>
                          <p:nvPr/>
                        </p:nvSpPr>
                        <p:spPr>
                          <a:xfrm>
                            <a:off x="4211640" y="5805360"/>
                            <a:ext cx="1443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" name="Line 303"/>
                          <p:cNvSpPr/>
                          <p:nvPr/>
                        </p:nvSpPr>
                        <p:spPr>
                          <a:xfrm flipH="1" flipV="1">
                            <a:off x="4086360" y="4213080"/>
                            <a:ext cx="101520" cy="1026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2" name="Oval 304"/>
                          <p:cNvSpPr/>
                          <p:nvPr/>
                        </p:nvSpPr>
                        <p:spPr>
                          <a:xfrm>
                            <a:off x="4211640" y="4076640"/>
                            <a:ext cx="144360" cy="14436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393" name="Group 314"/>
          <p:cNvGrpSpPr/>
          <p:nvPr/>
        </p:nvGrpSpPr>
        <p:grpSpPr>
          <a:xfrm>
            <a:off x="2462040" y="4527720"/>
            <a:ext cx="100800" cy="122760"/>
            <a:chOff x="2462040" y="4527720"/>
            <a:chExt cx="100800" cy="122760"/>
          </a:xfrm>
        </p:grpSpPr>
        <p:sp>
          <p:nvSpPr>
            <p:cNvPr id="394" name="Oval 306"/>
            <p:cNvSpPr/>
            <p:nvPr/>
          </p:nvSpPr>
          <p:spPr>
            <a:xfrm flipH="1" rot="13951200">
              <a:off x="2552040" y="463104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07"/>
            <p:cNvSpPr/>
            <p:nvPr/>
          </p:nvSpPr>
          <p:spPr>
            <a:xfrm flipH="1" rot="13951200">
              <a:off x="2532600" y="462456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08"/>
            <p:cNvSpPr/>
            <p:nvPr/>
          </p:nvSpPr>
          <p:spPr>
            <a:xfrm flipH="1" rot="13951200">
              <a:off x="2527560" y="464292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09"/>
            <p:cNvSpPr/>
            <p:nvPr/>
          </p:nvSpPr>
          <p:spPr>
            <a:xfrm flipH="1" rot="13951200">
              <a:off x="2498760" y="460836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10"/>
            <p:cNvSpPr/>
            <p:nvPr/>
          </p:nvSpPr>
          <p:spPr>
            <a:xfrm flipH="1" rot="13951200">
              <a:off x="2499120" y="458676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11"/>
            <p:cNvSpPr/>
            <p:nvPr/>
          </p:nvSpPr>
          <p:spPr>
            <a:xfrm flipH="1" rot="13951200">
              <a:off x="2460960" y="453132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12"/>
            <p:cNvSpPr/>
            <p:nvPr/>
          </p:nvSpPr>
          <p:spPr>
            <a:xfrm flipH="1" rot="13951200">
              <a:off x="2496960" y="455292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13"/>
            <p:cNvSpPr/>
            <p:nvPr/>
          </p:nvSpPr>
          <p:spPr>
            <a:xfrm flipH="1" rot="13951200">
              <a:off x="2547360" y="4571280"/>
              <a:ext cx="11160" cy="3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23"/>
          <p:cNvGrpSpPr/>
          <p:nvPr/>
        </p:nvGrpSpPr>
        <p:grpSpPr>
          <a:xfrm>
            <a:off x="2793240" y="3283560"/>
            <a:ext cx="2207880" cy="1760400"/>
            <a:chOff x="2793240" y="3283560"/>
            <a:chExt cx="2207880" cy="1760400"/>
          </a:xfrm>
        </p:grpSpPr>
        <p:sp>
          <p:nvSpPr>
            <p:cNvPr id="403" name="Line 315"/>
            <p:cNvSpPr/>
            <p:nvPr/>
          </p:nvSpPr>
          <p:spPr>
            <a:xfrm flipH="1">
              <a:off x="3000240" y="3283560"/>
              <a:ext cx="1292400" cy="74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16"/>
            <p:cNvSpPr/>
            <p:nvPr/>
          </p:nvSpPr>
          <p:spPr>
            <a:xfrm flipH="1" flipV="1">
              <a:off x="4294440" y="3285000"/>
              <a:ext cx="357840" cy="641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17"/>
            <p:cNvSpPr/>
            <p:nvPr/>
          </p:nvSpPr>
          <p:spPr>
            <a:xfrm>
              <a:off x="4580280" y="3852720"/>
              <a:ext cx="356400" cy="287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18"/>
            <p:cNvSpPr/>
            <p:nvPr/>
          </p:nvSpPr>
          <p:spPr>
            <a:xfrm flipV="1">
              <a:off x="4541040" y="4141440"/>
              <a:ext cx="460080" cy="284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19"/>
            <p:cNvSpPr/>
            <p:nvPr/>
          </p:nvSpPr>
          <p:spPr>
            <a:xfrm flipH="1">
              <a:off x="4223520" y="4426560"/>
              <a:ext cx="357120" cy="617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320"/>
            <p:cNvSpPr/>
            <p:nvPr/>
          </p:nvSpPr>
          <p:spPr>
            <a:xfrm flipH="1" flipV="1">
              <a:off x="3864240" y="4498560"/>
              <a:ext cx="374400" cy="41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21"/>
            <p:cNvSpPr/>
            <p:nvPr/>
          </p:nvSpPr>
          <p:spPr>
            <a:xfrm flipH="1" flipV="1">
              <a:off x="2795040" y="4211640"/>
              <a:ext cx="1142280" cy="357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22"/>
            <p:cNvSpPr/>
            <p:nvPr/>
          </p:nvSpPr>
          <p:spPr>
            <a:xfrm flipV="1">
              <a:off x="2793240" y="3428280"/>
              <a:ext cx="137880" cy="640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324"/>
          <p:cNvSpPr/>
          <p:nvPr/>
        </p:nvSpPr>
        <p:spPr>
          <a:xfrm>
            <a:off x="500040" y="1071720"/>
            <a:ext cx="352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 ДЕЛЕНИЕ – ОДИ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25"/>
          <p:cNvSpPr/>
          <p:nvPr/>
        </p:nvSpPr>
        <p:spPr>
          <a:xfrm>
            <a:off x="500040" y="571680"/>
            <a:ext cx="80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А ВЕТР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503280" y="530280"/>
          <a:ext cx="8211960" cy="5884920"/>
        </p:xfrm>
        <a:graphic>
          <a:graphicData uri="http://schemas.openxmlformats.org/drawingml/2006/table">
            <a:tbl>
              <a:tblPr/>
              <a:tblGrid>
                <a:gridCol w="2736720"/>
                <a:gridCol w="2738520"/>
                <a:gridCol w="273672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ОЧУ 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 ВОЗНИКАЕТ ИЗ-ЗА РАЗНИЦЫ АТМОСФЕРНОГО Д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ЧЕГО ЗАВИСИТ СКОРОСТЬ, СИЛА,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В ДАВЛЕНИИ ВЛИЯЕТ НА СКОРОСТЬ, СИЛУ И НАПРАВЛЕНИЕ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ЛИСЬ С БР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НАБЛЮДЕНИЯ ЗА ВЕТ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ИЧЕСКАЯ  ЦЕПОЧ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Oval 9"/>
          <p:cNvSpPr/>
          <p:nvPr/>
        </p:nvSpPr>
        <p:spPr>
          <a:xfrm>
            <a:off x="755640" y="1628640"/>
            <a:ext cx="237636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М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НЯ И Н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0"/>
          <p:cNvSpPr/>
          <p:nvPr/>
        </p:nvSpPr>
        <p:spPr>
          <a:xfrm>
            <a:off x="3276720" y="1628640"/>
            <a:ext cx="237636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РА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ОКРУГ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5940360" y="1484280"/>
            <a:ext cx="2376720" cy="2087640"/>
          </a:xfrm>
          <a:prstGeom prst="ellipse">
            <a:avLst/>
          </a:prstGeom>
          <a:solidFill>
            <a:srgbClr val="f7563b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ЗЛИЧ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Д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7"/>
          <p:cNvSpPr/>
          <p:nvPr/>
        </p:nvSpPr>
        <p:spPr>
          <a:xfrm>
            <a:off x="2627280" y="1844640"/>
            <a:ext cx="1062000" cy="289080"/>
          </a:xfrm>
          <a:prstGeom prst="rightArrow">
            <a:avLst>
              <a:gd name="adj1" fmla="val 50000"/>
              <a:gd name="adj2" fmla="val 91843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9"/>
          <p:cNvSpPr/>
          <p:nvPr/>
        </p:nvSpPr>
        <p:spPr>
          <a:xfrm>
            <a:off x="1643040" y="4000680"/>
            <a:ext cx="2376360" cy="208728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0"/>
          <p:cNvSpPr/>
          <p:nvPr/>
        </p:nvSpPr>
        <p:spPr>
          <a:xfrm>
            <a:off x="4857840" y="4071960"/>
            <a:ext cx="2376360" cy="2087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ЗЛИЧ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ТЕМП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 rot="10800000">
            <a:off x="3786120" y="4928760"/>
            <a:ext cx="1285920" cy="358920"/>
          </a:xfrm>
          <a:prstGeom prst="rightArrow">
            <a:avLst>
              <a:gd name="adj1" fmla="val 50000"/>
              <a:gd name="adj2" fmla="val 73977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3"/>
          <p:cNvSpPr/>
          <p:nvPr/>
        </p:nvSpPr>
        <p:spPr>
          <a:xfrm>
            <a:off x="5292720" y="1916280"/>
            <a:ext cx="1062000" cy="358560"/>
          </a:xfrm>
          <a:prstGeom prst="rightArrow">
            <a:avLst>
              <a:gd name="adj1" fmla="val 50000"/>
              <a:gd name="adj2" fmla="val 74046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 rot="8246400">
            <a:off x="5859000" y="3773160"/>
            <a:ext cx="1354320" cy="320760"/>
          </a:xfrm>
          <a:prstGeom prst="rightArrow">
            <a:avLst>
              <a:gd name="adj1" fmla="val 50000"/>
              <a:gd name="adj2" fmla="val 120920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56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4798E-006 L -0.2717 -0.00508 E">
                                      <p:cBhvr>
                                        <p:cTn id="104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509 L 0.27569 -0.01017 E">
                                      <p:cBhvr>
                                        <p:cTn id="10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4798E-006 L -0.30312 0.35145 E">
                                      <p:cBhvr>
                                        <p:cTn id="11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573 L 0.32691 -0.34081 E">
                                      <p:cBhvr>
                                        <p:cTn id="11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46:45Z</dcterms:created>
  <dc:creator>Booryak</dc:creator>
  <dc:description/>
  <dc:language>en-US</dc:language>
  <cp:lastModifiedBy>Пользователь</cp:lastModifiedBy>
  <dcterms:modified xsi:type="dcterms:W3CDTF">2022-11-06T09:25:29Z</dcterms:modified>
  <cp:revision>84</cp:revision>
  <dc:subject/>
  <dc:title>Слайд 1</dc:title>
</cp:coreProperties>
</file>