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4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0E0-2E8B-4EA8-9722-9912335D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13E-8C5A-4A05-A104-5E2FFE23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EE2-2C3A-4A40-A970-14369F75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B3B-75E1-4B32-9D1B-4CC2E977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F60-AD3D-46B4-9CC7-556D84E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3F2-33AC-47F5-B685-B8EA9C3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735-5EC9-48FD-BEE1-AF3E0225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7FE-138E-4ADF-974F-03A74A86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343-B94D-4B57-921D-001E8A4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DEC-CA1B-4E8B-AB1E-CC333936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8E2-305C-44F7-9652-893675D2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4D9-0A11-437E-8788-14EBCE49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5E4B3-8F92-4D2F-A0DE-16901E41666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шко В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871640"/>
            <a:ext cx="8999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ыкс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 годы вой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 (завод Дробильно-Размольного Оборудования) в годы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16000" y="2519280"/>
            <a:ext cx="316872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089080" y="4564080"/>
            <a:ext cx="3527640" cy="191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400720" y="2376360"/>
            <a:ext cx="295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бирское военное училище готовило младших офицеров для танковых и механизированных частей Советской арм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7680" y="1655640"/>
            <a:ext cx="6267600" cy="400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я в районе монасты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2 г. Идут учебные стрель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03640" y="2449440"/>
            <a:ext cx="475128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ыксе было развёрнуты  эвакогоспитал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спиталь №2837 Бл.Песочное, в школе № 8№ 2914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к.им.Лепсе № 28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0680" y="1440000"/>
            <a:ext cx="4620960" cy="295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спиталь №2837 Бл.Песоч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1640" y="1440000"/>
            <a:ext cx="4462560" cy="295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к.им.Лепсе № 28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3280" y="4392720"/>
            <a:ext cx="4548240" cy="2365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а № 8 №2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раг не пройдёт. В конце сентября 1941 года, когда враг угрожал Москве, Выксунский район стал прифронтов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76160" y="1768320"/>
            <a:ext cx="843912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Фонд обороны В июле 1941 года был создан Всесоюзный фонд оборо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обавления текста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3280" y="1979640"/>
            <a:ext cx="9070920" cy="36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3120" y="720720"/>
            <a:ext cx="4324320" cy="6191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11640" y="1768320"/>
            <a:ext cx="46087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мощь Сталинграду. Постановление Советского правительства от 21 августа 1943 года о необходимости оказать помощь Сталинграду нашло живейший отклик у выксунцев. Население отдавало посуду, одежду, обувь, книги, а и иногда и самое последнее ,что у них бы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84240"/>
            <a:ext cx="907092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иданной стойкостью, величайшей отвагой, героизмом и силой духа труженики тыла приближали ,как могли долгожданный День Победы. И они, могут с гордостью сказать: «Мы тоже победили в той войн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3280" y="1800360"/>
            <a:ext cx="4535280" cy="3311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40360" y="4041720"/>
            <a:ext cx="4680000" cy="27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мая 1945 года на Рейхстаг было водружено Знамя Побе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79640" y="1368360"/>
            <a:ext cx="7488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сунцы свято чтят память героев, и каждый год их имена звучат на Вахте памяти в честь Дня побед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ные потомки возлагают венки к Вечному ог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158920" y="2376360"/>
            <a:ext cx="52563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44720" y="1873080"/>
            <a:ext cx="6192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а и ме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408360" y="1552320"/>
            <a:ext cx="316548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труд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и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й Отечественной войны мно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сунцы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чены правительственными наградами: орденами и меда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3280" y="158436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афима Бит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40000" y="1563840"/>
            <a:ext cx="2879640" cy="4916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08360" y="1295280"/>
            <a:ext cx="4535640" cy="60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ерафима Биткова родилась 3 июля 1923 года в селе Сноведь Выксунского района. Она окончила школу №8, работала в отделе организации труда ВМЗ. В 1942 году по комсомольской мобилизации отправилась на фронт. В апреле Сима Биткова была зачислена в восьмой отдельный батальон ВНОС — воздушного наблюдения, оповещений и связи, и назначена начальником 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ночь на 23 марта 1945 года на боевой расчет, где служила Сима, напали польские бандиты. Девушки заняли оборону. В ходе боя Сима Биткова погибла. Она посмертно награждена орденом Отечественной войны II степени. Похоронена в Польше, в городе Соколово-Подляски. Одна из улиц нашего города носит имя отважной дев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1640" y="1511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592360" y="1512720"/>
            <a:ext cx="2016000" cy="2951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881600" y="1511280"/>
            <a:ext cx="2246400" cy="2951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7343640" y="360360"/>
            <a:ext cx="208764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343640" y="3313080"/>
            <a:ext cx="201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Александрович Фа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16520" y="4462560"/>
            <a:ext cx="2211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ётр Семёнович Мах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1540000">
            <a:off x="2664000" y="4465800"/>
            <a:ext cx="1998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еб Васильевич Рощ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4464000"/>
            <a:ext cx="1944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волод Владимирович Сок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6360" y="503280"/>
            <a:ext cx="62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Никто не забыт,ничто не забыто..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-216000"/>
            <a:ext cx="10080720" cy="7775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6360" y="1295280"/>
            <a:ext cx="2390760" cy="374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3280" y="5184720"/>
            <a:ext cx="2448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Васильевич Юш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168720" y="1295280"/>
            <a:ext cx="2519280" cy="374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384720" y="5256360"/>
            <a:ext cx="23032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ел Тихонович Люб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832360" y="647640"/>
            <a:ext cx="2448000" cy="3672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904000" y="4535640"/>
            <a:ext cx="237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Виктор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6360" y="5666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икто не забыт,ничто не забыто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Никто не забыт,ничто не забыто..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6360" y="1582560"/>
            <a:ext cx="244800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1584360"/>
            <a:ext cx="2376720" cy="30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0" y="1582560"/>
            <a:ext cx="2303280" cy="3168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3640" y="4761000"/>
            <a:ext cx="208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Сергеевич Перву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4680000"/>
            <a:ext cx="21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 Дмитриевич Грам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751280"/>
            <a:ext cx="208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 Алексеевич Боб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47640" y="107964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743200" y="1008000"/>
            <a:ext cx="2173320" cy="359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111640" y="1079640"/>
            <a:ext cx="2027520" cy="3527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7199280" y="431640"/>
            <a:ext cx="2171880" cy="360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199280" y="4103640"/>
            <a:ext cx="201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й Степанович Касат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0360" y="4680000"/>
            <a:ext cx="201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Васильевич Локт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59120" y="4751280"/>
            <a:ext cx="218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й Михайлович Саз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640" y="4743360"/>
            <a:ext cx="1879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й Павлович Чуд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280" y="287280"/>
            <a:ext cx="647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Никто не забыт,ничто не забыто..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944720" y="1871640"/>
            <a:ext cx="61214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9 МАЯ — ДЕНЬ ПОБ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871640" y="2303640"/>
            <a:ext cx="52563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-6696000" y="-936720"/>
            <a:ext cx="2246400" cy="2951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727280" y="2106720"/>
            <a:ext cx="59040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668160"/>
            <a:ext cx="907092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на... Вторая мировая война была страшнейшей в истории человечества. В памяти тех, кому пришлось через неё пройти, навсегда осталось военное тяжёлое время. Это страшное слово – «ВОЙ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55640" y="1297080"/>
            <a:ext cx="59770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90709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города разрушали и бомбили. Солдаты погибали на поле боя, а в тылу мирное население умирало от голода и бомбежек. Но несмотря на это наш народ не сд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12720" y="2448000"/>
            <a:ext cx="3167280" cy="1728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27640" y="2519280"/>
            <a:ext cx="3024360" cy="187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016000" y="4606920"/>
            <a:ext cx="3961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82320"/>
            <a:ext cx="907092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годы суровых испытаний Выксунцы внесли достойный вклад в защиту Родины: они отправлялись на фронт, а так же работали в тылу с лозунгом </a:t>
            </a:r>
            <a:br>
              <a:rPr sz="2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Все для фронта, все для побе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32000" y="2376360"/>
            <a:ext cx="540072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99960"/>
            <a:ext cx="907092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сунский металлургический завод с первых дней войны перешёл на военный режим работы. Выксунские металлурги ежедневно совершали трудовой подви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64000" y="4392720"/>
            <a:ext cx="316872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68360" y="2592360"/>
            <a:ext cx="287964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916520" y="3740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000" y="1224000"/>
            <a:ext cx="504036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же завод ДРО за военные годы дал фрон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автомобили БА-20 — 837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корпуса для танков Т-60 — 1802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корпуса для танков Т-70 — 2254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корпуса для САУ-76 — 478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листы для Т-34 — 4863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корпуса к самолёту ИЛ-2 — 20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 для аэросаней —25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золенты для артсистем — 410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уса мин М-82 — 859 40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ка М-20 (снаряд «катюши») — 29 781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уса авиабомб ФАБ-50 —94 20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43640" y="1295280"/>
            <a:ext cx="2879640" cy="1987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43640" y="4313160"/>
            <a:ext cx="3168720" cy="1871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машина БА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487440"/>
            <a:ext cx="504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м танк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„Выксунский металлург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ковая колонна «Выксунский металлур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16520" y="3605040"/>
            <a:ext cx="44434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68360" y="2519280"/>
            <a:ext cx="4032360" cy="230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4392720" y="4680000"/>
            <a:ext cx="4392720" cy="2798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емашина БА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819760" y="2592360"/>
            <a:ext cx="28926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6T16:17:22Z</dcterms:created>
  <dc:creator/>
  <dc:description/>
  <dc:language>en-US</dc:language>
  <cp:lastModifiedBy/>
  <cp:revision>1</cp:revision>
  <dc:subject/>
  <dc:title/>
</cp:coreProperties>
</file>