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gif" ContentType="image/gif"/>
  <Override PartName="/ppt/media/image16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C26A-E528-48DC-B38F-AA312BC2A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808F-4F32-4AFE-8B0A-CB1E053B52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CFE-531F-4093-8AD1-75BDE211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A97-9388-420F-AD9F-435F064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0AB-25E9-4FAD-8D2E-AAC770C9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B0E-9F24-42D2-8061-C47F65B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0A8-5397-46B2-A561-98D1572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6E9-AA0C-4AD1-8AA9-2C21842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96C-6135-47E9-87BA-BB5C04D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45E-F236-4F0D-A6EA-806B9CD8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026-6E6A-4EA1-999F-CD26A750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D19-0A4E-4ECF-8EDE-CF1103ED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32F-0879-46E2-9286-1964398E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051-8B36-4434-BE04-CAF9957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1D63-B102-4570-B607-1095B6523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C:\Users\houm\Desktop\1329922816_14991_1.jpg"/>
          <p:cNvPicPr/>
          <p:nvPr/>
        </p:nvPicPr>
        <p:blipFill>
          <a:blip r:embed="rId1"/>
          <a:stretch/>
        </p:blipFill>
        <p:spPr>
          <a:xfrm>
            <a:off x="646200" y="692280"/>
            <a:ext cx="8028000" cy="5433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617400" y="1197000"/>
            <a:ext cx="88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 день до своего рождения ребёнок спросил у Бога: «Завтра посылают меня на Земл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z_filma_quotmoj_laskovij_i_nezhnij_zverquot_-_vals_(zvukoff.ru)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houm\Desktop\0_66553_ca2ba7cf_xl.jpg"/>
          <p:cNvPicPr/>
          <p:nvPr/>
        </p:nvPicPr>
        <p:blipFill>
          <a:blip r:embed="rId1"/>
          <a:stretch/>
        </p:blipFill>
        <p:spPr>
          <a:xfrm>
            <a:off x="250920" y="476280"/>
            <a:ext cx="8789760" cy="5845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50920" y="981000"/>
            <a:ext cx="102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Затем ребёнок спросил: «Я слышал на Земле есть зло? Кто защитит ме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houm\Desktop\2966541_67cc52ceafe3t1.jpg"/>
          <p:cNvPicPr/>
          <p:nvPr/>
        </p:nvPicPr>
        <p:blipFill>
          <a:blip r:embed="rId1"/>
          <a:stretch/>
        </p:blipFill>
        <p:spPr>
          <a:xfrm>
            <a:off x="684360" y="237960"/>
            <a:ext cx="7920000" cy="6382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1238400" y="1052640"/>
            <a:ext cx="72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ой Ангел защитит тебя даже ценой собствен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houm\Desktop\25b0393fee4d.jpg"/>
          <p:cNvPicPr/>
          <p:nvPr/>
        </p:nvPicPr>
        <p:blipFill>
          <a:blip r:embed="rId1"/>
          <a:stretch/>
        </p:blipFill>
        <p:spPr>
          <a:xfrm>
            <a:off x="179280" y="476280"/>
            <a:ext cx="8569440" cy="5898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749160" y="76212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не будет так грустно, так как я не смогу видеть теб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houm\Desktop\wFn9S2-BEqA.jpg"/>
          <p:cNvPicPr/>
          <p:nvPr/>
        </p:nvPicPr>
        <p:blipFill>
          <a:blip r:embed="rId1"/>
          <a:stretch/>
        </p:blipFill>
        <p:spPr>
          <a:xfrm>
            <a:off x="539640" y="115920"/>
            <a:ext cx="8136000" cy="6507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187280" y="119700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 ответ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Твой ангел расскажет тебе обо мне вс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houm\Desktop\788537814.jpg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5722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755640" y="1341360"/>
            <a:ext cx="87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Покажет путь, как вернуться ко мне… так что я всегда буду рядом с тоб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houm\Desktop\17311974.jpg"/>
          <p:cNvPicPr/>
          <p:nvPr/>
        </p:nvPicPr>
        <p:blipFill>
          <a:blip r:embed="rId1"/>
          <a:stretch/>
        </p:blipFill>
        <p:spPr>
          <a:xfrm>
            <a:off x="843120" y="495360"/>
            <a:ext cx="7819920" cy="574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915840" y="1052640"/>
            <a:ext cx="31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тот момент с Земли стали доноситься голоса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houm\Desktop\60646204.gif"/>
          <p:cNvPicPr/>
          <p:nvPr/>
        </p:nvPicPr>
        <p:blipFill>
          <a:blip r:embed="rId1"/>
          <a:stretch/>
        </p:blipFill>
        <p:spPr>
          <a:xfrm>
            <a:off x="1042920" y="476280"/>
            <a:ext cx="691380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468360" y="549360"/>
            <a:ext cx="45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малыш в спешке спрос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houm\Desktop\article96490.jpg"/>
          <p:cNvPicPr/>
          <p:nvPr/>
        </p:nvPicPr>
        <p:blipFill>
          <a:blip r:embed="rId1"/>
          <a:stretch/>
        </p:blipFill>
        <p:spPr>
          <a:xfrm>
            <a:off x="1403280" y="1047600"/>
            <a:ext cx="6913800" cy="5118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2136960" y="836640"/>
            <a:ext cx="46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же! Скажи же мне, как зовут моего Анг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имя не имеет значени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houm\Desktop\A0GJET4mhPc1.jpg"/>
          <p:cNvPicPr/>
          <p:nvPr/>
        </p:nvPicPr>
        <p:blipFill>
          <a:blip r:embed="rId1"/>
          <a:stretch/>
        </p:blipFill>
        <p:spPr>
          <a:xfrm>
            <a:off x="971640" y="1285920"/>
            <a:ext cx="6840360" cy="4664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houm\Desktop\17311966.jpg"/>
          <p:cNvPicPr/>
          <p:nvPr/>
        </p:nvPicPr>
        <p:blipFill>
          <a:blip r:embed="rId1"/>
          <a:stretch/>
        </p:blipFill>
        <p:spPr>
          <a:xfrm>
            <a:off x="1346040" y="304920"/>
            <a:ext cx="6840720" cy="6553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332000" y="765000"/>
            <a:ext cx="95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ы будешь называть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«Ма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:\Users\houm\Desktop\Anne_Geddes_pea_in_a_pod - копия.jpg"/>
          <p:cNvPicPr/>
          <p:nvPr/>
        </p:nvPicPr>
        <p:blipFill>
          <a:blip r:embed="rId1"/>
          <a:stretch/>
        </p:blipFill>
        <p:spPr>
          <a:xfrm>
            <a:off x="441360" y="476280"/>
            <a:ext cx="8115120" cy="6086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468360" y="1052640"/>
            <a:ext cx="77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ак же я там буду жить, я так мал и беззащи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houm\Desktop\uaJvDmZmMlA.jpg"/>
          <p:cNvPicPr/>
          <p:nvPr/>
        </p:nvPicPr>
        <p:blipFill>
          <a:blip r:embed="rId1"/>
          <a:stretch/>
        </p:blipFill>
        <p:spPr>
          <a:xfrm>
            <a:off x="971640" y="254160"/>
            <a:ext cx="7200720" cy="6349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houm\Desktop\afcfab2dfb0a.gif"/>
          <p:cNvPicPr/>
          <p:nvPr/>
        </p:nvPicPr>
        <p:blipFill>
          <a:blip r:embed="rId1"/>
          <a:stretch/>
        </p:blipFill>
        <p:spPr>
          <a:xfrm>
            <a:off x="1900080" y="1047600"/>
            <a:ext cx="5343840" cy="4762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houm\Desktop\materi.gif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houm\Desktop\94325390_1353971981_a869b40d6ac7.gif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houm\Desktop\92799330_large_deti55.jpg"/>
          <p:cNvPicPr/>
          <p:nvPr/>
        </p:nvPicPr>
        <p:blipFill>
          <a:blip r:embed="rId1"/>
          <a:stretch/>
        </p:blipFill>
        <p:spPr>
          <a:xfrm>
            <a:off x="684360" y="404640"/>
            <a:ext cx="8067600" cy="6050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826920" y="836640"/>
            <a:ext cx="92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 ответ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Я подарю тебе ангела, который  будет ждать тебя и заботиться о теб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ёнок задумался, а потом сказал снова «Здесь на небесах я лишь пою и смеюсь, этого достаточно мне для счасть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houm\Desktop\8059557_7dfa2371.jpg"/>
          <p:cNvPicPr/>
          <p:nvPr/>
        </p:nvPicPr>
        <p:blipFill>
          <a:blip r:embed="rId1"/>
          <a:stretch/>
        </p:blipFill>
        <p:spPr>
          <a:xfrm>
            <a:off x="971640" y="1341360"/>
            <a:ext cx="6985080" cy="4967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г ответи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вой ангел будет петь тебе и улыбаться для теб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houm\Desktop\601.jpg"/>
          <p:cNvPicPr/>
          <p:nvPr/>
        </p:nvPicPr>
        <p:blipFill>
          <a:blip r:embed="rId1"/>
          <a:stretch/>
        </p:blipFill>
        <p:spPr>
          <a:xfrm>
            <a:off x="1476360" y="1484280"/>
            <a:ext cx="7128000" cy="5184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houm\Desktop\601.jpg"/>
          <p:cNvPicPr/>
          <p:nvPr/>
        </p:nvPicPr>
        <p:blipFill>
          <a:blip r:embed="rId1"/>
          <a:stretch/>
        </p:blipFill>
        <p:spPr>
          <a:xfrm>
            <a:off x="3613320" y="3095640"/>
            <a:ext cx="1917360" cy="153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houm\Desktop\1301038122_rebenok.jpg"/>
          <p:cNvPicPr/>
          <p:nvPr/>
        </p:nvPicPr>
        <p:blipFill>
          <a:blip r:embed="rId2"/>
          <a:stretch/>
        </p:blipFill>
        <p:spPr>
          <a:xfrm>
            <a:off x="900000" y="490680"/>
            <a:ext cx="7272360" cy="5817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900000" y="134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Calibri"/>
              </a:rPr>
              <a:t>Ты почувствуешь его любовь и будешь счастлив</a:t>
            </a:r>
            <a:r>
              <a:rPr b="0" lang="ru-RU" sz="1800" spc="-1" strike="noStrike">
                <a:solidFill>
                  <a:srgbClr val="d9d9d9"/>
                </a:solidFill>
                <a:latin typeface="Calibri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houm\Desktop\1257337593_fon-malysh.jpg"/>
          <p:cNvPicPr/>
          <p:nvPr/>
        </p:nvPicPr>
        <p:blipFill>
          <a:blip r:embed="rId1"/>
          <a:stretch/>
        </p:blipFill>
        <p:spPr>
          <a:xfrm>
            <a:off x="355680" y="557280"/>
            <a:ext cx="8609040" cy="5738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684360" y="907920"/>
            <a:ext cx="84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О! Но как я пойму его? Ведь я не знаю его язык… спросил ребенок, пристально глядя на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houm\Desktop\kids-katie-moss-01.jpg"/>
          <p:cNvPicPr/>
          <p:nvPr/>
        </p:nvPicPr>
        <p:blipFill>
          <a:blip r:embed="rId1"/>
          <a:stretch/>
        </p:blipFill>
        <p:spPr>
          <a:xfrm>
            <a:off x="150840" y="268200"/>
            <a:ext cx="8825040" cy="5897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755640" y="981000"/>
            <a:ext cx="54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 что мне делать, если я захочу обратиться  к Теб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houm\Desktop\898089930.jpg"/>
          <p:cNvPicPr/>
          <p:nvPr/>
        </p:nvPicPr>
        <p:blipFill>
          <a:blip r:embed="rId1"/>
          <a:stretch/>
        </p:blipFill>
        <p:spPr>
          <a:xfrm>
            <a:off x="179280" y="19080"/>
            <a:ext cx="8866440" cy="62420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50920" y="1268280"/>
            <a:ext cx="74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 мягко прикоснулся к детской головке, и сказал: «Твой Ангел сложит твои руки вместе и научит тебя молиться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7:07:21Z</dcterms:created>
  <dc:creator>houm</dc:creator>
  <dc:description/>
  <dc:language>en-US</dc:language>
  <cp:lastModifiedBy>www</cp:lastModifiedBy>
  <dcterms:modified xsi:type="dcterms:W3CDTF">2014-12-14T13:38:24Z</dcterms:modified>
  <cp:revision>30</cp:revision>
  <dc:subject/>
  <dc:title>Презентация PowerPoint</dc:title>
</cp:coreProperties>
</file>