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320-C54B-4CFE-8E82-0EC7F227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ECD-F7DB-4A9A-85FA-72610ACF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CD86-5F56-4514-8410-9A872485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1FB-5EB3-4C43-AA61-508B2767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983-7C30-4A62-9A4F-98B77219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1FA-47E9-4956-9F05-7ABD1DAC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BFF-ACCE-44BA-AF23-6C2A85FC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F0D3-CDB3-4599-8774-0888A314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965-D62C-4FFC-858C-04FB3171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3687-EAC4-401D-AB87-D3753BCB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916-9430-4AC3-8AC9-A0988379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44A-5BD8-4CB8-8AC4-8FD2BC13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0F02-D31D-4B27-809E-54DD706A6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_FQf3tkaWI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iiGhyB4XN_w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280360" cy="1469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развитии добрых чувств – творение душ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722600"/>
            <a:ext cx="9144000" cy="5135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404640"/>
            <a:ext cx="8064360" cy="1068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вы думаете, о ком идёт речь в этой сказ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-44280"/>
            <a:ext cx="9144000" cy="1739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чно же, домик – это человек, большая зала – это наши лёгкие, которыми мы дышим, эконом – это наше сердце, которое неустанно работает внутри нас круглые сутки, чтобы мы могли жить, ставеньки – это наши глаза, которые мы закрываем, когда ложимся спать, и открываем, когда просыпаемся. Никого не забыли? Ах, да – хозяйка. Кто же хозяйка нашего дома? Это – ду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735200"/>
            <a:ext cx="914400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22600"/>
            <a:ext cx="9144000" cy="513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189000"/>
            <a:ext cx="7921440" cy="1373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рвежский драматург Генрик Юхан Ибсен сказал однажды: «Душа человека заключается в его делах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0964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76320"/>
            <a:ext cx="864216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ните, что богаче и глубже та душа, которая способна на чувства, помогающие человеку, поддерживающие и ободряющие его. В развитии этих чувств – наше творение ду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1T17:04:20Z</dcterms:created>
  <dc:creator>Пользователь Windows</dc:creator>
  <dc:description/>
  <dc:language>en-US</dc:language>
  <cp:lastModifiedBy>Пользователь Windows</cp:lastModifiedBy>
  <dcterms:modified xsi:type="dcterms:W3CDTF">2022-11-01T17:12:12Z</dcterms:modified>
  <cp:revision>2</cp:revision>
  <dc:subject/>
  <dc:title>В развитии добрых чувств – творение души </dc:title>
</cp:coreProperties>
</file>