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6A2-820D-4CE0-A48C-1962E88B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277-AA6C-46AC-A2D0-20744B6B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AA2-5832-4FFB-946A-B810F948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3A8-7CE7-46C8-A956-8E2B24EA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159-C18D-4306-91A3-20EAB0A0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322-AAB9-4DB6-B4C4-277F332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CC9-D736-443A-8BEE-43BA95EC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414-4EC2-437B-B05E-022726EA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19B-EAEF-4DAD-A66E-714BEC38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3EB-0B45-42C2-A1C6-1920343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C4D-6DDB-4640-BA14-2A94CBE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F9A-C658-4315-AADC-D824EFD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DF29-E0B4-40B7-88F9-ECF2ED249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2RSgQhKrg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рода – волшебные двери к добру и доверию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8686800" cy="131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ё было хорошо у Дуба, и он радовался жизни и окружающему миру, потому что его день был заполнен заботой о других, он видел в этом свой вклад в красоту природы. Так Дуб благодарил природу за внимани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510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8600"/>
            <a:ext cx="861048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народе Дуб стали называть «Дубом раздумий», что очень понравилось дере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152280"/>
            <a:ext cx="8686800" cy="1373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гласит народная мудрость: «Природа – это книга, которую надо прочитать и правильно поня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228600"/>
            <a:ext cx="2971800" cy="137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силий Александрович Сухомлинск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495680"/>
            <a:ext cx="853416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 тому, кто был глух к природе с детства, кто в детские годы не подобрал выпавшего из гнезда птенца, не открыл для себя красоты первой весенней травы, к тому потом с трудом достучится чувство прекрасного, чувство поэзии, а может быть, и простая человечност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7:25:16Z</dcterms:created>
  <dc:creator>user</dc:creator>
  <dc:description/>
  <dc:language>en-US</dc:language>
  <cp:lastModifiedBy>HP</cp:lastModifiedBy>
  <dcterms:modified xsi:type="dcterms:W3CDTF">2022-11-02T07:49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