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A80-412C-49D1-B14D-4BD5992F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C37-A37C-4320-A6EB-322A9891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04D-46C7-45F6-B2DB-9783B832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7E1-1CCC-4841-8DE1-F2E4C772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B25-A86F-4CC4-ADED-CF239ACD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AF2-FBC6-48D9-BE90-E499682D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A8C-25AB-4A4C-B601-86435954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13D-19ED-4368-A38A-6FF07C33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E3C-873C-4F97-BE72-7A623E3E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999-9057-43BC-8F01-43D13D4B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C0B-5071-492F-88D7-07237CF4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23D-3602-45C4-AA30-5BE916C3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C0AA-FB52-483F-B780-488575D48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zYn9NtuLnsc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Жизнь протекает среди люд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318960"/>
            <a:ext cx="8686800" cy="825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дин в поле не воин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имер, в Индии в период с 1843 по 1933 годы было найдено не менее 16 детей, которые провели первые годы своей жизни среди животных и были полностью лишены общения с людьми. В отличие от своих литературных наследников, таких как Маугли Редьярда Киплинга или Тарзан Эдгара Райса Берроуза, людей с относительно нормальным человеческим умом и физическими способностями, а также с врождённым чувством культуры, но более развитым инстинктом выживания, дети джунглей оказались почти неспособными изменить привычки, приобретённые во время жизни среди животных. Те, кто в детстве жил в обществе животных, практически не могут освоить человеческий язык, ходить прямо, осмысленно общаться с другими людьми, несмотря даже на годы, проведённые в обществе людей, заботу и усилия по перевоспит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111480"/>
            <a:ext cx="66420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2280"/>
            <a:ext cx="8686800" cy="2653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авайте посмотрим, что говорили о человеке и окружающих его людях известные мыслители прошлого, и подумаем, как нам строить отношения с нашим окружением, что является главным во взаимоотношениях с ними в современном мире.                       Учебник стр.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680" y="2971800"/>
            <a:ext cx="2065320" cy="2438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5410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 Авре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54864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оганн Вольфганг фон Гё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63920" y="2971800"/>
            <a:ext cx="1627200" cy="2438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95680" y="54864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 Николаевич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54640" y="2971800"/>
            <a:ext cx="209844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0" y="5562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альтер Скот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939000" y="2971800"/>
            <a:ext cx="1824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шельничеств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343400" y="914400"/>
            <a:ext cx="4800600" cy="2711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320" y="609480"/>
            <a:ext cx="4190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вестнейшими отшельниками в России, без сомнения, являлась семья Лыковых, основатели которой Карп и его жена Акулина ушли в тайгу ещё в 30-е годы 20 века. Там они родили детей, и семья стала насчитывать 6 человек. Их случайно нашли геологи в 1978 году. Эти люди не знали о Великой Отечественной войне и других событиях, потрясавших мир на протяжении 40 лет, пока они находились вне цивилизации. Но их отшельническая судьба сложилась трагично. Полностью утратив иммунитет к болезням цивилизации, они заразились вирусной инфекцией, вероятно от тех же геологов, и из всей семьи в живых осталась только Агафья, которой сейчас далеко за 70, и она продолжает жить одна-одинёшенька в тай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76320"/>
            <a:ext cx="91440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едует помнить, что для того, чтобы жить рядом с другими людьми, необходимо придерживаться определённых правил и законов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889280"/>
            <a:ext cx="8839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2T07:25:16Z</dcterms:created>
  <dc:creator>user</dc:creator>
  <dc:description/>
  <dc:language>en-US</dc:language>
  <cp:lastModifiedBy>HP</cp:lastModifiedBy>
  <dcterms:modified xsi:type="dcterms:W3CDTF">2022-11-02T08:33:5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