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CC1D-BD2D-49DA-A600-497EAE30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1795-3459-4A25-A459-A8CFDF90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2F19-3A98-417C-BE7A-7544D5C8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90ED-7A5C-4FD0-96AB-757123C6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5AE8-26F2-42DD-A317-CD9BCFB7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9DC-1DCC-49CD-973D-67BFD01A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F33C-BC89-4C88-A7F3-14D20966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844D-42CD-4754-9808-C14B8CBA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70CE-2D5B-475B-887A-2E1EF459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4926-33EE-4049-8280-2E82BA1E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120E-B63F-40F5-880A-12678278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CCE5-7DCA-40F8-8AD5-D4538E95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D5B8-9ECD-47C0-B85F-302F6E771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wHA8y9jX1ms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ллектив начинается с мен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318960"/>
            <a:ext cx="8686800" cy="1191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 из кого складывается Ваш коллекти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743120"/>
            <a:ext cx="9144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04760"/>
            <a:ext cx="9144000" cy="1495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Но, будучи очень разными, каждый из вас привносит в коллектив что-то своё, и из этого складывается общая атмосфера в нём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Каким же образом это влияет на каждого из вас и на всех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52280"/>
            <a:ext cx="868680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ли коллектив не может работать дружно, если в нём все порознь, то сколько бы людей ни было, больших результатов не достичь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9680"/>
            <a:ext cx="9144000" cy="192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посмотрите, как высоко расположена дверь в этот дом. Это значит, чтобы попасть в него, нужно приложить какие-то усилия. Нарисуйте свой дом, как вы себе представляете ваш классный коллектив. Чтобы попасть в этот дом, нужно пройти шесть ступенек. Итак, начн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014560"/>
            <a:ext cx="914400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20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6858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2T07:25:16Z</dcterms:created>
  <dc:creator>user</dc:creator>
  <dc:description/>
  <dc:language>en-US</dc:language>
  <cp:lastModifiedBy>HP</cp:lastModifiedBy>
  <dcterms:modified xsi:type="dcterms:W3CDTF">2022-11-02T08:58:4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