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FA2-8DB4-41EB-AEFA-071F40CE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A67-1716-479B-9E6F-1C0ED511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73A-0F07-452F-A91B-619C2C85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E51-B550-4319-BADE-1C26AEE3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203-3D93-4CDF-BCBE-D6CF23C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355-D426-4148-ABA9-C0ECF593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29A-4E81-4297-B124-482B863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CF1-01A6-4CA0-A52D-94D907D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B78-6D9C-45FC-9DEC-C9D87E5C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34E-0800-4300-9EDB-DCD6508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802-65B4-4F37-8BA3-110B286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C30-4B93-4500-9F5C-D37B48A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27BA-759D-40B1-A96F-272AC0CC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fcZAVjNO6Q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E8AX1H8YAo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ь свяще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49600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– это единственное благо, данное человеку от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9144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ято выделять два основных вида потребностей: материальные и духов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ые потребност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заны с повседневной жизнью человека. Это потребности в пище, одежде, жилище и тому подоб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внутренний, психический мир человека, его с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внутренняя, моральная сил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овность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свойство души, состоящее в преобладании духовных, нравственных и интеллектуальных интересов над материа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85880"/>
            <a:ext cx="9144000" cy="517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496000" cy="1191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ховность человека как стремление к высоким, высшим смыслам своей жизни обобщает эти понятия, передаёт главный для человека смысл его чувств и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4320"/>
            <a:ext cx="8642160" cy="137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ая и простая нравственная истина – жизнь священна. Священна и неприкасаема сама возможность жить, дарованная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87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ы понимаете изречение Леонардо да Винчи: «Только с пользой прожитая жизнь долг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141720"/>
            <a:ext cx="6389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3T11:43:59Z</dcterms:created>
  <dc:creator>Пользователь Windows</dc:creator>
  <dc:description/>
  <dc:language>en-US</dc:language>
  <cp:lastModifiedBy>Пользователь Windows</cp:lastModifiedBy>
  <dcterms:modified xsi:type="dcterms:W3CDTF">2022-11-03T11:57:26Z</dcterms:modified>
  <cp:revision>2</cp:revision>
  <dc:subject/>
  <dc:title>Жизнь священна</dc:title>
</cp:coreProperties>
</file>