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37D-1766-4F88-B68E-E3289F56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9ED-67EF-499D-9CED-FA683408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746-E7DB-47CA-8E80-F9E7973E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D42-B964-4FDF-8F16-90B8A004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327-FA45-4272-9EBA-4C853020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28E-8F5D-4B13-AF1E-F102FB42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E28-1442-42EB-B406-7876B151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C3D-9140-43A1-8E03-03CDBCB6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240-7148-4046-A7F9-F52CC24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455-49EB-4FA5-BDE5-C4148F9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68E-6F37-4EB8-BDB6-0BF98D99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4A0-BD97-4769-80BF-0267F62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4887-4917-4F0A-B44C-93B0CCB0C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5aZrvy1PJY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031IGpK6ZU&amp;t=59s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лосердие – закон жиз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89000"/>
            <a:ext cx="8496000" cy="192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е чувство вызывает у вас одинокий человек, который не ждёт для себя ничего доброго от жизни? Жалость? Как вы думаете, человеку приятно увидеть это по отношению к себ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е же чувство будет настоящим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12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ь такое понятие – милосердие. Оно близко понятию «сочувствие». Это то, что мило сердцу и того, кто его проявляет, и того, кому оно адресовано. Что же такое милосерд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971800"/>
            <a:ext cx="6877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77760"/>
            <a:ext cx="5327640" cy="6677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педагог Шалва Александрович Амонашвили говор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зависимо от того, ждут от тебя добро или не ждут его, – твори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того, заметят твоё добро или не заметят его, – твори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того, принимают твоё добро или отбрасывают его, – твори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от того, чем будут платить тебе за добро, – добром или злом – твори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и добро и ни у кого не спрашивай разрешения, ибо никто не властен над твоим добр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9000"/>
            <a:ext cx="8642160" cy="283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тот момент, когда он отдал свой кошелёк, его сердце осветила радость большая, чем у тех, кто принял его дар. Он понял смысл свое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4560" y="2924280"/>
            <a:ext cx="691344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7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вы понимаете изречение Леонардо да Винчи: «Только с пользой прожитая жизнь долг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276640"/>
            <a:ext cx="79214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3T11:43:59Z</dcterms:created>
  <dc:creator>Пользователь Windows</dc:creator>
  <dc:description/>
  <dc:language>en-US</dc:language>
  <cp:lastModifiedBy>Пользователь Windows</cp:lastModifiedBy>
  <dcterms:modified xsi:type="dcterms:W3CDTF">2022-11-03T12:29:57Z</dcterms:modified>
  <cp:revision>4</cp:revision>
  <dc:subject/>
  <dc:title>Жизнь священна</dc:title>
</cp:coreProperties>
</file>