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23B-E355-4953-B456-084FF508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B18-F0DB-4AF3-B54A-162226C7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5EC-7784-4880-8934-69303E91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4E6-870D-44DA-B528-D603045A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F10-93A8-4B02-BCE0-F2DD1E31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677-6449-46D4-B635-E2B2300E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C6F-CA3F-4FEB-B5EB-F556299D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E9D-185F-472A-A3F7-4166329D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799-4F88-4895-9DFE-8D824106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5E1-1472-46E6-AA91-34410407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A08-8C67-4FB3-92FD-66E238B2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A1D-583B-4BE1-A79C-F8856DCA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FB39-1F13-41B3-A233-7E42BB18A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ioxMjTfFlj0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www.youtube.com/watch?v=Sv_3rjndq0s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m18ZYcSwC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rcRect l="12727" t="10828" r="31383" b="23222"/>
          <a:stretch/>
        </p:blipFill>
        <p:spPr>
          <a:xfrm>
            <a:off x="1440" y="171360"/>
            <a:ext cx="910764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2274840"/>
            <a:ext cx="8137800" cy="4583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одная мудрость гласит: «Доброта, что солнце», «Доброе слово, что ясный день», «Жизнь дана на добрые дела», «Добрый человек придёт, словно свету принесёт», «Добрый человек лучше каменного мост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умайте: почему же для слова «доброта» народом были выбраны именно такие сравнения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333360"/>
            <a:ext cx="6913800" cy="35067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ым быть совсем-совсем непрост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зависит доброта от ро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зависит доброта от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ота не пряник, не конф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ота с годами не стар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ота от холода согр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доброта, как солнце, свет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дуются взрослые и д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57774" t="0" r="0" b="0"/>
          <a:stretch/>
        </p:blipFill>
        <p:spPr>
          <a:xfrm>
            <a:off x="5454720" y="1700280"/>
            <a:ext cx="3689280" cy="5157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9280" y="4076640"/>
            <a:ext cx="30052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9144000" cy="5162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154080"/>
            <a:ext cx="878544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любого из нас, точно так же, как и для сказочных героев, очень важно сочетание всех качеств, так как одно помогает проявиться друг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59876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каждый день сталкивается со злом, которое входит в привычку: хамство, грубость, эгоизм, равнодушие к страданию, чужой б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ать добро и будь добрым челов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7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2T18:16:10Z</dcterms:created>
  <dc:creator>Пользователь Windows</dc:creator>
  <dc:description/>
  <dc:language>en-US</dc:language>
  <cp:lastModifiedBy>Пользователь Windows</cp:lastModifiedBy>
  <dcterms:modified xsi:type="dcterms:W3CDTF">2022-09-12T18:55:07Z</dcterms:modified>
  <cp:revision>2</cp:revision>
  <dc:subject/>
  <dc:title>Слайд 1</dc:title>
</cp:coreProperties>
</file>