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E2D-5666-4EF6-8FBE-5A574CFA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382-F801-450E-9F5F-019E66B5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3E5-61FE-49C7-9370-C46B94F1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308-78B4-483D-91B8-02DF8D0C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BEC-321D-478F-ADD6-1F3F66FB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786-7CBF-489A-BDE3-3F8640B1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C8B-82EF-4157-A55A-145E2A46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A38-DD1E-4DD6-9EAA-5399BFBF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12A-3CCC-4F87-975D-33A8AC6D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CE3-2845-42A5-B6C6-DCFC26D2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56D-D164-4BE2-BCC8-9EFBC9FE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0A9-AC6D-48DE-BD19-A7C156F4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22F3-6766-43BB-8609-1947073E6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e088jAEu8Y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26684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52280"/>
            <a:ext cx="807732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как вы думаете, как камни стали такими гладкими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5112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166680"/>
            <a:ext cx="8991720" cy="2244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– это одна из главных потребностей челове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ч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– это основное средство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онация, мимика, жес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76320"/>
            <a:ext cx="8305920" cy="137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 и тот же выразительный жест у разных народов может иметь совершенно различное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697040"/>
            <a:ext cx="9144000" cy="516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457200"/>
            <a:ext cx="739116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тичность, чуткость, делика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548080"/>
            <a:ext cx="7696080" cy="430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основании «золотого правила» можно сформулировать важные принципы общения, такие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        В отношениях с другим человеком всегда будьте вежливыми, внимательными, уважительными, доброжелательными и тактич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        Не позволяйте себе смеяться над неловкостью или недостатками друг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        Не считайте себя лучше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        Не бойтесь уступить в сп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5T07:07:15Z</dcterms:created>
  <dc:creator>user</dc:creator>
  <dc:description/>
  <dc:language>en-US</dc:language>
  <cp:lastModifiedBy>HP</cp:lastModifiedBy>
  <dcterms:modified xsi:type="dcterms:W3CDTF">2022-09-19T11:39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