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EB80-C125-4260-8B64-F83B2E8E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9152-4CF4-4EC7-9797-21327DDB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A740-828A-441D-B387-1538FA36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D66E-A87D-4B37-9D76-4A073C03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694D-7484-48C6-AE86-36C43B2D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A53D-FFEE-4CCC-93D8-64663BAF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4131-996C-4BB0-A623-A1F6B615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4E78-8CB5-4695-AFDC-FECAED7C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522C-8392-4F2B-87C3-2F5D7097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31F1-8FB4-4556-87CA-16C7F7DC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6AF0-C4CA-4B7A-9818-FD896500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0E1F-F636-49D8-A597-7DB22422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31EA-979C-4D50-A7EA-4EE1D9EE0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zj2vDzl73H0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hVGuV0MIr3U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457200"/>
            <a:ext cx="7924680" cy="703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рисуй челове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735200"/>
            <a:ext cx="9144000" cy="5122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09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юдей неинтересных не существует. С особенностями каждого человека необходимо считаться, учитывать их при общении.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52280"/>
            <a:ext cx="91440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свете не так много вещей, которые являются вечными. Ведь золото, драгоценные украшения, изысканная одежда, дорогие автомобили и дома — всё это ценности ложные, времен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2332080"/>
            <a:ext cx="7162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749600"/>
            <a:ext cx="9144000" cy="5108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как вы думаете, сколько надо иметь друзей, чтобы чувствовать себя счастливым?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22600"/>
            <a:ext cx="9144000" cy="5135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304920"/>
            <a:ext cx="792504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тоящий друг — это один из немногих, кто может сказать всю правду в лицо, «открыть» глаза на что-то, показать, где вы были не прав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35200"/>
            <a:ext cx="9144000" cy="5122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" y="304920"/>
            <a:ext cx="861048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мотря на свою индивидуальность каждый человек должен дорожить своими друзьями, оберегать их и стараться сохран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22T13:52:19Z</dcterms:created>
  <dc:creator>user</dc:creator>
  <dc:description/>
  <dc:language>en-US</dc:language>
  <cp:lastModifiedBy>HP</cp:lastModifiedBy>
  <dcterms:modified xsi:type="dcterms:W3CDTF">2022-09-22T14:21:0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