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0BD-0946-471E-9C0D-455CD331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505-5EE3-4274-92F8-DD21C23D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675-B5E8-4C73-B820-29A6252A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02B-284D-42AE-B160-3F3791C4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227-8DE1-4E0F-97D4-590F120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9DA-55E3-43C4-814D-663A8FA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CFA-53A5-4557-BC15-01B442AC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7F5-25FE-48F9-ACC0-9AE5F4E2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8E1-613F-4DC3-8068-2796E26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6FE-1073-40EE-B7C1-E3C8B5E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340-825A-4DB8-8B0C-1949341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CFE-104B-42D6-B542-BED87DF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56A-505D-43CC-B1F8-7D6210FE3E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AAEA-B02D-43BD-8680-D931EC659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464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Геродот из Галикарнасса собрал и записал эти сведения, чтобы прошедшие события с течением времени не пришли в забвение и великие и удивления достойные деяния как эллинов, так и варваров не остались в безвестности, в особенности же то, почему они вели войны друг с друго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стория» Герод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до н.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9BA-5AB6-452B-9F9A-74FA6063F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643280" y="1111320"/>
            <a:ext cx="4105440" cy="55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Проверь себя!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194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учает наука истор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кие главные вопросы отвечают историки, изучая прошл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фак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j0301252"/>
          <p:cNvPicPr/>
          <p:nvPr/>
        </p:nvPicPr>
        <p:blipFill>
          <a:blip r:embed="rId1"/>
          <a:stretch/>
        </p:blipFill>
        <p:spPr>
          <a:xfrm>
            <a:off x="539640" y="1341360"/>
            <a:ext cx="2922840" cy="249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1378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j021765.wav" descr=""/>
          <p:cNvPicPr/>
          <p:nvPr/>
        </p:nvPicPr>
        <p:blipFill>
          <a:blip r:embed="rId1"/>
          <a:stretch/>
        </p:blipFill>
        <p:spPr>
          <a:xfrm>
            <a:off x="7308720" y="5446800"/>
            <a:ext cx="663840" cy="66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в тетрадь наиболее значительные факты истории вашей семьи. Укажите, где и когда они произош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домашнее"/>
          <p:cNvPicPr/>
          <p:nvPr/>
        </p:nvPicPr>
        <p:blipFill>
          <a:blip r:embed="rId1"/>
          <a:stretch/>
        </p:blipFill>
        <p:spPr>
          <a:xfrm>
            <a:off x="6084720" y="3645000"/>
            <a:ext cx="2857680" cy="302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то объединяет иллюстрац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автомобиль"/>
          <p:cNvPicPr/>
          <p:nvPr/>
        </p:nvPicPr>
        <p:blipFill>
          <a:blip r:embed="rId1"/>
          <a:stretch/>
        </p:blipFill>
        <p:spPr>
          <a:xfrm>
            <a:off x="179280" y="1341360"/>
            <a:ext cx="40388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упец"/>
          <p:cNvPicPr/>
          <p:nvPr/>
        </p:nvPicPr>
        <p:blipFill>
          <a:blip r:embed="rId2"/>
          <a:stretch/>
        </p:blipFill>
        <p:spPr>
          <a:xfrm>
            <a:off x="4356000" y="1327320"/>
            <a:ext cx="4294440" cy="291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ремль Васнецов"/>
          <p:cNvPicPr/>
          <p:nvPr/>
        </p:nvPicPr>
        <p:blipFill>
          <a:blip r:embed="rId3"/>
          <a:stretch/>
        </p:blipFill>
        <p:spPr>
          <a:xfrm>
            <a:off x="2124000" y="3832200"/>
            <a:ext cx="4248360" cy="302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Arial"/>
              </a:rPr>
              <a:t>Что изучает истор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7921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наука о прош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аботают исто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DE51-CC16-4669-8096-29E0839DDA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9B8-7E53-49B6-9E59-F7F1BC58D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СТОРИЯ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греч. рассказ об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узнанном)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 это наука,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которая  изучает жизнь и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деятельность людей в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прошлом.</a:t>
            </a:r>
            <a:br>
              <a:rPr sz="4000"/>
            </a:br>
            <a:br>
              <a:rPr sz="4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рмин - слово или словосочетание, которое точно обозначает поня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79311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торический фа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ое событи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ошлого, сведения 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м дошли до н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Рисунок1"/>
          <p:cNvPicPr/>
          <p:nvPr/>
        </p:nvPicPr>
        <p:blipFill>
          <a:blip r:embed="rId1"/>
          <a:stretch/>
        </p:blipFill>
        <p:spPr>
          <a:xfrm>
            <a:off x="5148360" y="3789360"/>
            <a:ext cx="3671640" cy="276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книга2"/>
          <p:cNvPicPr/>
          <p:nvPr/>
        </p:nvPicPr>
        <p:blipFill>
          <a:blip r:embed="rId2"/>
          <a:stretch/>
        </p:blipFill>
        <p:spPr>
          <a:xfrm>
            <a:off x="5148360" y="1413000"/>
            <a:ext cx="371304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ий ф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изош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произошло?                         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Д.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д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произош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участвов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произош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D048-CAA9-407D-A384-54BEE78524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6768-A864-494A-A9F7-3F1EAD81D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авая фигурная скобка 7"/>
          <p:cNvSpPr/>
          <p:nvPr/>
        </p:nvSpPr>
        <p:spPr>
          <a:xfrm rot="173400">
            <a:off x="4051080" y="1552320"/>
            <a:ext cx="2104920" cy="2038320"/>
          </a:xfrm>
          <a:custGeom>
            <a:avLst/>
            <a:gdLst>
              <a:gd name="textAreaLeft" fmla="*/ 0 w 2104920"/>
              <a:gd name="textAreaRight" fmla="*/ 759960 w 2104920"/>
              <a:gd name="textAreaTop" fmla="*/ 52920 h 2038320"/>
              <a:gd name="textAreaBottom" fmla="*/ 1985400 h 20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8"/>
                </a:lnTo>
                <a:cubicBezTo>
                  <a:pt x="10800" y="9868"/>
                  <a:pt x="16200" y="10768"/>
                  <a:pt x="21600" y="10768"/>
                </a:cubicBezTo>
                <a:cubicBezTo>
                  <a:pt x="16200" y="10768"/>
                  <a:pt x="10800" y="11668"/>
                  <a:pt x="10800" y="1256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ют истори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Геродот"/>
          <p:cNvPicPr/>
          <p:nvPr/>
        </p:nvPicPr>
        <p:blipFill>
          <a:blip r:embed="rId1"/>
          <a:stretch/>
        </p:blipFill>
        <p:spPr>
          <a:xfrm>
            <a:off x="1042920" y="1197000"/>
            <a:ext cx="2457360" cy="3340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4670280"/>
            <a:ext cx="82296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одот – древнегреческий                       Скрынников Руслан Григорьевич  (1931-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до н.э. До нашего                   2009) – современный историк, професс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и дошел его труд                            Петербургского университет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стория» - первое историческое             исследователь истории Рос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чинение. Его назыв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тцом истори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Скрынников"/>
          <p:cNvPicPr/>
          <p:nvPr/>
        </p:nvPicPr>
        <p:blipFill>
          <a:blip r:embed="rId2"/>
          <a:stretch/>
        </p:blipFill>
        <p:spPr>
          <a:xfrm>
            <a:off x="5148360" y="1197000"/>
            <a:ext cx="225432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обенности истории как нау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ь сведений о собы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пристрастность истор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37:22Z</dcterms:created>
  <dc:creator>Andrey</dc:creator>
  <dc:description>http://aida.ucoz.ru</dc:description>
  <dc:language>en-US</dc:language>
  <cp:lastModifiedBy>Катя</cp:lastModifiedBy>
  <dcterms:modified xsi:type="dcterms:W3CDTF">2022-11-07T19:34:14Z</dcterms:modified>
  <cp:revision>11</cp:revision>
  <dc:subject/>
  <dc:title>Что изучает история</dc:title>
</cp:coreProperties>
</file>