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483-ABD4-46D1-8BD7-8472A216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FEE-FFAD-4DDF-84F5-FF3CA868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B46-8253-4EFA-9774-E1EFDA85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CB4-D325-44CF-A92D-D76187CD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EEB-9980-4E49-8E5C-DA55BCA6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61E-7FCB-4609-9CA5-3DD85F1B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967-7F80-4244-A41D-B4F5AD88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072-69E3-45DB-BFD7-6CEE9834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141-B080-4A4D-885B-99ABB6A5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984-73CE-43F4-8801-5DDAB93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2E0-E263-4047-A8E6-B616DE33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79C-7258-4A26-BB5D-C5509BAF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5924-254A-4997-B3DA-A2A4EB57F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2940vw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268280" y="2859120"/>
            <a:ext cx="33768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49600"/>
            <a:ext cx="9144000" cy="510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04920"/>
            <a:ext cx="830592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жно или нельзя вести себя следующим образ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3520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72880"/>
            <a:ext cx="8686800" cy="1068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ик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– это идеальные правила поведения человека, принятые в конкретном общ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3520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457200"/>
            <a:ext cx="7924680" cy="1068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вы думаете, такой поступок достоин награды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80880"/>
            <a:ext cx="83059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быть поэтому и была придумана поговорка сгорел на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76320"/>
            <a:ext cx="914400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ши дни этикет проявляется в манерах, жестах, речи, поведении людей в ежедневном быту, на работе, на улице, в общественных местах, в гостях и на церемониях, приёмах, деловых переговорах и даже в одеж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749600"/>
            <a:ext cx="9144000" cy="5108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4920"/>
            <a:ext cx="861048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, согласно этикету, должен сейчас сделать Витя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380880"/>
            <a:ext cx="82296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должна поздороваться Маша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22T14:29:08Z</dcterms:created>
  <dc:creator>user</dc:creator>
  <dc:description/>
  <dc:language>en-US</dc:language>
  <cp:lastModifiedBy>HP</cp:lastModifiedBy>
  <dcterms:modified xsi:type="dcterms:W3CDTF">2022-09-22T14:38:3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