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0CA-3966-4C21-B2BA-90F690CE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03D-246D-4D2A-B63C-83BEEAF9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DEC-231C-4EB9-85D2-FDD1A547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790-98CF-4B46-8F21-48436398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E84-E387-45E2-B486-41A7352C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A34-B98B-4D2B-A6F4-2FC1C75D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B1C-9EE8-4770-A323-2F17FDF3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5F08-B38D-4BED-96E3-7AFF3B79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871-36BE-4A44-B204-4330C450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C05-3066-4BBF-9B92-4BAA6C3D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9EAB-C077-4E25-AD93-AC65D19C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375-BC40-498C-A176-4B6FE868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BB2F-9652-4294-B9C8-B720614F6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304920"/>
            <a:ext cx="853452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одной очень далёкой стране жил да был мальчик с необычным именем Этик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697040"/>
            <a:ext cx="9144000" cy="5160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380880"/>
            <a:ext cx="82296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лшебник взмахнул своей палочкой, и перед нашим героем появились стол и сту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76320"/>
            <a:ext cx="838224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ньше в дворянских семьях, для того, чтобы научить детей правильно сидеть за столом, им вкладывали подмышки книги, которые надо было удерживать, прижимая локти к бокам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722600"/>
            <a:ext cx="9144000" cy="5135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52280"/>
            <a:ext cx="8076960" cy="1373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лько наш герой собрался пройти через городские ворота, как его сразу же окликнул стражн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722600"/>
            <a:ext cx="9144000" cy="5135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380880"/>
            <a:ext cx="8305920" cy="7034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оминай следующие прави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73520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76320"/>
            <a:ext cx="8686800" cy="1557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икет успешно сдал экзамены, что сам церемониймейстер пригласил его остаться жить в городе и назвать в честь него правила поведения человека в различных жизненных ситуац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22T14:41:16Z</dcterms:created>
  <dc:creator>user</dc:creator>
  <dc:description/>
  <dc:language>en-US</dc:language>
  <cp:lastModifiedBy>HP</cp:lastModifiedBy>
  <dcterms:modified xsi:type="dcterms:W3CDTF">2022-09-22T14:52:3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