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5934-1905-4599-9BE7-B1091704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E3D-62FC-4B91-BFD0-C74DEAEC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A0E-C92F-4A3B-AC65-AE184984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9C3-2D9E-4C91-B747-32EF5BDB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DFC-6A88-4ABF-B7B2-075B5CF7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00C-45E6-468E-A16A-E61C9A74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E9A0-7E75-4F85-992B-82FEF6EF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637-D32F-490B-91D6-076F7E61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21C-52A1-4679-B908-D3A1C262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EBE-70D5-4959-887E-DFD1DDE8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22F-0539-421C-B820-EA1381DF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2D8-B69B-4672-AF82-C8959F13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220A-6E44-4A54-88EB-82BAF52FE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i_kpY2CikrU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истый ручеёк нашей реч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44280"/>
            <a:ext cx="8496000" cy="155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того, чтобы речка текла плавно, была полноводной, ничто не должно мешать её течению, засорять её поток. А как вы думаете, что нужно делать для того, чтобы наша с вами речь тоже текла плав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741320"/>
            <a:ext cx="9144000" cy="5116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6920" y="333360"/>
            <a:ext cx="7561440" cy="76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ведём экспери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22600"/>
            <a:ext cx="9144000" cy="513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26920" y="290520"/>
            <a:ext cx="734544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мощь врача… скоре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722600"/>
            <a:ext cx="9144000" cy="5135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189000"/>
            <a:ext cx="8136000" cy="131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годня мы будем составлять сочинения об осеннем небе, о перелётных птицах. Каждый из вас пусть скажет, какое сейчас небо. Смотрите, дети, внимательно. Берите из родного языка красивые, точные с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73520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58920" y="333360"/>
            <a:ext cx="655308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гра «Ручеёк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1T16:38:10Z</dcterms:created>
  <dc:creator>Пользователь Windows</dc:creator>
  <dc:description/>
  <dc:language>en-US</dc:language>
  <cp:lastModifiedBy>Пользователь Windows</cp:lastModifiedBy>
  <dcterms:modified xsi:type="dcterms:W3CDTF">2022-11-01T16:49:32Z</dcterms:modified>
  <cp:revision>2</cp:revision>
  <dc:subject/>
  <dc:title>Чистый ручеёк нашей речи </dc:title>
</cp:coreProperties>
</file>