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76-9285-4CDC-AC77-839FE0DF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FAA-1DFD-4F01-A68F-9A50EEB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07C-0B83-46E9-9490-8C842A33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AC8-06AF-492F-B8BE-47B93457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32C-8F94-4D0C-BC8A-06AA3FE2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5742-84A4-402A-A4E1-B7ED409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BB41-93E3-49C7-B1EA-1A13D71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E588-43FD-4FCE-960D-FADF10F3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ACC0-9156-4253-AF95-AD62FC1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68A7-DB91-4E80-842C-6BC5F00A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0FF4-3859-4817-AA29-A32E323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235-4F40-4842-BEE1-9EC712E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E7E9-70FB-406F-BFD7-C7A5EAF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F35F-9FCB-43CF-8A11-350C6F0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182-6693-4FD2-B469-8EE4DE0C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819F-188F-43C0-8F07-02084158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9547-39B3-435A-946E-8AED77DD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B9BC-6CD6-4643-A123-5BF8F064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50C1-84C1-43CE-A22D-888CA09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C443-7426-4BC9-913D-87A8DFBB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A155-F2BE-4076-A021-2ADF90A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DBAF-A21F-42D0-B0EA-FAF20C5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319-6B7D-448E-852F-2781E9A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A128-7635-49B6-B8CC-87E3A6B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F0B6-0FB8-44F0-8273-B9BDF9D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E679-9B6E-4B97-8F15-C8689C7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D5F9-42D3-47CB-A84E-83EBA82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418A-4F0E-4C44-9BA5-363C8B9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2813-87B5-4FA1-9F91-51B0E42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9C6-7855-4C17-9E96-2F447131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3C66-8D21-410C-A861-B74A8E2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7504-D3ED-4C1D-8DAF-DAE80A25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0699-8EE5-4814-8256-F3052A44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F50-102E-46A4-B76E-22BD249A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268B-335E-4CE5-945D-E32B874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3602-57E2-492D-8782-6F6BFA4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9AD4-7B20-4C16-8973-27899BF1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FBD2-62EE-4E63-88E7-0542B46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F1CF-7AF9-4F04-8837-409F281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5E92-83DC-488B-8EC7-DBFC243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F0D7-DF2D-4902-93CC-515CC838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8723-9700-497B-8D9B-4DB3D97D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694A-809C-4A17-AFD7-0D16B627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E26E-10A9-4AEB-8F63-A32EB77B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B9B-601D-4985-9E96-57853379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16E1-5DD2-4936-8F9E-AB196C1D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D588-2174-472B-B73F-28C1AF2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85CD-4207-4147-8781-3D20DF6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1DDC-925B-409E-92EA-807F91CF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494A-6666-4EE3-AB4B-BFB41FF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FEFF-D58F-4BCB-ABEE-4E2D95F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64B1-3A1B-4951-99E1-8D14BC3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52CC-A68E-467C-88E2-87938B9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53FA-358F-4689-928E-9D41F40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E97A-4629-4EAF-8557-6B006271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0AA-56F6-4A1F-AE7E-766D621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65432-F6E6-414F-8512-D7EDB581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8F3-EC2C-4722-9433-1C7897E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64F-4B34-4B9C-B5D3-E1FEED4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E2F-22C0-4C74-B89A-D541B2F3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9C4B-CE07-4E35-A991-0CEC156558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74A-9808-4CF6-9238-5F26F95397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C4B4-3A70-4D08-AC94-32FA1DE9DF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143-0B62-46E4-8615-40BA60A605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962-5B42-45DF-BF6F-700C495EEF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95280" y="141300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Constantia"/>
              </a:rPr>
              <a:t>чрезвычайные ситу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5"/>
          <p:cNvSpPr/>
          <p:nvPr/>
        </p:nvSpPr>
        <p:spPr>
          <a:xfrm>
            <a:off x="250920" y="54936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79280" y="10652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состояние защищенности жизненно  важных интересов  личности, общества и государства от внутренних и внешних угр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-30600" y="18572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Жизненно важные интере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8"/>
          <p:cNvSpPr/>
          <p:nvPr/>
        </p:nvSpPr>
        <p:spPr>
          <a:xfrm>
            <a:off x="179280" y="25052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совокупность потребностей, удовлетворение которых обеспечивает существование и возможности прогрессивного  развития личности, общества,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179280" y="423396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совокупность условий и факторов, создающих опасность жизненно важным интересам личности, общества 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179280" y="36576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Угроза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5"/>
          <p:cNvSpPr/>
          <p:nvPr/>
        </p:nvSpPr>
        <p:spPr>
          <a:xfrm>
            <a:off x="24840" y="1890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Обеспечение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179280" y="76500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проведение единой государственной политики в области обеспечения безопасности , система мер экономического, политического, организационного и иного характера, адекватных угрозам жизненно важным интересам личности, общества 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08000" y="242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Обеспечение безопас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жизне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216000" y="3429000"/>
            <a:ext cx="70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сфера деятельности, целью которой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реализация права людей на жизнь и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179280" y="5300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безопасность  ее многонационального народа как носителя суверенитета и единственного источника власти в государ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1"/>
          <p:cNvSpPr/>
          <p:nvPr/>
        </p:nvSpPr>
        <p:spPr>
          <a:xfrm>
            <a:off x="108000" y="4221000"/>
            <a:ext cx="63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Национальная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 безопас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4"/>
          <p:cNvSpPr/>
          <p:nvPr/>
        </p:nvSpPr>
        <p:spPr>
          <a:xfrm>
            <a:off x="179280" y="76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nstantia"/>
              </a:rPr>
              <a:t>- возможность при конкретных условиях создания негативных воздействий, способных привести к отрицательным последствиям для жизнедеятельности человека и определенному  ущербу окружающей его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93960" y="18900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Опас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179280" y="25574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явление, приводящее к формированию вредных или поражающих факторов для населения, объектов техносферы и окружающей природ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59400" y="200016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Опасное яв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39600" y="351324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Опасная  ситу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179280" y="40892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стечение обстоятельств, которые при определенном развитии могут привести к отрицательным последствиям</a:t>
            </a:r>
            <a:r>
              <a:rPr b="1" lang="en-US" sz="2000" spc="-1" strike="noStrike">
                <a:solidFill>
                  <a:srgbClr val="0033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108000" y="54579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крайне необычная по сложности  опасная ситуация, на грани несчастного случая</a:t>
            </a:r>
            <a:r>
              <a:rPr b="1" lang="en-US" sz="2000" spc="-1" strike="noStrike">
                <a:solidFill>
                  <a:srgbClr val="0033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71280" y="48816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Экстремальная ситу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0"/>
          <p:cNvSpPr/>
          <p:nvPr/>
        </p:nvSpPr>
        <p:spPr>
          <a:xfrm>
            <a:off x="179280" y="97308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опасное техногенное явление, происходящее по конструктивным, производственным, технологическим или эксплуатационным причи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117720" y="39672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Ав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179280" y="2373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nstantia"/>
              </a:rPr>
              <a:t>- непредвиденная и неожиданная ситуация, возникшая в результате природных явлений или деятельности человека и несущая угрозу его жизни, следствием которой стала  гибель человека или большой группы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86760" y="184464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5"/>
          <p:cNvSpPr/>
          <p:nvPr/>
        </p:nvSpPr>
        <p:spPr>
          <a:xfrm>
            <a:off x="179280" y="393372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- природное явление, носящее чрезвычайный характер и приводящее к нарушению нормальной деятельности населения, гибели людей, разрушению и уничтожению материаль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179280" y="3357720"/>
            <a:ext cx="60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Стихийное бед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539640" y="62064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резвычайная 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619280" y="1413000"/>
            <a:ext cx="648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nstantia"/>
              </a:rPr>
              <a:t>обстановка на определенной территории, сложившаяся в результате аварии, опасного природного явления, катастрофы, стихийног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ли иного бедствия, которые могут повлечь или повлекли за собой человеческие жертвы, ущерб здоровью людей и нарушение условий жизнедеятельности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5"/>
          <p:cNvSpPr/>
          <p:nvPr/>
        </p:nvSpPr>
        <p:spPr>
          <a:xfrm>
            <a:off x="179280" y="26028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1. По сфере возни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личают природные, техногенные, экологические, социального характера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179280" y="1052640"/>
            <a:ext cx="878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2. По ведомственной принадле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в строительстве (промышленном, гражданском, транспортн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промышленности (атомной, химической, пищевой, металлургической, машиностроительной, горнодобывающей, удобр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коммунально-бытовой сфере (на водопроводно-канализационных системах, газовых, тепловых, электрических сетях, при эксплуатации зданий и сооруж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) на транспорте (железнодорожном, автомобильном, трубопроводном, воздушном, водн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) в сельском и лесном хозя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358920" y="4365720"/>
            <a:ext cx="878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3. По масштабу возможных последствий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nstantia"/>
              </a:rPr>
              <a:t>ЧС классифицируются в зависимости о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количества людей, пострадавших в этих ситуациях, у которых оказались нарушены условия жизне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размера материального ущер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границы зон распространения поражающих факторов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5"/>
          <p:cNvSpPr/>
          <p:nvPr/>
        </p:nvSpPr>
        <p:spPr>
          <a:xfrm>
            <a:off x="216000" y="40464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бсолютная безопасность всего населения недостижима, так как с очень малой вероятностью, но все же возможны опасные явления природного, техногенного или социального характера, от которых не будет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0920" y="19969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связи возрастает роль индивидуума в обеспечении личной безопасности в различных чрезвычайных ситуациях. Каждый человек должен формировать свою культуру в области безопасности жизне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18:23Z</dcterms:created>
  <dc:creator>ADMIN</dc:creator>
  <dc:description/>
  <dc:language>en-US</dc:language>
  <cp:lastModifiedBy>Евгения</cp:lastModifiedBy>
  <dcterms:modified xsi:type="dcterms:W3CDTF">2022-11-07T16:31:37Z</dcterms:modified>
  <cp:revision>182</cp:revision>
  <dc:subject/>
  <dc:title>Россия – многонациональная импе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067</vt:lpwstr>
  </property>
</Properties>
</file>