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jpeg" ContentType="image/jpeg"/>
  <Override PartName="/ppt/media/image1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2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6BE2-6A5C-4AE0-A9D4-F3E0175F5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AE6A-3F31-46A4-A232-3A2CB77D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5BF6-BD96-461D-A429-A9C26F681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BC7C-155E-4F63-9AD4-40FA3439E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D968-6DFA-4814-B3BE-1E40C93D5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AB49-4735-424B-80FF-BDB50424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84E4-80EE-443E-8929-3E5176E5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AEC4-91E3-4EFD-AEC1-D06BDAFF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8859-E331-4422-8974-6B5AA363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074C-D9F7-40F3-86E0-60B4748A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CB11-2AD8-47D9-BB69-EE0A0D05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F8A0-2D10-4EBB-A2AF-262AC40A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58D7-4B4B-4BE6-B239-9B3EAF48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67AF-025B-46FF-B5CA-C9F8827C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7296-A833-4BF2-B1D4-886DAC42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7BEB-08AC-4FFD-8CA2-82E3A09F9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BFB7-8042-46B3-9630-30C16BB6F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C04B6-F942-4FA9-9278-EBBDF534E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0EFFA-3940-4C3D-BB7A-034D4FC6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82759-C00D-49D8-AC87-CC63825D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6B8AA-A04C-40C4-B836-1CC31451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74C2B-FC4B-419D-915F-D86BC85A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93FA-7F61-43BA-8E97-82142EF2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9D0D8-6D32-4EE4-AFA1-8F6BF314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55986-7CEB-45E7-8603-6133C357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735A9-3900-41F9-8567-C22D8DC9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906DE-576F-4971-B95F-2033BB0E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C617C-CB83-477C-B050-114C6644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8F87B-B6B5-4DFC-B663-2F8FF89D9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85311-9A09-4015-8CC9-5E5081FC6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EE3F5-0568-4D0F-8D83-995618F9E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273B5-72E3-4516-B964-C7DA592F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9427D-8B61-43AD-9B0E-BE4705E1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2A1E-001B-4003-B957-9B952899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BEB99-BE13-4BC7-A10A-7A928944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FE783-29E6-4CBC-9A7F-F13A42B6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AE13E-CA08-4360-A208-ADE656A9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11714-03C0-414F-8517-7C5721AB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71DB2-F112-4671-9225-902636F0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F6F28-770F-4B75-A6CD-1795E854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73DC6-2D86-45A8-A283-32E37907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BD2B2-DC34-4C0D-A31B-915905E2B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57F9C-A938-4D2F-9DAA-FD94C57F9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4D3CB-4C22-4A98-9ECF-88FE2960D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8F44-4086-4DB6-B929-473EB4F2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25F5D-C743-43B6-865C-CB4ACF3C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87457-4A46-4FF1-AF2B-25DC4674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D4063-B7BA-4F03-B0C7-A653E2D7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BD6E7-06BA-4EA4-A030-349A41AF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7B3AD-AFDD-4539-A7D4-1EA87674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46BFF-7DFF-484E-8DA1-0824AC3B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1ECDB-E0B7-455D-B667-FBCD4569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AAD91-622A-4ED2-AD51-4E0EDC04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09C2F-807B-4843-93A9-17E08BA6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6AAAA-47DF-4F0F-BC76-CA9566283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D961-1C7C-479A-B086-D999CC5A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46981-8D77-43CA-9B72-F45062E2B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A3F7-4FA8-4937-AB6E-69C388C6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0E16-A55F-42DF-B437-3C6E2FDF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7102-5F34-457F-AEAC-6B51AD70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7124-940E-4677-AAE8-26669B622D06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1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1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4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FC65-C882-4A33-B4C2-D3E05E00ECC4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6788-6699-40C9-879A-583115803F53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4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E210-E849-4D23-881E-772A99FA175A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53CA-7615-4796-92CD-712D20603FF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400360" cy="28656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219320" y="3581280"/>
            <a:ext cx="6705360" cy="28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 Black"/>
                <a:ea typeface="Aharoni"/>
              </a:rPr>
              <a:t>         </a:t>
            </a:r>
            <a:r>
              <a:rPr b="0" lang="ru-RU" sz="3400" spc="-1" strike="noStrike">
                <a:solidFill>
                  <a:srgbClr val="c00000"/>
                </a:solidFill>
                <a:latin typeface="Arial Black"/>
                <a:ea typeface="Aharoni"/>
              </a:rPr>
              <a:t>Единство 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00000"/>
                </a:solidFill>
                <a:latin typeface="Arial Black"/>
                <a:ea typeface="Aharoni"/>
              </a:rPr>
              <a:t>урочной и 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00000"/>
                </a:solidFill>
                <a:latin typeface="Arial Black"/>
                <a:ea typeface="Aharoni"/>
              </a:rPr>
              <a:t>               </a:t>
            </a:r>
            <a:r>
              <a:rPr b="0" lang="ru-RU" sz="3400" spc="-1" strike="noStrike">
                <a:solidFill>
                  <a:srgbClr val="c00000"/>
                </a:solidFill>
                <a:latin typeface="Arial Black"/>
                <a:ea typeface="Aharoni"/>
              </a:rPr>
              <a:t>внеурочной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00000"/>
                </a:solidFill>
                <a:latin typeface="Arial Black"/>
                <a:ea typeface="Aharoni"/>
              </a:rPr>
              <a:t>      </a:t>
            </a:r>
            <a:r>
              <a:rPr b="0" lang="ru-RU" sz="3400" spc="-1" strike="noStrike">
                <a:solidFill>
                  <a:srgbClr val="c00000"/>
                </a:solidFill>
                <a:latin typeface="Arial Black"/>
                <a:ea typeface="Aharoni"/>
              </a:rPr>
              <a:t>деятельности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Rectangl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оциальное творчество (социально преобразующая добровольческая деятельность);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трудовая (производственная) деятельность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портивно-оздоровительная деятельность;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туристско-краеведческая деятельность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Rectangle 2" descr=""/>
          <p:cNvPicPr/>
          <p:nvPr/>
        </p:nvPicPr>
        <p:blipFill>
          <a:blip r:embed="rId1"/>
          <a:stretch/>
        </p:blipFill>
        <p:spPr>
          <a:xfrm>
            <a:off x="933480" y="96840"/>
            <a:ext cx="7156440" cy="12016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380520" y="1447560"/>
            <a:ext cx="8610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ложились общие принципы организации внеурочной деятельност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Принцип добровольност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Принцип общественной направленност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Принцип использования игровых форм деятельност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Принцип учёта возрастных и индивидуальных особенностей участников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2" descr=""/>
          <p:cNvPicPr/>
          <p:nvPr/>
        </p:nvPicPr>
        <p:blipFill>
          <a:blip r:embed="rId1"/>
          <a:stretch/>
        </p:blipFill>
        <p:spPr>
          <a:xfrm>
            <a:off x="457200" y="225360"/>
            <a:ext cx="7242120" cy="12384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ружки, где дети в основном получают знания по какому-либо одному предмету и формируют соответствующие умения и навыки;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лубные объединения детей по интересам, отличительными особенностями которых являются наличие органов самоуправления, своей символики и атрибутики, коллективной творческой деятельности, общение членов клуба разных поколений и т. д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Rectangle 2" descr=""/>
          <p:cNvPicPr/>
          <p:nvPr/>
        </p:nvPicPr>
        <p:blipFill>
          <a:blip r:embed="rId1"/>
          <a:stretch/>
        </p:blipFill>
        <p:spPr>
          <a:xfrm>
            <a:off x="457200" y="225360"/>
            <a:ext cx="7242120" cy="12384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омплексные формы детских образовательных объединений – студии, мастерские, лаборатории, школы, которые позволяют выявлять раннюю творческую одарённость, развивать способности детей, обеспечивают углублённое изучение одного или нескольких предметов, высокое качество творческого продукта детей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Rectangle 2" descr=""/>
          <p:cNvPicPr/>
          <p:nvPr/>
        </p:nvPicPr>
        <p:blipFill>
          <a:blip r:embed="rId1"/>
          <a:stretch/>
        </p:blipFill>
        <p:spPr>
          <a:xfrm>
            <a:off x="457200" y="176040"/>
            <a:ext cx="7242120" cy="12877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етоды информирования (лекции, рассказы, беседы, дискуссии, проведение «круглых столов» и       т. п.);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етоды наглядных иллюстраций и демонстраций (показ плакатов, наглядных пособий, кинофильмов, картин, чертежей и т. п.);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Rectangle 2" descr=""/>
          <p:cNvPicPr/>
          <p:nvPr/>
        </p:nvPicPr>
        <p:blipFill>
          <a:blip r:embed="rId1"/>
          <a:stretch/>
        </p:blipFill>
        <p:spPr>
          <a:xfrm>
            <a:off x="457200" y="176040"/>
            <a:ext cx="7242120" cy="12877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етоды практической деятельности (выполнение трудовых заданий, заданий по изготовлению моделей, приборов);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етоды стимулирования творческой деятельности (поощрение, создание ситуаций успеха, порицание недостатков и т. п.);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Rectangle 2" descr=""/>
          <p:cNvPicPr/>
          <p:nvPr/>
        </p:nvPicPr>
        <p:blipFill>
          <a:blip r:embed="rId1"/>
          <a:stretch/>
        </p:blipFill>
        <p:spPr>
          <a:xfrm>
            <a:off x="457200" y="176040"/>
            <a:ext cx="7242120" cy="12877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етоды контроля за эффективностью воспитания детей (наблюдения, проведение контрольных бесед, анкетных опросов, сочинений по итогам своей деятельности в кружке)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Rectangle 2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7242120" cy="13669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тсутствие жёсткой регламентации, возможность максимально полно опираться на инициативу самих детей, свобода выбора содержания, форм, средств и методов ведения воспитательной работы;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7242120" cy="13669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ольшая ответственность педагога, проявляющаяся в потребности самостоятельно разрабатывать направления воспитательной деятельности и формировать её содержание без опоры на базовые планы и программы;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Rectangl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1 этап</a:t>
            </a:r>
            <a:r>
              <a:rPr b="0" lang="ru-RU" sz="28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– определение целей, принципов внеурочной деятельности, их отражение в основной образовательной программ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2 этап</a:t>
            </a:r>
            <a:r>
              <a:rPr b="0" lang="ru-RU" sz="28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– анализ предлагаемых моделей организации внеурочной деятельности общеобразовательным учреждением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 условиях всеобщего среднего образования и повышения научного уровня преподавания успех обучения во многом зависит не только от выбора эффективных методов и форм обучения в классе на уроке, но и от организации внеурочной деятельност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Rectangl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3 этап</a:t>
            </a:r>
            <a:r>
              <a:rPr b="0" lang="ru-RU" sz="28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– анализ ресурсного обеспечения реализации различных моделей организации внеурочной деятельност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4 этап</a:t>
            </a:r>
            <a:r>
              <a:rPr b="0" lang="ru-RU" sz="28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– выбор модели организации внеурочной деятельности, её содержательное наполнение и описание в соответствии с целями, принципами внеурочной деятельности, ресурсными условиями её реализации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Rectangle 2" descr=""/>
          <p:cNvPicPr/>
          <p:nvPr/>
        </p:nvPicPr>
        <p:blipFill>
          <a:blip r:embed="rId1"/>
          <a:stretch/>
        </p:blipFill>
        <p:spPr>
          <a:xfrm>
            <a:off x="914400" y="0"/>
            <a:ext cx="7156440" cy="14144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труктура программы внеурочной деятельности </a:t>
            </a: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может быть разработана на уровне общеобразовательного учреждения, обсуждена и согласована на заседании научно-методического или методического совета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, после чего данная структура программы </a:t>
            </a:r>
            <a:r>
              <a:rPr b="1" lang="ru-RU" sz="2800" spc="-1" strike="noStrike">
                <a:solidFill>
                  <a:srgbClr val="002060"/>
                </a:solidFill>
                <a:latin typeface="Trebuchet MS"/>
              </a:rPr>
              <a:t>утверждается приказом директора общеобразовательного учреждения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Rectangl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это обеспечение всестороннего и гармоничного развития школьника, которая должна усилить интерес к изучению того или иного предмета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Rectangl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948960" y="1752120"/>
            <a:ext cx="7661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Внеурочная деятельность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едполагает добровольное участие и самостоятельность;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правляется учителем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пособствует углублённому знанию учащихся по предмету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звивает их познавательные интересы и способност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Rectangle 2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7242120" cy="12445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 тех случаях, когда данная взаимосвязь нарушается и внеурочная деятельность строится лишь на интересе учащихся, это приводит к тому, что ученик плохо успевает по предмету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2" descr=""/>
          <p:cNvPicPr/>
          <p:nvPr/>
        </p:nvPicPr>
        <p:blipFill>
          <a:blip r:embed="rId1"/>
          <a:stretch/>
        </p:blipFill>
        <p:spPr>
          <a:xfrm>
            <a:off x="933480" y="96840"/>
            <a:ext cx="7156440" cy="14144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2540160" cy="39369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809880" y="1828800"/>
            <a:ext cx="47246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rebuchet MS"/>
              </a:rPr>
              <a:t>Григорьев Д.В.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Внеурочная деятельность школьников.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Методический конструктор: пособие для учителя /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Д.В. Григорьев,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.В. Степанов. –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М.: Просвещение, 2011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Заголовок 1" descr=""/>
          <p:cNvPicPr/>
          <p:nvPr/>
        </p:nvPicPr>
        <p:blipFill>
          <a:blip r:embed="rId1"/>
          <a:stretch/>
        </p:blipFill>
        <p:spPr>
          <a:xfrm>
            <a:off x="933480" y="96840"/>
            <a:ext cx="7156440" cy="14144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C:\Users\Пользователь\Desktop\c2160bb6-06f1-11de-97d0-0019b9f502d0.jpg"/>
          <p:cNvPicPr/>
          <p:nvPr/>
        </p:nvPicPr>
        <p:blipFill>
          <a:blip r:embed="rId2"/>
          <a:stretch/>
        </p:blipFill>
        <p:spPr>
          <a:xfrm>
            <a:off x="609480" y="2209680"/>
            <a:ext cx="2438640" cy="369432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65760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rebuchet MS"/>
              </a:rPr>
              <a:t>Горский В. А., Тимофеев А. А., Смирнов Д. В. и др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Примерные программы внеурочной деятельности. Начальное и основное образование. –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М.: Просвещение, 2011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Rectangle 2" descr=""/>
          <p:cNvPicPr/>
          <p:nvPr/>
        </p:nvPicPr>
        <p:blipFill>
          <a:blip r:embed="rId1"/>
          <a:stretch/>
        </p:blipFill>
        <p:spPr>
          <a:xfrm>
            <a:off x="933480" y="96840"/>
            <a:ext cx="7156440" cy="1414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C:\Users\Пользователь\Desktop\1448188.jpg"/>
          <p:cNvPicPr/>
          <p:nvPr/>
        </p:nvPicPr>
        <p:blipFill>
          <a:blip r:embed="rId2"/>
          <a:stretch/>
        </p:blipFill>
        <p:spPr>
          <a:xfrm>
            <a:off x="457200" y="1981080"/>
            <a:ext cx="2792520" cy="36576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3809880" y="1676160"/>
            <a:ext cx="4724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rebuchet MS"/>
              </a:rPr>
              <a:t>Григорьев Д.В., Степанов П.В.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 Программы внеурочной деятельности. Познавательная деятельность и проблемно-ценностное общение.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–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.: Просвещение, 2011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Заголовок 4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C:\Users\Пользователь\Desktop\img59.jpg"/>
          <p:cNvPicPr/>
          <p:nvPr/>
        </p:nvPicPr>
        <p:blipFill>
          <a:blip r:embed="rId2"/>
          <a:stretch/>
        </p:blipFill>
        <p:spPr>
          <a:xfrm>
            <a:off x="1447920" y="1600200"/>
            <a:ext cx="607536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0" name="Picture 4" descr="C:\Users\Пользователь\Desktop\86956cd6f038bdc6d1ea3087edb2f865.jpg"/>
          <p:cNvPicPr/>
          <p:nvPr/>
        </p:nvPicPr>
        <p:blipFill>
          <a:blip r:embed="rId1"/>
          <a:stretch/>
        </p:blipFill>
        <p:spPr>
          <a:xfrm>
            <a:off x="609480" y="2057400"/>
            <a:ext cx="4680000" cy="350532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rebuchet MS"/>
              </a:rPr>
              <a:t>Спасибо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rebuchet MS"/>
              </a:rPr>
              <a:t>за внимание!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rebuchet MS"/>
              </a:rPr>
              <a:t>И за понимание!!!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 целях обеспечения индивидуальных потребностей обучающихся основная образовательная программа предусматривает внеурочную деятельность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лан внеурочной деятельности является организационным механизмом реализации основной образовательной программы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ctangl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это образовательная деятельность, осуществляемая в формах, отличных от классно-урочной, и направленная на  достижение планируемых результатов  освоения </a:t>
            </a:r>
            <a:r>
              <a:rPr b="1" lang="ru-RU" sz="2600" spc="-1" strike="noStrike">
                <a:solidFill>
                  <a:srgbClr val="00152e"/>
                </a:solidFill>
                <a:latin typeface="Trebuchet MS"/>
                <a:ea typeface="Times New Roman"/>
              </a:rPr>
              <a:t>основной образовательной программы   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933480" y="79200"/>
            <a:ext cx="7156440" cy="12924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948960" y="1600200"/>
            <a:ext cx="7661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образования и науки РФ от 17.12.2010 №1897 «Об утверждении федерального государственного образовательного стандарта основного общего образования»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ПиН 2.4.2. 2821-10 «Санитарно – эпидемиологические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к условиям и организации обучения в общеобразовательных учреждениях»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тв. Постановлением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ого государственного санитарного врача РФ от 29 декабря 2010 г. №189)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 Министерства образования и науки от 12.05.2011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№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-296 «Об организации внеурочной деятельности при  введении Федерального государственного образовательного стандарта общего образования»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ПИСЬМО от 28 октября 2015 г. № 08-1786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О РАБОЧИХ  ПРОГРАММАХ  УЧЕБНЫХ  ПРЕДМЕТОВ   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приказа № 1577 от 31 декабря 2015 г. Минобрнауки России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4" descr=""/>
          <p:cNvPicPr/>
          <p:nvPr/>
        </p:nvPicPr>
        <p:blipFill>
          <a:blip r:embed="rId1"/>
          <a:stretch/>
        </p:blipFill>
        <p:spPr>
          <a:xfrm>
            <a:off x="914400" y="262080"/>
            <a:ext cx="7156440" cy="14572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68000" y="1844280"/>
            <a:ext cx="82803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) личностные и метапредметные результаты освоения курса внеурочной деятельности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) содержание курса внеурочной деятельности с указанием форм организации учебных занятий, основных видов учебной деятельности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) календарно-тематическое планировани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990360" y="1752480"/>
            <a:ext cx="7661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объединяет все виды деятельности школьников (кроме учебной деятельности на уроке),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в которых возможно и целесообразно решение задач их воспитания и социализаци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(Д.В. Григорьев, П.В. Степанов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Центр теории воспитания ИТИП РАО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Rectangl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портивно-оздоровительная;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художественно-эстетическая;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учно-познавательная;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оенно-патриотическая;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бщественно полезная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оектная деятельность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Rectangl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гровая деятельность;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знавательная деятельность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облемно-ценностное общение;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досугово-развлекательная деятельность (досуговое общение);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художественное творчество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0T18:12:33Z</dcterms:created>
  <dc:creator>larisa.home</dc:creator>
  <dc:description/>
  <dc:language>en-US</dc:language>
  <cp:lastModifiedBy>OsmininaVictoria@outlook.com</cp:lastModifiedBy>
  <dcterms:modified xsi:type="dcterms:W3CDTF">2022-11-07T11:37:51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