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C07-34B6-4DA0-9C73-778248E4134A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2ADF1E-C9C0-4AA2-BF35-BCEA1D58F60A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FE69-1A22-43AD-9769-4FE2ECCCB3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1BA-B928-4009-BC9B-860A1767F803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433-D02C-4421-ABEB-0C048778E885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2CD-C837-4908-BB38-60134331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DFC-0125-4B77-9803-8E27664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A1E-0DA7-4068-9C0F-15E2CA2B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5A7-AA4A-4987-8376-A090E9F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213-6941-42F8-A72E-4F2802E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851-3B96-4E22-968E-D1BC03D3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129-004F-4D2C-8280-CEE8058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4F2-B22D-4D68-9AE0-ADA607ED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095-9E3C-47DB-84F2-1F3F9D1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E9B-68B2-4DC3-A1E3-1816DF4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EE1-A2D1-4011-A3FD-D3061DB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0D2-6054-4313-AD23-4BE9361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EEA-C55C-48A1-A903-6BC34A4C5DD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775B-5966-457C-AA3E-D34B527BB93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Этнография и археология – помощницы историков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роверка знаний учащихся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Что такое этнография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Что такое археология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Как работают археолог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A0E9-AA3C-41C6-862F-7D4D0D310B0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958-B78D-4208-873B-4FE4A98F384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чем может рассказать карт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877000"/>
            <a:ext cx="403848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 чем может рассказать историческая карта?</a:t>
            </a: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95724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1. Что такое этнография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5013000"/>
            <a:ext cx="86979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Этнография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( греч. «этнос» - народ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,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«графо» - пишу)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– это                наука о народах, исследующая их происхождение,  расселение, быт и культур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8" name="Picture 12" descr=""/>
          <p:cNvPicPr/>
          <p:nvPr/>
        </p:nvPicPr>
        <p:blipFill>
          <a:blip r:embed="rId1"/>
          <a:stretch/>
        </p:blipFill>
        <p:spPr>
          <a:xfrm>
            <a:off x="1488960" y="1165320"/>
            <a:ext cx="5819760" cy="3848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этнография может помочь в изучении истории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56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«Преданья старины глубокой…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679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стное народное творчество и песня также являются отражениями исторических событий. Примером может служить сказание о древнерусском князе Олег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Какие поэт и художник создали произведения по мотивам этого сказания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224320" y="1125360"/>
            <a:ext cx="39196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2. Что такое археология?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1352520"/>
            <a:ext cx="4495680" cy="24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572000" y="1339920"/>
            <a:ext cx="4572000" cy="247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рхеология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(греч. «архео» - древний)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 это наука,    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которая изучает жизнь   людей в  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древности по сохранившимся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ещественным памятникам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Как работают археолог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620640"/>
            <a:ext cx="8229600" cy="3672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Главное занятие археологов – раскопки, позволяющие извлечь из земли вещественные памятники жизни людей. Это очень тяжелая работа: археологи по крупицам перебирают кубометры земли в поисках мельчайших частиц прошлого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думайте и запишите в тетради рассказ о том, как вы участвовали в археологических раскопках. Что вы обнаружили и что поведал вам ученый-археолог о найденных вами орудиях труда, предметах быта, украшениях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649920" y="4221000"/>
            <a:ext cx="2494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6:52:24Z</dcterms:created>
  <dc:creator>Andrey</dc:creator>
  <dc:description>http://aida.ucoz.ru</dc:description>
  <dc:language>en-US</dc:language>
  <cp:lastModifiedBy>Катя</cp:lastModifiedBy>
  <dcterms:modified xsi:type="dcterms:W3CDTF">2022-11-07T19:57:14Z</dcterms:modified>
  <cp:revision>8</cp:revision>
  <dc:subject/>
  <dc:title>Этнография и археология – помощницы историков</dc:title>
</cp:coreProperties>
</file>