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DBF-6704-4D55-B9BC-B1B7FC9F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DFB-D13C-48EC-A745-00A14EB3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D1A61-FDE6-4828-B9BB-A2A81EC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DDD7E-AA5A-4C61-9D57-11EF2055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6BAE-75D4-452B-AD0F-CA4C5DC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5A66-62CF-48DC-BCAB-4E154CC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EB9D5-D804-4CEB-96AD-5A194BC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90E4D-2F84-446C-A56D-2E61A16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215B-26F5-4775-B29F-9A324CD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2A90F-764A-4D1E-8F96-CB14BF1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CCCDB-66D2-4767-9519-BBEC8727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26BD8-3304-4543-9A63-C956D48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139-209B-4701-B402-52CB69ED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3E8C-D0B8-4F16-9278-D5FDBAA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3E222-9FB6-4659-B5D0-7C33BFA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86D34-50E1-436B-80B9-3C82D334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B47DD-DB34-4853-953F-62BC1660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2E996-B890-4673-ABD9-E1D360E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E77A1-79DA-4821-93B7-D9B937F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9BC90-0719-4E6A-9739-7DAB22C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22E8B-163A-4011-BB41-C27A451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82F2B-E6C4-4002-878C-C8CF1CF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6CA5F-EE4D-413B-ABFC-5E8A4EE7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5A0-4A9A-4C71-8BD7-98348B4B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DD1A9-0E3D-404B-B4E9-E0337F6D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21612-A738-43D5-9AFC-82E0A8E6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1E5E-173B-4CC4-911A-E2E9CEA6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479C-4AAF-4FA7-A0F5-0F58CAF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BE02-A601-48E4-8A0B-A500846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E9983-CC58-4722-B5E2-98018BE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CA27-2316-48A3-A60B-75276816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BDBA-52D1-4DB9-AB05-BD082DBC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85321-52E0-4F5F-B678-8106FF7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FF615-03F4-4F1B-9CBD-226BA13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38D-E0E8-4054-A417-08C8DF84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5150-9810-4C3F-AFE5-DA305BB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0656D-6DDD-4530-B930-B5105351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1DC8-B3EB-423A-8A16-47E89B91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1F5AC-B8DB-4B53-B02B-A5F093AF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9AC9C-6F42-4806-AC70-5598351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0D31A-D4B6-444D-8A0B-5079431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61A98-B4E8-4134-8F8D-4464B4E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9398C-0847-4A70-A22E-ED0FAFFB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3A809-06C9-4734-BC1D-C2D3E2F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7DAA4-F2D2-4FC4-870D-E858C93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387-72A8-4337-9787-AB79911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E9447-BCB3-4110-9014-6182D10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2AB0E-4212-4A1B-9ED7-8E79008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691BA-1BB8-4E30-A0CD-D953A01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5362-E4B8-4DD4-89DF-E0632191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F90F1-138A-42D1-BD08-21BAA349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4CAB7-539C-42A1-B3DB-A013C8C1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B9992-50F5-4188-A43A-531ED0C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E419D-7082-40EB-AE77-C2F4E91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91473-9114-4940-B3E3-07E0B9A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A7D54-2182-4A4F-AB03-D941A9C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8797-C5BD-45BB-9B51-0A75398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35E43-425A-41E4-8FBA-026C8FD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DD324-8211-47FF-B9AB-D60E000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7C582-060B-4F56-82E6-F16F819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B0D1D-B53E-4DC4-8D13-F5181ED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3220F-04AF-4F57-90B9-0B46A28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E5C63-8749-40FF-A008-3B2F66BA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CB348-B9CF-4EF5-90A5-E5CF0D3F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31D69-A86F-481F-8753-2A16EEAB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5E50E-A265-4834-B2C2-F386052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0962C-E0FF-4FA5-B52B-4F12669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F87B-8305-485D-8E6C-D27766D6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19096-D940-4998-BF9C-40AAB35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BB6C9-4831-4E13-98BC-4C6808A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56CB7-8B43-4BA7-8605-0886B69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D94B5-FE8B-4E62-917C-A983223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BC90D-46D7-48A1-861D-770D719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C8C49-B74E-48BD-A935-74189335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22F01-5731-4498-898A-75F113C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6DA23-88C0-490E-B5B3-C32BF232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4FD7D-B2DF-45E3-AAF5-8B3AA30A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E9ECB-A147-4836-B273-8E21249D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0755-E926-4DE5-A51C-DFDCC07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465AB-0661-4785-906A-E8F16A75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5972F-B676-40D3-8F85-234A7EF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763D9-83D4-4C79-B2BF-E894752E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EDCDC-689E-43AB-A77E-D1311B5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3760A-3F5A-49BF-8E41-5685005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91383-5CE3-4D43-A2A0-51B95A1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FDC82-C68E-4D5D-B3EE-62F880A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7E2E9-197B-4A7B-A075-9EF9BE1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C250A-5061-4025-A849-88B8A720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73F25-334F-4DBD-8D6B-4BA92839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8123-660A-483C-AA9A-4FF3D85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7ED45-6538-412C-AAB1-8037E41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27834-E465-4576-8D7A-7CB26FB8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258D5-F780-4624-812E-6C512DFD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F5376-C0B4-49EC-A17D-3F9D0D30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8F959-39C2-47EE-91FB-BF57577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ED91F-5C4A-4165-839B-4425028C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B83F4-1BA0-40AC-B9EB-04FB1D08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CBC30-FC81-44B1-BB35-577C574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BC970-7D5C-4DA3-B12B-3E6924BA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BF999-49B5-41D2-8C93-53C8DA9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6C6-32A3-4B7E-AAAA-AFEA2AB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91EFF-D547-4F25-AFBC-FC108E2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61164-01BA-46FB-BF55-61EA405B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BA39F-A550-4801-B20D-CE92C858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3F7-4B5A-4F5B-BEB7-58666DD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3B91-79DE-45DB-BB41-B67A64F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D20D-482F-420C-934E-0A8E1C0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59B0-E855-46CC-B5A0-3692E0F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CA60-889E-450B-B66E-0F70A342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0A1-6CAB-498A-ABA6-63047168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9373-B42D-49BD-903E-6C616EB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091C-6567-4BC1-80BE-8ACEB7B5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914E-A96B-4451-A443-667C8953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85C7-B8FE-445A-889C-4F3B010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CD3B-A457-419B-B47C-55F2A49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F47-8EAB-4F0E-9B0A-EB17895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DEDA-2250-48CD-8CC4-9070243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AFCE-BA93-4660-922B-C8E0CEE5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4A4E-76C7-421D-91C2-9B3D062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ECB0-50F9-41B0-B044-20A7D02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AB16-79F3-4675-AE24-816D5EC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276F-4D9C-45E3-99A0-FE1FB79F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5765-8135-4F8E-8FA7-6658BFBD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E6B64-8514-4FBB-BE3A-E5F1CA6F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6E403-9D41-415B-BA52-3D504B4C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9F469-1542-48ED-A404-4C01767F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BAF-FDB2-4080-A81D-4B18BD0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0A831-63BA-4E26-97F4-0B96226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F8F7A-8BF0-4631-B015-7ABA8D8B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D0F37-03DB-4F9C-A838-A834688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A0FED-FE45-4BEA-B26D-BEC6AE3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5E141-4C11-40A8-A018-C4B6FEF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60DFA-FD75-4C0E-AFE2-9A62F020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06530-D7D8-487C-822C-338210B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AF916-4114-4863-93D0-763C6AAC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41995-E727-4FE0-A423-2D32EE5F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A4C96-5BEE-4377-97CB-C03120E8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6B5-3E21-4F43-9A39-E32C458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8B2CA-A5F2-4A21-80F1-F236995D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46BC-C82B-4E83-B2E4-27B7AF9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E912-3AC3-40B2-95A5-A3FC5840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D8E3-9810-4719-8457-75FAED0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573E-5657-468E-8647-01B82A1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73D5-845F-480B-9EAD-E6BDD354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BE8F-85C4-4033-B674-3D6B74C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B16E-ACAC-4B67-83C2-FCED946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2E56-9702-46ED-B6E7-A7DF5B31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50CE-073E-42B0-B659-0227910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6E8-6982-4383-8650-74A0EC6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251E-FC3C-435D-97A3-8B0DC997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D5D0D-A66A-4D1E-B319-E81748D7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C6AA1-5EC3-4D3A-A53A-4046F974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462BD-785C-49B3-AB3B-DE748A6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0E8C0-10C1-44A5-BE5D-3515533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746FC-552F-49F9-A3C4-BE75E70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B8753-BBA6-4DC4-87AC-9DF21773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FE458-31CC-46C7-AFAF-1499871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FE120-019C-4B60-B834-90E770F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321E8-3975-4A2B-9154-3E56C84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A8A-1469-4CC0-90E1-50D09E5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A9B08-FA3E-45A6-A988-58525AA5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1874F-9CCC-4999-B9FD-603BA86F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251B7-54AC-41D2-A8E6-A339C911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03216-5045-45E7-8C97-F95500E0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88EF1-89E6-408A-A839-BB62F3D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B4BD0-4B16-4EEA-BDAA-D119878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D03C4-DC57-4F48-B84B-FF61F3CD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56574-B6C9-4B9F-A5C1-4D7C51D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71C72-A249-44D3-A1C8-0A8BC03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FD2C0-EE4D-4188-87A1-2C444B3F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A4F-8C75-4848-B693-7E95E7B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EBB64-9BE9-4CCE-B1FF-AD7B053B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809BD-B684-4270-BBC7-C3730F5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B1477-F4C1-4914-812F-1D91DCA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7DF81-C883-4EB8-BA8C-D9D94B44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71D89-E718-4614-82A9-DE5AB73B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7EB72-DE28-4CCD-AFC5-93E43E64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F2AB5C-081F-453E-923B-312A84C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F194F-7FB6-4403-99A0-C078D1FD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03B94-0AAA-48F0-BAC4-9DA56913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DD0C8-EED4-427B-9AE6-659F63B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953-5646-4919-8F90-FC724C2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F6402-DDA2-4B1F-A6CB-D1045EE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72BFA-87E5-4633-831A-F985F824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12A63-47DF-41CB-B6F9-08510DF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67E7F-6A44-4F61-A24C-6EC113E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85B08E-3E57-47B4-89AD-FB46F8FA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9C90B-BFA6-4106-94D8-3D5A6F4B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B6DAC-A379-43BF-97CE-7093EBB8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2154C-36DD-4B46-8809-BAAAB07B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2BCC-C8E3-49B4-B0C0-42748EC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E3FD-D40B-4EB0-809D-2F865DE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FFD-8425-427E-9ED5-BA9F920184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D69-1177-421C-8CCB-A36676CBD7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49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F0A-5E42-4699-B5CD-7C25D36CEB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54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597-15CB-480A-A034-52F3712B67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08E-8FE3-4AE5-8CE7-142162185D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62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F9C1-4D24-4A1B-B241-20D3534A1A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212-ABCD-49C2-86C9-3F209FCE9B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252-EE5D-4727-9D63-984388D3CA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85D-5E34-4D7A-9B02-B148B22D5E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559E-04EC-4CE0-9CEE-59DA486ECC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C82-D37C-4253-BBD7-0E31731EDC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CBB-5668-40FF-9113-D3CE464917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AFDA-2048-49F6-BC74-2547773874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43A9-28FB-4D2C-BD91-AAD2F9104F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C05-4ED2-4B38-8086-C16FA7B811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0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47AE-1DC2-42E0-9DB9-026F69991F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1908000" y="1052280"/>
            <a:ext cx="68407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f0"/>
                </a:solidFill>
                <a:latin typeface="Century Schoolbook"/>
              </a:rPr>
              <a:t>Математика 2 класс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1"/>
          <p:cNvSpPr/>
          <p:nvPr/>
        </p:nvSpPr>
        <p:spPr>
          <a:xfrm>
            <a:off x="3251520" y="3333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е №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2" name="TextBox 5"/>
          <p:cNvSpPr/>
          <p:nvPr/>
        </p:nvSpPr>
        <p:spPr>
          <a:xfrm>
            <a:off x="539640" y="4508640"/>
            <a:ext cx="18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23800" y="1174680"/>
          <a:ext cx="8043840" cy="3959280"/>
        </p:xfrm>
        <a:graphic>
          <a:graphicData uri="http://schemas.openxmlformats.org/drawingml/2006/table">
            <a:tbl>
              <a:tblPr/>
              <a:tblGrid>
                <a:gridCol w="1538280"/>
                <a:gridCol w="1189080"/>
                <a:gridCol w="1049400"/>
                <a:gridCol w="1049400"/>
                <a:gridCol w="1119240"/>
                <a:gridCol w="1049040"/>
                <a:gridCol w="10494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4583"/>
                          </a:solidFill>
                          <a:latin typeface="Century Schoolbook"/>
                        </a:rPr>
                        <a:t>Слагаем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4583"/>
                          </a:solidFill>
                          <a:latin typeface="Century Schoolbook"/>
                        </a:rPr>
                        <a:t>Слагаем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4583"/>
                          </a:solidFill>
                          <a:latin typeface="Century Schoolbook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754" name="Пятно 1 7"/>
          <p:cNvSpPr/>
          <p:nvPr/>
        </p:nvSpPr>
        <p:spPr>
          <a:xfrm>
            <a:off x="2050920" y="3716280"/>
            <a:ext cx="1059120" cy="93672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Пятно 1 8"/>
          <p:cNvSpPr/>
          <p:nvPr/>
        </p:nvSpPr>
        <p:spPr>
          <a:xfrm>
            <a:off x="3110040" y="2349360"/>
            <a:ext cx="1008000" cy="107964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Пятно 1 9"/>
          <p:cNvSpPr/>
          <p:nvPr/>
        </p:nvSpPr>
        <p:spPr>
          <a:xfrm>
            <a:off x="4251240" y="3624120"/>
            <a:ext cx="1146240" cy="112104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Пятно 1 10"/>
          <p:cNvSpPr/>
          <p:nvPr/>
        </p:nvSpPr>
        <p:spPr>
          <a:xfrm>
            <a:off x="5292720" y="2368440"/>
            <a:ext cx="1046160" cy="106056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Пятно 1 11"/>
          <p:cNvSpPr/>
          <p:nvPr/>
        </p:nvSpPr>
        <p:spPr>
          <a:xfrm>
            <a:off x="6338880" y="2405160"/>
            <a:ext cx="936720" cy="98748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9" name="Пятно 1 12"/>
          <p:cNvSpPr/>
          <p:nvPr/>
        </p:nvSpPr>
        <p:spPr>
          <a:xfrm>
            <a:off x="7596360" y="2317680"/>
            <a:ext cx="863280" cy="1008000"/>
          </a:xfrm>
          <a:prstGeom prst="irregularSeal1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042560" y="1052280"/>
            <a:ext cx="770580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entury Schoolbook"/>
              </a:rPr>
              <a:t>12:4=3 (к.)- получил каждый ученик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entury Schoolbook"/>
              </a:rPr>
              <a:t>Ответ: по 3 кубика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1" descr="x_5e2643e5"/>
          <p:cNvPicPr/>
          <p:nvPr/>
        </p:nvPicPr>
        <p:blipFill>
          <a:blip r:embed="rId1"/>
          <a:stretch/>
        </p:blipFill>
        <p:spPr>
          <a:xfrm>
            <a:off x="6324480" y="4724280"/>
            <a:ext cx="2578320" cy="1935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1052280"/>
            <a:ext cx="8458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План уро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1.Вспомним  прием деления на равные част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2. Закрепим прием, решая задачи такого вид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3. Закрепить знания о решении уравнений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4" name="Picture 4" descr="Академия монстров, значок n500ab58c50f4a, png | PNGEgg"/>
          <p:cNvPicPr/>
          <p:nvPr/>
        </p:nvPicPr>
        <p:blipFill>
          <a:blip r:embed="rId1"/>
          <a:stretch/>
        </p:blipFill>
        <p:spPr>
          <a:xfrm>
            <a:off x="324000" y="260280"/>
            <a:ext cx="3671640" cy="35924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Обои мультфильм, девочка, белый фон, персонаж, vanellope von schweetz для  рабочего стола #189837"/>
          <p:cNvPicPr/>
          <p:nvPr/>
        </p:nvPicPr>
        <p:blipFill>
          <a:blip r:embed="rId2"/>
          <a:stretch/>
        </p:blipFill>
        <p:spPr>
          <a:xfrm>
            <a:off x="4643280" y="260280"/>
            <a:ext cx="3816360" cy="352908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7" name="Picture 10" descr="Грецкий орех (большой) для декора, 4-5 см, 1 штука"/>
          <p:cNvPicPr/>
          <p:nvPr/>
        </p:nvPicPr>
        <p:blipFill>
          <a:blip r:embed="rId3"/>
          <a:stretch/>
        </p:blipFill>
        <p:spPr>
          <a:xfrm>
            <a:off x="179280" y="4653000"/>
            <a:ext cx="1440000" cy="16365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Грецкий орех (большой) для декора, 4-5 см, 1 штука"/>
          <p:cNvPicPr/>
          <p:nvPr/>
        </p:nvPicPr>
        <p:blipFill>
          <a:blip r:embed="rId4"/>
          <a:stretch/>
        </p:blipFill>
        <p:spPr>
          <a:xfrm>
            <a:off x="1476360" y="4653000"/>
            <a:ext cx="1440000" cy="1636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0" descr="Грецкий орех (большой) для декора, 4-5 см, 1 штука"/>
          <p:cNvPicPr/>
          <p:nvPr/>
        </p:nvPicPr>
        <p:blipFill>
          <a:blip r:embed="rId5"/>
          <a:stretch/>
        </p:blipFill>
        <p:spPr>
          <a:xfrm>
            <a:off x="2916360" y="4653000"/>
            <a:ext cx="1439640" cy="1636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0" descr="Грецкий орех (большой) для декора, 4-5 см, 1 штука"/>
          <p:cNvPicPr/>
          <p:nvPr/>
        </p:nvPicPr>
        <p:blipFill>
          <a:blip r:embed="rId6"/>
          <a:stretch/>
        </p:blipFill>
        <p:spPr>
          <a:xfrm>
            <a:off x="4284720" y="4653000"/>
            <a:ext cx="1439640" cy="16365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0" descr="Грецкий орех (большой) для декора, 4-5 см, 1 штука"/>
          <p:cNvPicPr/>
          <p:nvPr/>
        </p:nvPicPr>
        <p:blipFill>
          <a:blip r:embed="rId7"/>
          <a:stretch/>
        </p:blipFill>
        <p:spPr>
          <a:xfrm>
            <a:off x="7164360" y="4653000"/>
            <a:ext cx="1440000" cy="16365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0" descr="Грецкий орех (большой) для декора, 4-5 см, 1 штука"/>
          <p:cNvPicPr/>
          <p:nvPr/>
        </p:nvPicPr>
        <p:blipFill>
          <a:blip r:embed="rId8"/>
          <a:stretch/>
        </p:blipFill>
        <p:spPr>
          <a:xfrm>
            <a:off x="5724360" y="4653000"/>
            <a:ext cx="14400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Заголовок 10" descr=""/>
          <p:cNvPicPr/>
          <p:nvPr/>
        </p:nvPicPr>
        <p:blipFill>
          <a:blip r:embed="rId1"/>
          <a:stretch/>
        </p:blipFill>
        <p:spPr>
          <a:xfrm>
            <a:off x="-128520" y="450720"/>
            <a:ext cx="96566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6" descr="Песенки для детей - Мы делили апельсин ( Карусель, Союзмультфильм) - YouTube"/>
          <p:cNvPicPr/>
          <p:nvPr/>
        </p:nvPicPr>
        <p:blipFill>
          <a:blip r:embed="rId1"/>
          <a:stretch/>
        </p:blipFill>
        <p:spPr>
          <a:xfrm>
            <a:off x="4067280" y="1413000"/>
            <a:ext cx="5076720" cy="5445000"/>
          </a:xfrm>
          <a:prstGeom prst="rect">
            <a:avLst/>
          </a:prstGeom>
          <a:ln w="0">
            <a:noFill/>
          </a:ln>
        </p:spPr>
      </p:pic>
      <p:pic>
        <p:nvPicPr>
          <p:cNvPr id="775" name="Заголовок 17" descr=""/>
          <p:cNvPicPr/>
          <p:nvPr/>
        </p:nvPicPr>
        <p:blipFill>
          <a:blip r:embed="rId2"/>
          <a:stretch/>
        </p:blipFill>
        <p:spPr>
          <a:xfrm>
            <a:off x="133200" y="146160"/>
            <a:ext cx="8864640" cy="685152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533520" y="609480"/>
            <a:ext cx="81532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Х-74=0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У+6=12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Х=0+74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У=12-6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7030a0"/>
                </a:solidFill>
                <a:uFillTx/>
                <a:latin typeface="Franklin Gothic Book"/>
              </a:rPr>
              <a:t>Х=74                     У= 6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74-74=0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6+6=12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0=0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i="1" lang="ru-RU" sz="4400" spc="-1" strike="noStrike">
                <a:solidFill>
                  <a:srgbClr val="7030a0"/>
                </a:solidFill>
                <a:latin typeface="Franklin Gothic Book"/>
              </a:rPr>
              <a:t>12=12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Мультяшный апельсин картинки, стоковые фото Мультяшный апельсин |  Depositphotos"/>
          <p:cNvPicPr/>
          <p:nvPr/>
        </p:nvPicPr>
        <p:blipFill>
          <a:blip r:embed="rId1"/>
          <a:stretch/>
        </p:blipFill>
        <p:spPr>
          <a:xfrm>
            <a:off x="3635280" y="1341360"/>
            <a:ext cx="5508720" cy="55609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"/>
          <p:cNvSpPr/>
          <p:nvPr/>
        </p:nvSpPr>
        <p:spPr>
          <a:xfrm>
            <a:off x="826920" y="404640"/>
            <a:ext cx="717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Franklin Gothic Book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1T04:54:50Z</dcterms:created>
  <dc:creator>user</dc:creator>
  <dc:description/>
  <dc:language>en-US</dc:language>
  <cp:lastModifiedBy>я</cp:lastModifiedBy>
  <dcterms:modified xsi:type="dcterms:W3CDTF">2022-04-04T17:10:48Z</dcterms:modified>
  <cp:revision>37</cp:revision>
  <dc:subject/>
  <dc:title>Занятие 10</dc:title>
</cp:coreProperties>
</file>