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BCE-D7A7-4E4C-8106-B41CC0E9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E0F-4240-41FC-8043-48382E14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2F8C-EB2C-41D4-A406-5295050A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385C-2FD5-4F3D-82FA-F02BD3B9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868-E9E8-409E-A892-22F55657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7BB4-9871-4D16-930D-B76CB2DE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C9E-3061-472B-9155-DB9B9920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5AF-AFC0-4EAF-B834-B060556F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F089-6FE6-479A-84FF-EF5DC3ED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33A-17A9-40D5-BC29-06713617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B67-DD80-4F7D-A4CD-A524D675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795-AFC2-44DC-91D5-CB0AD1ED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6907-C46D-4B3A-BDEE-6ED9C493E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17800" y="6381720"/>
            <a:ext cx="72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МБУДО «СДХШ им В.М. Кириллова», г. Сафоново , ноябрь 202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50799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8928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43280" y="1600200"/>
            <a:ext cx="25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Открытка-расклад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«Секр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-1324080"/>
            <a:ext cx="5977080" cy="8182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659640" y="162864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4391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16000" y="5229360"/>
            <a:ext cx="73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cc"/>
                </a:solidFill>
                <a:latin typeface="Arial"/>
              </a:rPr>
              <a:t>Участники мастер – класса «Потешные поделки из бумаг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92360" y="549000"/>
            <a:ext cx="3251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Авторы  мастер - клас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64000" y="5805360"/>
            <a:ext cx="37800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икитина Юлия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422100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 также и фоторепорта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рубаева Татьяна Вале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88000" y="2565360"/>
            <a:ext cx="3975120" cy="2928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7642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8320" y="476280"/>
            <a:ext cx="7052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атериалы к мастер –клас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зноцветные полоски для квиллин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ветная бумага ( формат А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лей – каранда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ожн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лестящая тонкая тесьма ( или ёлочный «дождик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амбуковые шпажки (30 с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79640" y="1700280"/>
            <a:ext cx="3313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 Black"/>
              </a:rPr>
              <a:t>Динамическая игрушка – вертушка</a:t>
            </a:r>
            <a:r>
              <a:rPr b="0" i="1" lang="ru-RU" sz="2400" spc="-1" strike="noStrike">
                <a:solidFill>
                  <a:srgbClr val="ff33cc"/>
                </a:solidFill>
                <a:latin typeface="Arial Black"/>
              </a:rPr>
              <a:t> </a:t>
            </a:r>
            <a:br>
              <a:rPr sz="2400"/>
            </a:br>
            <a:r>
              <a:rPr b="0" i="1" lang="ru-RU" sz="2800" spc="-1" strike="noStrike">
                <a:solidFill>
                  <a:srgbClr val="ff33cc"/>
                </a:solidFill>
                <a:latin typeface="Arial Black"/>
              </a:rPr>
              <a:t>( </a:t>
            </a:r>
            <a:r>
              <a:rPr b="0" i="1" lang="ru-RU" sz="2000" spc="-1" strike="noStrike">
                <a:solidFill>
                  <a:srgbClr val="ff33cc"/>
                </a:solidFill>
                <a:latin typeface="Arial Black"/>
              </a:rPr>
              <a:t>тренировка мелкой моторики рук, антистресс</a:t>
            </a:r>
            <a:r>
              <a:rPr b="0" i="1" lang="ru-RU" sz="2800" spc="-1" strike="noStrike">
                <a:solidFill>
                  <a:srgbClr val="ff33cc"/>
                </a:solidFill>
                <a:latin typeface="Arial Black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96000" y="612612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897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46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821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2890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296244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cc"/>
                </a:solidFill>
                <a:latin typeface="Arial"/>
              </a:rPr>
              <a:t>Сувен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cc"/>
                </a:solidFill>
                <a:latin typeface="Arial"/>
              </a:rPr>
              <a:t>«Ангелоче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46680" y="-243000"/>
            <a:ext cx="5197320" cy="106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296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3T16:51:40Z</dcterms:created>
  <dc:creator>Пользователь</dc:creator>
  <dc:description/>
  <dc:language>en-US</dc:language>
  <cp:lastModifiedBy>Пользователь</cp:lastModifiedBy>
  <dcterms:modified xsi:type="dcterms:W3CDTF">2022-11-03T19:23:02Z</dcterms:modified>
  <cp:revision>5</cp:revision>
  <dc:subject/>
  <dc:title>Слайд 1</dc:title>
</cp:coreProperties>
</file>