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5.png" ContentType="image/png"/>
  <Override PartName="/ppt/media/image3.jpeg" ContentType="image/jpe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9E47-33DA-4288-A88A-299B7366EB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0B6C-AB03-4FAE-8436-BFD35F8567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E1FC-8FD9-45A8-BF15-1A3074F6BF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33F4-54D8-4CB1-9BDF-4BC0E7A79C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B028-3DD7-4372-A7F4-2F17AF0108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83E-55FE-4CE2-97AD-6C7BB9E1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EE7-9FBF-4F4C-BB2D-8FC5F1BE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EA7DD-7AA7-4842-A420-211CD917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8B3C3-B788-4B8A-9CA3-9079BA2F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1D688-ECC5-4586-A27F-0908E987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7771B-1D91-4DBD-B154-A40DD130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77743-B73B-4BE8-AD0B-D7A9E88F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749C7-AD72-4A54-89D1-858C3683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2450B-F1EC-4073-965A-04BF91B5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FFCA3-40BB-4BD7-A6FB-39F897AB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6F08E-F333-4458-B4FB-DEEC1E55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A21CA-D60A-4F4D-8D88-C9EB6F2A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755-F938-4736-8B15-CAD78723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29E3B-7904-464A-A676-93EB2C9C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95DAA-5160-46D9-8297-A6FCCBBD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5044F-1C37-4017-A1A5-AA969BB6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08445-FC87-461E-A3F6-7AB2CF30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2B96D-2632-4DCD-A57E-D83BC678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A0A27-C32F-4943-9413-FB9D44B4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0FB51-9C19-4E03-A815-600759A6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D440D-9FCD-4D70-A037-1C8E761A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16A7A-78DF-45F2-9146-5590AEF8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4E566-5EE0-4790-A32F-5B6FE979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AC1-8BCB-472F-B694-B89343E6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3DA11-4F67-4898-AD74-4F8B05AC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7AEF9-BF11-47E1-84A1-F8669D72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09626-2566-4BFB-9B2B-A2258D6D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DC387-7828-4A73-AB19-F5B97411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9B9E0-C78D-4254-882D-D4BE8687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77C32-D70D-4614-AECC-02775336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AE04F-DEA7-4388-B57B-A3FB6BF0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0894B-6BE9-4E44-AD9B-6364BB94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A0C0A-6E29-4806-952F-4ACC9D38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D8A29-996C-4107-BF5E-DF023CCD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1E26-FD53-4F03-9C2D-0E83DEAD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A6D8A-5D37-4069-9D38-194AF5B9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E63E2-1122-4397-8AA1-90AFB6EE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1DE1B-1760-486E-8A84-78FA17B0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BC235-CDF3-4D9E-9279-0A324252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598D2-BFB9-4C81-85B8-5F6D407B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B28A5-FBF9-4A71-B682-ECB662C4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DA0A4-BAC2-46CC-BAEF-3E241C88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DE4E8-9180-4501-A010-A5381E16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CD1EC-14EF-48DE-96AB-4E65F043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0602A-9441-49E9-A1FE-CFC95DDB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A05D-B3B0-4691-B113-669E8A30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6F892-D512-4BD0-939C-87E66E1C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DACC1-F099-45F1-9FCB-42C07747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9ECD6-724A-4FF7-BB7A-5EF698BE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4628B-2149-4E60-9A85-210D8F67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67780-F502-436E-8474-37F26D50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18B7-0D9A-46B5-85B5-F7065FAC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E573-57B9-4A58-8460-DCB78A28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9DE6-E435-4D83-99B0-E9D50CEF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5D62-DC8A-4EFC-9F19-C6B68582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A912-11DC-4CFB-941B-CB2BDB9B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A67-D688-4C93-9BEE-E6E7EBA9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3D09-5DE5-440F-AF83-0CDBA3E6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7563-CB56-4C24-AD06-3200CC2B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122E-C22B-4D20-9BCC-DB7147C4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7168-B895-495C-A1F0-810811C7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019E-3839-47FF-8145-B4517DFE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1FA7-E89B-4C32-BD91-E013A376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57AE-9CAB-4471-82AD-C2BDC123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E763-8586-42D1-A6E6-66C80987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D1E6B-D206-4BDC-8484-738AAC71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A6EE-9161-4859-B6E7-BEA12059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D71-B8F1-4323-9C05-2D15049B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923F3-1D10-448A-A973-8A8060EA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9D86E-94E0-4934-9CF5-83421F82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853B-3C7F-45D7-954A-56C32666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B88C-B4A2-4D59-865A-7AF7800D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327F-E295-4E07-B500-0C1CD2F6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4634D-0870-4A9A-813F-A24E5A28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3D1C-C976-45E4-B686-17CB466B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9216F-D3D1-4A58-8D0C-3E9B61B7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C380-3820-4C86-8EF4-40C0E610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448C-7B4A-4D90-B1CA-83DAB641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589-9C3C-4EBA-8A42-BDD095EA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F8F42-816E-435C-9485-9EDFDDCC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1B7D6-0F6D-4C07-AEA8-D1762943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7EEC-9248-422A-AC4F-0098FB2F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1BABD-8C77-4AE0-A875-8AE2E852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749F8-DAE4-43C6-885D-CFE78CB7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2AB72-A300-4F5A-BE2F-A0A0B5C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8F39B-DD23-4893-A0D7-92387F51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B7F14-25E4-4EC5-8BBC-3E1BD5A0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686F-47DD-4CF6-A5CB-F9CDCBA3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1414D-274E-4C8A-8933-1C438D30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FED-0C42-4D13-97E8-C55FA128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5368A-4E5F-494D-8709-619375B0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096B4-86D7-4A00-B743-825F4A24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A07B4-E78B-4134-9D88-A6D0BA44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F6F5-CC9B-4B91-AA08-D1069356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C615D-CB6C-48E4-94DB-B2F458CB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03619-5528-4CC9-8E17-117D2604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FFDF8-31F9-41C1-AB65-BE2265A5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B126-92FE-465D-B215-3FEDDDE3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95924-B2AC-44B0-9FE9-22D4A7B1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5DD71-7385-4F5D-A650-A725B56C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19C-C9FF-4EC5-BE6C-A5E2BEE9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37789-1071-4A01-83E5-42380D7C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8E133-27F0-4F27-8A28-8DF22197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C5EB4-B5EE-4101-88C2-49A3F7C5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EA3F9-2E11-420B-B548-42BF0ADE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CF126-C30D-4F6D-9B7D-D3F9B3EA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D67EE-A64F-4EBA-A2F5-1114CEF8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291C-F593-4A9C-AC9E-B16AB43B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A2B8F-5204-4104-B1C4-2633E432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83F59-56EE-4121-B405-C1A85150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E68A9-C0E5-424F-B9B2-C14E38F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792-B3E2-437E-BA71-C2789B51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FA8EF-DFDD-42A6-BBD9-1AD539ED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8E262-4DF4-48AD-9569-48D4C4C7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1A36D-AF41-4DDF-94E3-6C24882C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619D5-9AE7-489D-8FB6-4AB86D4E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89210-179C-4C89-AEE2-E9E6DD88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4EC22-BB70-42FD-9449-2554A8DC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90093-A4C5-4C9C-9694-B5434FDD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B1339-A071-4677-9102-529223ED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FFE76-9A7D-4C9A-801E-9FFADB9D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F60AC-EAB3-471C-A7A4-85452A95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7AD-CFF0-472A-B03E-ACB8783D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C861C-E72C-416E-8613-49FE560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8D0F8-996A-4D05-B03A-92AB213D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FC1FF-40C2-450D-B542-5C102287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D1274-23B4-4F74-BCC3-F6DD46E9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F4BD5-977A-4764-9613-B336CB24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A88E7-9EAD-43EC-A624-21116CCF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42EAC-3987-445A-A322-CFD683D5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6FC38-78E2-48A1-98CD-0E5D41C2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A75A9-23EC-4543-B360-63ED3EC7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A92F5-AF1F-48BA-8F8F-A5640414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480-EA80-463A-9F97-620555BD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26F33-6303-4110-B439-983042D0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35F5B-9313-40BF-9B9E-32A28134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91C47-995E-45C9-9CFC-A6533EF1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B0377-9CCB-4F2B-9F94-94550B72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45722-ADF7-4630-8E9E-543A74DA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B61CE-42DC-497C-8ED7-7D9DFE77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1C830-9F43-4A43-BDE3-541BB08E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A7204-79B7-476D-8021-AFA68AE7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BDE65-A1C5-42E6-81BA-D9FA9FB7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FA4C1-774D-4C0F-8D8E-1AF57687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837B-FFF6-4A7A-8DC7-C4C07CCE31B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35CB-0FFC-4271-8CE6-D0AF7C9A770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6780-A8BB-45C5-B010-2FA7F61F5BC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F638-5F95-4D24-B9A4-998C4514654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A09C-2D15-455E-8EC9-08C5ECCDA07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B744-C2F5-43A7-BB1B-D46744436C1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0933-D216-49EB-AC37-89274B7917E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5CFF-5C0E-4B8E-A2A8-95C1FF50FDB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9A99-8279-4D6B-9699-D59237666CF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CD38-4130-4EBA-BAC7-A9D6A433429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F986-042B-49A7-B649-DC7225B32BA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6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38ED-3651-451D-B264-61F6B793B0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9" descr="C:\Users\user\Desktop\955219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6" name="Заголовок 1" descr=""/>
          <p:cNvPicPr/>
          <p:nvPr/>
        </p:nvPicPr>
        <p:blipFill>
          <a:blip r:embed="rId2"/>
          <a:stretch/>
        </p:blipFill>
        <p:spPr>
          <a:xfrm>
            <a:off x="1420920" y="396720"/>
            <a:ext cx="7369200" cy="13226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33080" y="1544760"/>
            <a:ext cx="666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Прямоугольник 3"/>
          <p:cNvSpPr/>
          <p:nvPr/>
        </p:nvSpPr>
        <p:spPr>
          <a:xfrm>
            <a:off x="5286240" y="1857240"/>
            <a:ext cx="3571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50141b"/>
                </a:solidFill>
                <a:latin typeface="Arial"/>
              </a:rPr>
              <a:t>«Вопрос о патриотическом воспитании молодежи – это разговор о самом главном: о ценностях, о нравственных основах, на которых мы можем и должны строить нашу жизнь, воспитывать детей, развивать общество, в конечном итоге укреплять нашу страну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141b"/>
                </a:solidFill>
                <a:latin typeface="Arial"/>
              </a:rPr>
              <a:t>                           </a:t>
            </a:r>
            <a:r>
              <a:rPr b="1" lang="ru-RU" sz="1800" spc="-1" strike="noStrike">
                <a:solidFill>
                  <a:srgbClr val="50141b"/>
                </a:solidFill>
                <a:latin typeface="Arial"/>
              </a:rPr>
              <a:t>В.В. Пу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7"/>
          <p:cNvSpPr/>
          <p:nvPr/>
        </p:nvSpPr>
        <p:spPr>
          <a:xfrm flipV="1" rot="10800000">
            <a:off x="1642680" y="5736960"/>
            <a:ext cx="728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 проекта: Лябина  Елена Юрье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 МДОУ детский сад №47 «Лесная сказка»      г.о.Егорьевс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7" descr="C:\Users\user\Desktop\проект2017\фото 9\img_8048.jpg"/>
          <p:cNvPicPr/>
          <p:nvPr/>
        </p:nvPicPr>
        <p:blipFill>
          <a:blip r:embed="rId3"/>
          <a:stretch/>
        </p:blipFill>
        <p:spPr>
          <a:xfrm>
            <a:off x="1571760" y="1928880"/>
            <a:ext cx="35002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C:\Users\user\Desktop\Bezymyannyi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83f04"/>
                </a:solidFill>
                <a:latin typeface="Franklin Gothic Book"/>
              </a:rPr>
              <a:t>Повторное исследование включенности родителей  в работу ДОУ по нравственно-патриотическому воспитанию детей: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71720" y="4428720"/>
            <a:ext cx="75722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равнительные результаты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и родителей старших дошкольников уменьшилось количество «заказчиков» и «наблюдателей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увеличилось количество активных участников в нравственно-патриотическом воспитании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1" descr=""/>
          <p:cNvPicPr/>
          <p:nvPr/>
        </p:nvPicPr>
        <p:blipFill>
          <a:blip r:embed="rId2"/>
          <a:stretch/>
        </p:blipFill>
        <p:spPr>
          <a:xfrm>
            <a:off x="2143080" y="1643040"/>
            <a:ext cx="4899240" cy="257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C:\Users\user\Desktop\Bezymyannyi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746748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Franklin Gothic Book"/>
              </a:rPr>
              <a:t>                         </a:t>
            </a:r>
            <a:r>
              <a:rPr b="1" lang="ru-RU" sz="2400" spc="-1" strike="noStrike">
                <a:solidFill>
                  <a:srgbClr val="783f04"/>
                </a:solidFill>
                <a:latin typeface="Franklin Gothic Book"/>
              </a:rPr>
              <a:t>Достигнутые результаты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785880" y="999720"/>
            <a:ext cx="75722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ти приобрели новые знания об истории нашей страны, ее героическом прош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высилась ответственность родителей за патриотическое воспитание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огатились педагогические знания родителей по данной теме, создалась благоприятная эмоциональная атмосфера взаимопонимания и доверительных отношений между всеми участниками педагогического проце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3" descr="C:\Users\user\Desktop\P1010317.JPG"/>
          <p:cNvPicPr/>
          <p:nvPr/>
        </p:nvPicPr>
        <p:blipFill>
          <a:blip r:embed="rId2"/>
          <a:stretch/>
        </p:blipFill>
        <p:spPr>
          <a:xfrm>
            <a:off x="1276200" y="4000680"/>
            <a:ext cx="2955960" cy="21430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C:\Users\user\Desktop\DSCN2752.JPG"/>
          <p:cNvPicPr/>
          <p:nvPr/>
        </p:nvPicPr>
        <p:blipFill>
          <a:blip r:embed="rId3"/>
          <a:stretch/>
        </p:blipFill>
        <p:spPr>
          <a:xfrm>
            <a:off x="5214960" y="4000680"/>
            <a:ext cx="3017880" cy="2135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3" descr="C:\Users\user\Desktop\0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071440"/>
            <a:ext cx="8472600" cy="221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14425d"/>
                </a:solidFill>
                <a:latin typeface="Franklin Gothic Book"/>
              </a:rPr>
              <a:t>         </a:t>
            </a:r>
            <a:r>
              <a:rPr b="1" i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C:\Users\user\Desktop\Bezymyannyi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856800"/>
            <a:ext cx="7467480" cy="560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Franklin Gothic Book"/>
              </a:rPr>
              <a:t>              </a:t>
            </a:r>
            <a:r>
              <a:rPr b="1" lang="ru-RU" sz="2400" spc="-1" strike="noStrike">
                <a:solidFill>
                  <a:srgbClr val="783f04"/>
                </a:solidFill>
                <a:latin typeface="Franklin Gothic Book"/>
              </a:rPr>
              <a:t>Социальная значимость проекта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85840" y="1143000"/>
            <a:ext cx="85010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временных условиях, когда происходят глубочайшие изменения в жизни общества, одним из центральных направлений работы с подрастающим поколением становится патриотическое воспитание.  Возникает необходимость вернуться к лучшим традициям нашего народа, к его вековым корням, к таким вечным понятиям, как род, родство, Род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ая программа «Патриотическое воспитание граждан Российской Федерации на 2016—2020 годы», утвержденная постановлением Правительства РФ от 30.12.2015 № 1493, ориентирована на повышение общественного статуса патриотического воспитания в учреждениях образования всех уровней — от дошкольного до высшего профессиональ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3" descr="C:\Users\user\Desktop\i.jpg"/>
          <p:cNvPicPr/>
          <p:nvPr/>
        </p:nvPicPr>
        <p:blipFill>
          <a:blip r:embed="rId2"/>
          <a:stretch/>
        </p:blipFill>
        <p:spPr>
          <a:xfrm>
            <a:off x="2928960" y="5143680"/>
            <a:ext cx="3286080" cy="971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0" descr="C:\Users\user\Desktop\Bezymyannyi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1"/>
          <p:cNvSpPr/>
          <p:nvPr/>
        </p:nvSpPr>
        <p:spPr>
          <a:xfrm>
            <a:off x="428760" y="2924640"/>
            <a:ext cx="82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858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783f04"/>
                </a:solidFill>
                <a:latin typeface="Arial"/>
              </a:rPr>
              <a:t>«Семья - детский сад»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83f04"/>
                </a:solidFill>
                <a:latin typeface="Arial"/>
              </a:rPr>
              <a:t>- единое пространство для нравственно-патриотического воспитания  дошкольников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14240" y="1223280"/>
            <a:ext cx="7715520" cy="18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Семья и детский сад в хронологическом ряду связаны формой преемственности, что обеспечивает непрерывность воспитания и обучения детей. Однако дошкольник не эстафета, которую передает семья в ру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реждения. Здесь важен не принцип параллельности, а принцип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проникнов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вух социальных институтов…Ни семья, ни детский сад не могут заменить друг друга.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концепции  В.Давыдова и В.Петровск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5"/>
          <p:cNvSpPr/>
          <p:nvPr/>
        </p:nvSpPr>
        <p:spPr>
          <a:xfrm>
            <a:off x="642960" y="310500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785880" y="35791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атриотическое воспитание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взаимодействия воспитателей, родителей, специалистов и воспитанников, направленный на развитие патриотических чувств, формирование патриотических убеждений и устойчивых норм патриотического  по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11" descr="C:\Users\user\Desktop\269_mesyachnik-patrioticheskoy-i-.gif"/>
          <p:cNvPicPr/>
          <p:nvPr/>
        </p:nvPicPr>
        <p:blipFill>
          <a:blip r:embed="rId2"/>
          <a:stretch/>
        </p:blipFill>
        <p:spPr>
          <a:xfrm>
            <a:off x="6500880" y="4143240"/>
            <a:ext cx="128592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2" descr="C:\Users\user\Desktop\Bezymyannyi3.png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8680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Цель  проекта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Формирование чувства патриотизма у детей старшего дошкольного возраста, просвещение родителей в вопросах нравственно-патриотического воспитания детей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71680" y="1285920"/>
            <a:ext cx="7929360" cy="33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Задачи проекта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Формирование чувства любви к своей Родине, ее исто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оспитание гражданско-патриотических качеств личности юного граждани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оспитание у детей чувство уважения к российскому воину, его силе и мужеству. Расширять  представления детей о Российской арм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богащение детей знаниями о Великой Отечественной войне, воспитание уважения к ветеранам Великой Отечественной вой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знакомление дошкольников с историческим прошлым России средствами эстетического воспитания: музыки, изобразительной  деятельности, художественного сло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Активизация работы с родителями по привлечению их к нравственно-патриотическому воспитанию детей в семь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6"/>
          <p:cNvSpPr/>
          <p:nvPr/>
        </p:nvSpPr>
        <p:spPr>
          <a:xfrm>
            <a:off x="571680" y="3857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7"/>
          <p:cNvSpPr/>
          <p:nvPr/>
        </p:nvSpPr>
        <p:spPr>
          <a:xfrm flipH="1">
            <a:off x="642240" y="4572000"/>
            <a:ext cx="31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8"/>
          <p:cNvSpPr/>
          <p:nvPr/>
        </p:nvSpPr>
        <p:spPr>
          <a:xfrm flipH="1">
            <a:off x="785880" y="492912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9"/>
          <p:cNvSpPr/>
          <p:nvPr/>
        </p:nvSpPr>
        <p:spPr>
          <a:xfrm flipH="1">
            <a:off x="713520" y="528624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11" descr="C:\Users\user\Desktop\flag.jpg"/>
          <p:cNvPicPr/>
          <p:nvPr/>
        </p:nvPicPr>
        <p:blipFill>
          <a:blip r:embed="rId2"/>
          <a:stretch/>
        </p:blipFill>
        <p:spPr>
          <a:xfrm>
            <a:off x="2857680" y="5143680"/>
            <a:ext cx="3357360" cy="868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0" descr="C:\Users\user\Desktop\Bezymyannyi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Прямоугольник 1"/>
          <p:cNvSpPr/>
          <p:nvPr/>
        </p:nvSpPr>
        <p:spPr>
          <a:xfrm>
            <a:off x="500040" y="214200"/>
            <a:ext cx="828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Прямоугольник 2"/>
          <p:cNvSpPr/>
          <p:nvPr/>
        </p:nvSpPr>
        <p:spPr>
          <a:xfrm>
            <a:off x="0" y="107172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Прямоугольник 3"/>
          <p:cNvSpPr/>
          <p:nvPr/>
        </p:nvSpPr>
        <p:spPr>
          <a:xfrm>
            <a:off x="2000160" y="121428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Прямоугольник 4"/>
          <p:cNvSpPr/>
          <p:nvPr/>
        </p:nvSpPr>
        <p:spPr>
          <a:xfrm>
            <a:off x="1928880" y="1071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57120" y="499680"/>
            <a:ext cx="7858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783f04"/>
                </a:solidFill>
                <a:latin typeface="Arial"/>
              </a:rPr>
              <a:t>Подготовительный этап </a:t>
            </a:r>
            <a:r>
              <a:rPr b="1" lang="ru-RU" sz="1400" spc="-1" strike="noStrike">
                <a:solidFill>
                  <a:srgbClr val="783f04"/>
                </a:solidFill>
                <a:latin typeface="Arial"/>
              </a:rPr>
              <a:t>реализации проек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Прямоугольник 7"/>
          <p:cNvSpPr/>
          <p:nvPr/>
        </p:nvSpPr>
        <p:spPr>
          <a:xfrm>
            <a:off x="571680" y="1857240"/>
            <a:ext cx="80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оугольник 8"/>
          <p:cNvSpPr/>
          <p:nvPr/>
        </p:nvSpPr>
        <p:spPr>
          <a:xfrm>
            <a:off x="571680" y="3786120"/>
            <a:ext cx="38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11" descr="C:\Users\user\Desktop\проект2017\патриот\20170602_085009.jpg"/>
          <p:cNvPicPr/>
          <p:nvPr/>
        </p:nvPicPr>
        <p:blipFill>
          <a:blip r:embed="rId2"/>
          <a:stretch/>
        </p:blipFill>
        <p:spPr>
          <a:xfrm>
            <a:off x="5143680" y="3286080"/>
            <a:ext cx="2786040" cy="1785960"/>
          </a:xfrm>
          <a:prstGeom prst="rect">
            <a:avLst/>
          </a:prstGeom>
          <a:ln w="0">
            <a:noFill/>
          </a:ln>
        </p:spPr>
      </p:pic>
      <p:sp>
        <p:nvSpPr>
          <p:cNvPr id="539" name="Прямоугольник 10"/>
          <p:cNvSpPr/>
          <p:nvPr/>
        </p:nvSpPr>
        <p:spPr>
          <a:xfrm>
            <a:off x="642960" y="1071720"/>
            <a:ext cx="7929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Цель подготовительного этап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изучение семейного социума для установления социального партнерства с родителями и знаний детей по изучаемой теме; определение целей, задач и форм взаимодействия между субъектами процесса по вопросам нравственно-патриотического воспитания дошколь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83f04"/>
                </a:solidFill>
                <a:latin typeface="Arial"/>
              </a:rPr>
              <a:t>Формы работы</a:t>
            </a:r>
            <a:r>
              <a:rPr b="0" lang="ru-RU" sz="1800" spc="-1" strike="noStrike">
                <a:solidFill>
                  <a:srgbClr val="783f04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кетирование, беседы, проведение родительских собраний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Рисунок 7" descr="G:\DCIM\101SSCAM\IMG_0001.JPG"/>
          <p:cNvPicPr/>
          <p:nvPr/>
        </p:nvPicPr>
        <p:blipFill>
          <a:blip r:embed="rId3"/>
          <a:stretch/>
        </p:blipFill>
        <p:spPr>
          <a:xfrm>
            <a:off x="1285920" y="3214800"/>
            <a:ext cx="2928960" cy="1928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C:\Users\user\Desktop\20170530_163213.jpg"/>
          <p:cNvPicPr/>
          <p:nvPr/>
        </p:nvPicPr>
        <p:blipFill>
          <a:blip r:embed="rId4"/>
          <a:stretch/>
        </p:blipFill>
        <p:spPr>
          <a:xfrm>
            <a:off x="3143160" y="4572000"/>
            <a:ext cx="285768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user\Desktop\Bezymyannyi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642600"/>
            <a:ext cx="825804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83f04"/>
                </a:solidFill>
                <a:latin typeface="Franklin Gothic Book"/>
              </a:rPr>
              <a:t>Степень включенности родителей  в работу ДОУ по нравственно-патриотическому воспитанию детей: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4143240"/>
            <a:ext cx="8329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е участники - 15%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атели - 65%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азчики - 2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ьский контингент ДОУ не однороден по составу и  предпочтениям  в воспитании детей. Родители не до конца понимают необходимость сотрудничества с педагогами ДОУ по вопросам нравственно-патриотического воспитания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6" name="Object 1"/>
          <p:cNvGraphicFramePr/>
          <p:nvPr/>
        </p:nvGraphicFramePr>
        <p:xfrm>
          <a:off x="2357280" y="1357200"/>
          <a:ext cx="4429440" cy="2657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7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1357200"/>
                    <a:ext cx="442944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0" descr="C:\Users\user\Desktop\Bezymyannyi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356920" y="274680"/>
            <a:ext cx="5567400" cy="79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Arial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783f04"/>
                </a:solidFill>
                <a:latin typeface="Arial"/>
                <a:ea typeface="Arial"/>
              </a:rPr>
              <a:t>Практический этап </a:t>
            </a:r>
            <a:r>
              <a:rPr b="1" lang="ru-RU" sz="1400" spc="-1" strike="noStrike">
                <a:solidFill>
                  <a:srgbClr val="783f04"/>
                </a:solidFill>
                <a:latin typeface="Arial"/>
                <a:ea typeface="Arial"/>
              </a:rPr>
              <a:t>реализации проекта.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0" name="Прямоугольник 6"/>
          <p:cNvSpPr/>
          <p:nvPr/>
        </p:nvSpPr>
        <p:spPr>
          <a:xfrm>
            <a:off x="642960" y="928800"/>
            <a:ext cx="7858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Цель   практического этап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еализация программы   сотрудничества между всеми участниками воспитательно-образовательного процесса по нравственно-патриотическому воспитанию детей.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783f04"/>
                </a:solidFill>
                <a:latin typeface="Arial"/>
              </a:rPr>
              <a:t>Формы раб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тации, мастер-классы, семинары, тренинги, обмен педагогическим опытом, совместное участие родителей, детей и педагогов в различных мероприят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5" descr="C:\Users\user\Desktop\проект2017\патриот\IMG_1550.JPG"/>
          <p:cNvPicPr/>
          <p:nvPr/>
        </p:nvPicPr>
        <p:blipFill>
          <a:blip r:embed="rId2"/>
          <a:stretch/>
        </p:blipFill>
        <p:spPr>
          <a:xfrm>
            <a:off x="1214280" y="3071880"/>
            <a:ext cx="2786400" cy="20001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C:\Users\user\Desktop\DSCN1489.JPG"/>
          <p:cNvPicPr/>
          <p:nvPr/>
        </p:nvPicPr>
        <p:blipFill>
          <a:blip r:embed="rId3"/>
          <a:stretch/>
        </p:blipFill>
        <p:spPr>
          <a:xfrm>
            <a:off x="5357880" y="3071880"/>
            <a:ext cx="2714400" cy="2000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9" descr="C:\Users\user\Desktop\DSCN1531.JPG"/>
          <p:cNvPicPr/>
          <p:nvPr/>
        </p:nvPicPr>
        <p:blipFill>
          <a:blip r:embed="rId4"/>
          <a:stretch/>
        </p:blipFill>
        <p:spPr>
          <a:xfrm>
            <a:off x="3143160" y="4429080"/>
            <a:ext cx="278604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C:\Users\user\Desktop\Bezymyannyi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83f04"/>
                </a:solidFill>
                <a:latin typeface="Franklin Gothic Book"/>
              </a:rPr>
              <a:t>Схема сотрудничества ДОУ с родителями по нравственно-патриотическому воспитанию детей.</a:t>
            </a:r>
            <a:r>
              <a:rPr b="1" lang="ru-RU" sz="2400" spc="-1" strike="noStrike">
                <a:solidFill>
                  <a:srgbClr val="783f04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28592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Схема 5" descr=""/>
          <p:cNvPicPr/>
          <p:nvPr/>
        </p:nvPicPr>
        <p:blipFill>
          <a:blip r:embed="rId2"/>
          <a:stretch/>
        </p:blipFill>
        <p:spPr>
          <a:xfrm>
            <a:off x="566640" y="1292400"/>
            <a:ext cx="8083800" cy="4998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C:\Users\user\Desktop\2015-05-07_10_21_31_(1).jpg"/>
          <p:cNvPicPr/>
          <p:nvPr/>
        </p:nvPicPr>
        <p:blipFill>
          <a:blip r:embed="rId1"/>
          <a:stretch/>
        </p:blipFill>
        <p:spPr>
          <a:xfrm>
            <a:off x="5214960" y="2500200"/>
            <a:ext cx="3214800" cy="25005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C:\Users\user\Desktop\Bezymyannyi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467480" cy="71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4"/>
                </a:solidFill>
                <a:latin typeface="Arial"/>
                <a:ea typeface="Arial"/>
              </a:rPr>
              <a:t>                          </a:t>
            </a:r>
            <a:r>
              <a:rPr b="1" lang="ru-RU" sz="2400" spc="-1" strike="noStrike">
                <a:solidFill>
                  <a:srgbClr val="783f04"/>
                </a:solidFill>
                <a:latin typeface="Arial"/>
                <a:ea typeface="Arial"/>
              </a:rPr>
              <a:t>Заключительный этап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42600" y="856800"/>
            <a:ext cx="79297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Цель заключительного этап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ведение итогов  взаимодействия ДОУ и  семьи  по вопросам нравственно - патриотического воспитания  дошкольни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83f04"/>
                </a:solidFill>
                <a:latin typeface="Arial"/>
              </a:rPr>
              <a:t>Формы 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диагностика, анализ проведенных мероприятий, выступления на родительских собраниях.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10" descr="C:\Users\user\Desktop\20161130_130334.jpg"/>
          <p:cNvPicPr/>
          <p:nvPr/>
        </p:nvPicPr>
        <p:blipFill>
          <a:blip r:embed="rId3"/>
          <a:stretch/>
        </p:blipFill>
        <p:spPr>
          <a:xfrm>
            <a:off x="3357720" y="4214880"/>
            <a:ext cx="2786040" cy="18144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1" descr="C:\Users\user\Desktop\DSCN2785.JPG"/>
          <p:cNvPicPr/>
          <p:nvPr/>
        </p:nvPicPr>
        <p:blipFill>
          <a:blip r:embed="rId4"/>
          <a:stretch/>
        </p:blipFill>
        <p:spPr>
          <a:xfrm>
            <a:off x="1571760" y="2500200"/>
            <a:ext cx="2644560" cy="2000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C:\Users\user\Desktop\P1010321.JPG"/>
          <p:cNvPicPr/>
          <p:nvPr/>
        </p:nvPicPr>
        <p:blipFill>
          <a:blip r:embed="rId5"/>
          <a:stretch/>
        </p:blipFill>
        <p:spPr>
          <a:xfrm>
            <a:off x="5214960" y="2500200"/>
            <a:ext cx="264312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8:55:56Z</dcterms:created>
  <dc:creator>Нюрка</dc:creator>
  <dc:description/>
  <dc:language>en-US</dc:language>
  <cp:lastModifiedBy>user</cp:lastModifiedBy>
  <dcterms:modified xsi:type="dcterms:W3CDTF">2022-11-07T20:34:04Z</dcterms:modified>
  <cp:revision>118</cp:revision>
  <dc:subject/>
  <dc:title>Слайд 1</dc:title>
</cp:coreProperties>
</file>