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D2F-B65C-46B4-A3A1-74DE58CA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F0C-CAAA-43E2-BA8F-25686AAF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788-8771-4FB5-A856-89DFF46E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D8D-30FD-4AD4-B874-7EBAECAD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940-2DDC-4A67-8AD8-BB3B3742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3E5-2CAB-4078-A315-55C50F02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797-1BCE-4134-AAA0-287DF50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1D0-30C4-4D0A-883B-F2B7867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ED6-C308-40BA-9695-BF1A4B94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310-9453-47A3-938D-B723BFE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457-6A86-4C5C-8895-3232671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7CB-C7A1-4C59-8F3B-882DBF7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272-D11E-407A-966D-D2B238C1C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Проект </a:t>
            </a:r>
            <a:br>
              <a:rPr sz="7200"/>
            </a:b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   «Мы – турист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84360" y="692280"/>
            <a:ext cx="79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семьями  воспитанников (домашнее зада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вместе с детьми плак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те лес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разрешающие и запрещ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ки о поведении в лесу, в по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755640" y="3906000"/>
            <a:ext cx="838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ический п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SDC13803.JPG"/>
          <p:cNvPicPr/>
          <p:nvPr/>
        </p:nvPicPr>
        <p:blipFill>
          <a:blip r:embed="rId1"/>
          <a:stretch/>
        </p:blipFill>
        <p:spPr>
          <a:xfrm>
            <a:off x="324000" y="549360"/>
            <a:ext cx="3384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3"/>
          <p:cNvSpPr/>
          <p:nvPr/>
        </p:nvSpPr>
        <p:spPr>
          <a:xfrm>
            <a:off x="4211640" y="765000"/>
            <a:ext cx="44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чиналась наша работа над проектом: беседы, рассматривания, игры,  продуктивн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SDC13804.JPG"/>
          <p:cNvPicPr/>
          <p:nvPr/>
        </p:nvPicPr>
        <p:blipFill>
          <a:blip r:embed="rId2"/>
          <a:stretch/>
        </p:blipFill>
        <p:spPr>
          <a:xfrm>
            <a:off x="324000" y="3573360"/>
            <a:ext cx="33224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Рисунок 6" descr="SDC13809.JPG"/>
          <p:cNvPicPr/>
          <p:nvPr/>
        </p:nvPicPr>
        <p:blipFill>
          <a:blip r:embed="rId3"/>
          <a:stretch/>
        </p:blipFill>
        <p:spPr>
          <a:xfrm>
            <a:off x="4500720" y="3500280"/>
            <a:ext cx="3646440" cy="260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SDC13820.JPG"/>
          <p:cNvPicPr/>
          <p:nvPr/>
        </p:nvPicPr>
        <p:blipFill>
          <a:blip r:embed="rId1"/>
          <a:stretch/>
        </p:blipFill>
        <p:spPr>
          <a:xfrm>
            <a:off x="1979640" y="404640"/>
            <a:ext cx="4508640" cy="32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TextBox 4"/>
          <p:cNvSpPr/>
          <p:nvPr/>
        </p:nvSpPr>
        <p:spPr>
          <a:xfrm>
            <a:off x="468360" y="4005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зучали карты-схемы, уч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их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 познакоми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аршрутом предстоящего туристического по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SDC13887.JPG"/>
          <p:cNvPicPr/>
          <p:nvPr/>
        </p:nvPicPr>
        <p:blipFill>
          <a:blip r:embed="rId1"/>
          <a:stretch/>
        </p:blipFill>
        <p:spPr>
          <a:xfrm>
            <a:off x="4788000" y="3500280"/>
            <a:ext cx="3936960" cy="29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4" descr="SDC13815.JPG"/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Рисунок 6" descr="SDC13814.JPG"/>
          <p:cNvPicPr/>
          <p:nvPr/>
        </p:nvPicPr>
        <p:blipFill>
          <a:blip r:embed="rId3"/>
          <a:stretch/>
        </p:blipFill>
        <p:spPr>
          <a:xfrm>
            <a:off x="395280" y="333360"/>
            <a:ext cx="374508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TextBox 7"/>
          <p:cNvSpPr/>
          <p:nvPr/>
        </p:nvSpPr>
        <p:spPr>
          <a:xfrm>
            <a:off x="324000" y="3860640"/>
            <a:ext cx="371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овместно с родителями рисовали  плакаты на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те ле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SDC13823.JPG"/>
          <p:cNvPicPr/>
          <p:nvPr/>
        </p:nvPicPr>
        <p:blipFill>
          <a:blip r:embed="rId1"/>
          <a:stretch/>
        </p:blipFill>
        <p:spPr>
          <a:xfrm>
            <a:off x="4643280" y="26028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Рисунок 4" descr="SDC13828.JPG"/>
          <p:cNvPicPr/>
          <p:nvPr/>
        </p:nvPicPr>
        <p:blipFill>
          <a:blip r:embed="rId2"/>
          <a:stretch/>
        </p:blipFill>
        <p:spPr>
          <a:xfrm>
            <a:off x="2413080" y="3556080"/>
            <a:ext cx="374472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10"/>
          <p:cNvSpPr/>
          <p:nvPr/>
        </p:nvSpPr>
        <p:spPr>
          <a:xfrm>
            <a:off x="324000" y="47628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долгожд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ристический похо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детьми пош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мамы, па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аб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SDC13911.JPG"/>
          <p:cNvPicPr/>
          <p:nvPr/>
        </p:nvPicPr>
        <p:blipFill>
          <a:blip r:embed="rId1"/>
          <a:stretch/>
        </p:blipFill>
        <p:spPr>
          <a:xfrm>
            <a:off x="4859280" y="404640"/>
            <a:ext cx="3936960" cy="29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Рисунок 3" descr="SDC13833.JPG"/>
          <p:cNvPicPr/>
          <p:nvPr/>
        </p:nvPicPr>
        <p:blipFill>
          <a:blip r:embed="rId2"/>
          <a:stretch/>
        </p:blipFill>
        <p:spPr>
          <a:xfrm>
            <a:off x="324000" y="333360"/>
            <a:ext cx="3984480" cy="29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TextBox 4"/>
          <p:cNvSpPr/>
          <p:nvPr/>
        </p:nvSpPr>
        <p:spPr>
          <a:xfrm>
            <a:off x="1141200" y="4076640"/>
            <a:ext cx="698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опинке дети шли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 камень наш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пойдут – мухомор найду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SDC13839.JPG"/>
          <p:cNvPicPr/>
          <p:nvPr/>
        </p:nvPicPr>
        <p:blipFill>
          <a:blip r:embed="rId1"/>
          <a:stretch/>
        </p:blipFill>
        <p:spPr>
          <a:xfrm>
            <a:off x="4805280" y="3875040"/>
            <a:ext cx="34941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Рисунок 10" descr="SDC13844.JPG"/>
          <p:cNvPicPr/>
          <p:nvPr/>
        </p:nvPicPr>
        <p:blipFill>
          <a:blip r:embed="rId2"/>
          <a:stretch/>
        </p:blipFill>
        <p:spPr>
          <a:xfrm>
            <a:off x="395280" y="3841920"/>
            <a:ext cx="3745080" cy="27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Box 11"/>
          <p:cNvSpPr/>
          <p:nvPr/>
        </p:nvSpPr>
        <p:spPr>
          <a:xfrm>
            <a:off x="372960" y="476280"/>
            <a:ext cx="758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едолгого прив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о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е коман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Лу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Звезд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SDC13859.JPG"/>
          <p:cNvPicPr/>
          <p:nvPr/>
        </p:nvPicPr>
        <p:blipFill>
          <a:blip r:embed="rId1"/>
          <a:stretch/>
        </p:blipFill>
        <p:spPr>
          <a:xfrm>
            <a:off x="468360" y="3537000"/>
            <a:ext cx="3598920" cy="27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4" descr="SDC13851.JPG"/>
          <p:cNvPicPr/>
          <p:nvPr/>
        </p:nvPicPr>
        <p:blipFill>
          <a:blip r:embed="rId2"/>
          <a:stretch/>
        </p:blipFill>
        <p:spPr>
          <a:xfrm>
            <a:off x="4764240" y="3500280"/>
            <a:ext cx="3695400" cy="27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Box 5"/>
          <p:cNvSpPr/>
          <p:nvPr/>
        </p:nvSpPr>
        <p:spPr>
          <a:xfrm>
            <a:off x="0" y="33336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Кладоискат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ясь по карте-схем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на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танный «кла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SDC13854.JPG"/>
          <p:cNvPicPr/>
          <p:nvPr/>
        </p:nvPicPr>
        <p:blipFill>
          <a:blip r:embed="rId1"/>
          <a:stretch/>
        </p:blipFill>
        <p:spPr>
          <a:xfrm>
            <a:off x="4572000" y="404640"/>
            <a:ext cx="4008600" cy="30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3" descr="SDC13861.JPG"/>
          <p:cNvPicPr/>
          <p:nvPr/>
        </p:nvPicPr>
        <p:blipFill>
          <a:blip r:embed="rId2"/>
          <a:stretch/>
        </p:blipFill>
        <p:spPr>
          <a:xfrm>
            <a:off x="324000" y="359100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TextBox 4"/>
          <p:cNvSpPr/>
          <p:nvPr/>
        </p:nvSpPr>
        <p:spPr>
          <a:xfrm>
            <a:off x="344880" y="33336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дом» оказа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ические пала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720680" y="3933720"/>
            <a:ext cx="369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ла ком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вездоч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стрее сво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лась с за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0" y="1484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было дано за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рать палат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SDC13868.JPG"/>
          <p:cNvPicPr/>
          <p:nvPr/>
        </p:nvPicPr>
        <p:blipFill>
          <a:blip r:embed="rId1"/>
          <a:stretch/>
        </p:blipFill>
        <p:spPr>
          <a:xfrm>
            <a:off x="395280" y="3357720"/>
            <a:ext cx="410544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2" descr="SDC13880.JPG"/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8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3"/>
          <p:cNvSpPr/>
          <p:nvPr/>
        </p:nvSpPr>
        <p:spPr>
          <a:xfrm>
            <a:off x="816120" y="549360"/>
            <a:ext cx="304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иветств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х тур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л из л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-Лесов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939920" y="3573360"/>
            <a:ext cx="380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гады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ком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ические загад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ши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авилах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24000" y="-3759840"/>
            <a:ext cx="8424720" cy="9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актуальных проблем реформирования дошкольного образования, наиболее острой является обеспечение условий сохранения и укрепления здоровья дошкольников. Современные условия жизни и образования предъявляют высокие требования к уровню психофизического состояния дошкольников, к их общекультурной готовности при переходе из детского сада в общеобразовательную шко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этим активизируется поиск  подходов к оздоровлению, воспитанию и развитию детей средствами физической культуры, которые могли бы не только повышать физическую подготовленность, но и одновременно развивать у воспитанников умственные, познавательные способности и готовить их к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доступной формой оздоровления детей является детский тур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редств туризма, позволяют совершенствовать двигательную сферу ребенка, формировать его личностные качества, расширять представления об окружающ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SDC13893.JPG"/>
          <p:cNvPicPr/>
          <p:nvPr/>
        </p:nvPicPr>
        <p:blipFill>
          <a:blip r:embed="rId1"/>
          <a:stretch/>
        </p:blipFill>
        <p:spPr>
          <a:xfrm>
            <a:off x="4716360" y="260280"/>
            <a:ext cx="403236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5" descr="SDC13898.JPG"/>
          <p:cNvPicPr/>
          <p:nvPr/>
        </p:nvPicPr>
        <p:blipFill>
          <a:blip r:embed="rId2"/>
          <a:stretch/>
        </p:blipFill>
        <p:spPr>
          <a:xfrm>
            <a:off x="395280" y="3573360"/>
            <a:ext cx="3936960" cy="295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TextBox 6"/>
          <p:cNvSpPr/>
          <p:nvPr/>
        </p:nvSpPr>
        <p:spPr>
          <a:xfrm>
            <a:off x="663840" y="404640"/>
            <a:ext cx="312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ту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меть вс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завязы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виды уз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вяжи узл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806720" y="4221000"/>
            <a:ext cx="38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еретяни кана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ла друж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SDC13881.JPG"/>
          <p:cNvPicPr/>
          <p:nvPr/>
        </p:nvPicPr>
        <p:blipFill>
          <a:blip r:embed="rId1"/>
          <a:stretch/>
        </p:blipFill>
        <p:spPr>
          <a:xfrm>
            <a:off x="4500720" y="404640"/>
            <a:ext cx="403200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2" descr="SDC13908.JPG"/>
          <p:cNvPicPr/>
          <p:nvPr/>
        </p:nvPicPr>
        <p:blipFill>
          <a:blip r:embed="rId2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3"/>
          <p:cNvSpPr/>
          <p:nvPr/>
        </p:nvSpPr>
        <p:spPr>
          <a:xfrm>
            <a:off x="1185840" y="1773360"/>
            <a:ext cx="28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х тур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56200" y="4437000"/>
            <a:ext cx="31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 собир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тн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SDC13912.JPG"/>
          <p:cNvPicPr/>
          <p:nvPr/>
        </p:nvPicPr>
        <p:blipFill>
          <a:blip r:embed="rId1"/>
          <a:stretch/>
        </p:blipFill>
        <p:spPr>
          <a:xfrm>
            <a:off x="1898640" y="898560"/>
            <a:ext cx="480060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TextBox 2"/>
          <p:cNvSpPr/>
          <p:nvPr/>
        </p:nvSpPr>
        <p:spPr>
          <a:xfrm>
            <a:off x="2000880" y="4941720"/>
            <a:ext cx="47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, дивный л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445760" y="1866960"/>
            <a:ext cx="628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0399699-turistenok"/>
          <p:cNvPicPr/>
          <p:nvPr/>
        </p:nvPicPr>
        <p:blipFill>
          <a:blip r:embed="rId1"/>
          <a:stretch/>
        </p:blipFill>
        <p:spPr>
          <a:xfrm>
            <a:off x="3129120" y="2890800"/>
            <a:ext cx="2885760" cy="2552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5277600" y="616572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; С.Л. Головор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611280" y="324360"/>
            <a:ext cx="82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детей к активному отдыху (туризму и спорт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умения ориентироваться п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е-схеме и на местности, запомин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енный путь, находить обратную  доро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знаний о природе родного кр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правил поведения в похо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актических умений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ного природопользования (ликвидаци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ов, безопасное движение на маршрут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бережного  отношения к приро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11280" y="481320"/>
            <a:ext cx="784836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агаемый результа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уристического по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го дошкольного возраста, воспитатель, старший воспитатель, воспитатель по ФК, медсестра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95280" y="-84960"/>
            <a:ext cx="8748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95280" y="375840"/>
            <a:ext cx="828036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этап. Подготовительная раб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легенд о зарождении Олимпийски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открыток, альбомов 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менах и их достижениях, иллюстрации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ной жизни тур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тихов о тур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«Кто (что) лишний?», «Назови од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м», «Какому спортсмену что надо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борщик» (найти в слова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м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ругие сло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24000" y="333360"/>
            <a:ext cx="813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язывание узлов разными способ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прямой», «стремя», «схватывающий» и др.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«читать» схемы последователь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завязы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эскизов эмблемы тур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элементам спорти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ия (игра «Кладоискател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иемами стилизации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а, которые могут служить ориентиром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схемы маршрута  для иг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едчики», «Кладоискатели» (дере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пород, цветы, речка или ручеек, пе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, поваленное дерев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подвижных спортивны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39640" y="899640"/>
            <a:ext cx="8209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этап. Продуктивная деяте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-схемы местност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стилизованных знач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 играм «Кладоискатели», «Разведчик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указателей-значков, эм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зарисовок редких раст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дающихся в охране и особенно береж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и; составление указателей-знач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ющие редкие растения 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ющих правила поведения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684360" y="69228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риемам складывания сучь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в или хвороста для костра раз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ами («шалаш», «колодец»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ежный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вода правил поведени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, в по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об опасности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дстерегать в лесу: что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, если заблудился, начался дожд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лись ядовиты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84360" y="119700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гровой ситуации «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чевать в лесу?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сп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стать кро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го сделать подуш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го сделать одея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дка рюкзака (что возьмем с собой 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95280" y="4652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11:17Z</dcterms:created>
  <dc:creator>7</dc:creator>
  <dc:description/>
  <dc:language>en-US</dc:language>
  <cp:lastModifiedBy>User</cp:lastModifiedBy>
  <dcterms:modified xsi:type="dcterms:W3CDTF">2022-11-06T13:33:27Z</dcterms:modified>
  <cp:revision>51</cp:revision>
  <dc:subject/>
  <dc:title>Слайд 1</dc:title>
</cp:coreProperties>
</file>