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A03E-7339-4DDA-8C84-B72F667A8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2208-82E7-4BF6-88D0-6A0B8B35A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4846-AA1A-4C22-945F-549246C60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D731-8DB1-421C-AF85-228537A98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49F6E-F01E-4CA4-AB23-64FC54395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7087C-E98C-4BCA-8BCB-E1019C717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5BC3D-385E-486F-9E25-B76A17056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C6DCB-73F9-4A8F-9BEB-A29AB5571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2D6C5-195C-40A8-A4C2-100018953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3D555-4EE0-457C-B58B-AD50E1FEE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2D42B-4F36-4D28-8148-61C524CEE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29BE-D997-4E4B-B44E-149064BB4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083B5-A5EE-4B25-BE25-D64FB2BAD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F9E21-FAA2-4D37-A2FC-02611A14A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FD91E-539C-4EE3-A89A-F7F5AEE3C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1DE02-7ABE-4364-8023-2A3F9EC6B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35C02-5481-43F7-8B56-92CDC4DA7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E011-4E86-4CDE-BEA0-2F4160169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2547-1EEC-4CED-892F-28471BEA1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EC97-1810-4D18-92DC-1D2CB97B4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A247-EE25-4A40-9650-EB8181B19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AD7B-DA1E-4965-BE8C-9CC38EAA3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31D1-EF73-4B3D-9AC8-D281794D4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0930-41A8-44AF-8DB4-186FB3623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C347D-0C47-47C6-9696-017514377B8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8AF66-0F8A-412D-9C58-955834D2791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b7"/>
                </a:solidFill>
                <a:latin typeface="Arial Black"/>
              </a:rPr>
              <a:t>Прогулка по лесу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5219640" y="4365720"/>
            <a:ext cx="324000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ыполнил воспитатель МБДОУ «Детский сад №37» г. Белов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огунова Олеся Сергеевн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Физминутка «Прогулка в лес»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9280" y="1268280"/>
            <a:ext cx="8007480" cy="43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ы немножко отдохнем,                            (Встать, ноги вместе, руки)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станем, глубоко вздохнем.                       (через стороны –вверх- вдох, опустить вниз-выдох)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ети по лесу гуляли,                                 (Ходьба на месте,)      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а природой наблюдали.                            (Повороты головой влево-право)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верх на солнце посмотрели                      (Встать на носки, руки через стороны)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 их лучики согрели.                                 (вверх и посмотреть вверх.)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удеса у нас на свете                                (Присесть, руки на поясе.)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тали карликами дети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 потом все дружно встали                       (Встать на носочках, руки на поясе,)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еликанами мы стали.                               (спина прямая, тянемся вверх.)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абочки летали,                                       (Бег на месте, плавно махая руками.)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рыльями махали.              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ружно хлопаем,                                      (Хлопки в ладоши,)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огами топаем.                                         (Притопы на месте.)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Хорошо мы погуляли                                 (Дети присаживаются на свои места)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 немножечко устали.                              ( И слушают пение птиц.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Кустарник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63640" y="1197000"/>
            <a:ext cx="3481560" cy="48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Arial"/>
              </a:rPr>
              <a:t>Главное отличие кустарника от дерева заключается в том, что у кустарника нет явно выраженного главного стебля (ствола). У кустарника сразу от корня отходит множество тонких стволов, образующих куст. По этому весьма характерному признаку всегда можно легко отличить кустарник от дерева.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5" descr="3433478"/>
          <p:cNvPicPr/>
          <p:nvPr/>
        </p:nvPicPr>
        <p:blipFill>
          <a:blip r:embed="rId1"/>
          <a:stretch/>
        </p:blipFill>
        <p:spPr>
          <a:xfrm>
            <a:off x="179280" y="1341360"/>
            <a:ext cx="496908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10" descr="Кустарник- многолетнее растение, у которого несколько твёрдых стеблей ответвляется от общего корня. ежевикамалина"/>
          <p:cNvPicPr/>
          <p:nvPr/>
        </p:nvPicPr>
        <p:blipFill>
          <a:blip r:embed="rId1"/>
          <a:stretch/>
        </p:blipFill>
        <p:spPr>
          <a:xfrm>
            <a:off x="250920" y="333360"/>
            <a:ext cx="8569080" cy="602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Травянистые растения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7" descr="slide_5"/>
          <p:cNvPicPr/>
          <p:nvPr/>
        </p:nvPicPr>
        <p:blipFill>
          <a:blip r:embed="rId1"/>
          <a:stretch/>
        </p:blipFill>
        <p:spPr>
          <a:xfrm>
            <a:off x="611280" y="1341360"/>
            <a:ext cx="8208720" cy="502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Гриб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50560" y="4797000"/>
            <a:ext cx="386532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орови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лес осенний на охот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 кузовком спешит грибник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рибнику найти охо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рупный чистый ...(боровик)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917960" y="4868640"/>
            <a:ext cx="3927600" cy="198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ухомо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смотри, какой хороший!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Шляпа красная в горошек,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ружевной воротничок -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н в лесу не новичок!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Picture 5" descr="Boletus_edulis_AWP_20121011"/>
          <p:cNvPicPr/>
          <p:nvPr/>
        </p:nvPicPr>
        <p:blipFill>
          <a:blip r:embed="rId1"/>
          <a:stretch/>
        </p:blipFill>
        <p:spPr>
          <a:xfrm>
            <a:off x="0" y="1484280"/>
            <a:ext cx="4211640" cy="31622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9" descr="457d44db16291e31114d576ca346f65b"/>
          <p:cNvPicPr/>
          <p:nvPr/>
        </p:nvPicPr>
        <p:blipFill>
          <a:blip r:embed="rId2"/>
          <a:stretch/>
        </p:blipFill>
        <p:spPr>
          <a:xfrm>
            <a:off x="4859280" y="1557360"/>
            <a:ext cx="4068720" cy="32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Физминутка </a:t>
            </a:r>
            <a:r>
              <a:rPr b="0" i="1" lang="ru-RU" sz="4400" spc="-1" strike="noStrike">
                <a:solidFill>
                  <a:srgbClr val="ffffb7"/>
                </a:solidFill>
                <a:latin typeface="Arial Black"/>
              </a:rPr>
              <a:t>«За малиной»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 малиной в лес пойдем, в лес пойдем.                     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дети водят хоровод, взявшись за руки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пелых ягод наберем, наберем.                             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идут по кругу, наклоняясь, как бы собирая ягоды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лнышко высоко,           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встают лицом в круг, тянутся руками вверх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 в лесу тропинка.           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наклоняются и пытаются достать пол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ладкая ты моя,                 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(идут по кругу, взявшись за руки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Ягодка-малин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73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Лес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5" descr="i?id=a5ad1cc9c16180670caf386d2c637b9f&amp;n=33&amp;h=215&amp;w=382"/>
          <p:cNvPicPr/>
          <p:nvPr/>
        </p:nvPicPr>
        <p:blipFill>
          <a:blip r:embed="rId1"/>
          <a:stretch/>
        </p:blipFill>
        <p:spPr>
          <a:xfrm>
            <a:off x="468360" y="981000"/>
            <a:ext cx="8351640" cy="53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16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Правила поведения в лесу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5" descr="%20%D0%B2%20%D0%BB%D0%B5%D1%81%D1%83img3"/>
          <p:cNvPicPr/>
          <p:nvPr/>
        </p:nvPicPr>
        <p:blipFill>
          <a:blip r:embed="rId1"/>
          <a:stretch/>
        </p:blipFill>
        <p:spPr>
          <a:xfrm>
            <a:off x="900000" y="1268280"/>
            <a:ext cx="7489800" cy="53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859280" y="188640"/>
            <a:ext cx="392760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твол белеет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Шапочка зеленеет.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тоит в белой одежке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весив сережк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4000" y="3716280"/>
            <a:ext cx="453528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дела к осени оранжевые бус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 немного горьким, но приятным вкус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имою ими сможет насладиться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негирь, пичуга, сойка и синица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5" descr="1ec3bc81ba3e730271d48657f96baf74"/>
          <p:cNvPicPr/>
          <p:nvPr/>
        </p:nvPicPr>
        <p:blipFill>
          <a:blip r:embed="rId1"/>
          <a:stretch/>
        </p:blipFill>
        <p:spPr>
          <a:xfrm>
            <a:off x="468360" y="189000"/>
            <a:ext cx="3887640" cy="33829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2"/>
          <p:cNvPicPr/>
          <p:nvPr/>
        </p:nvPicPr>
        <p:blipFill>
          <a:blip r:embed="rId2"/>
          <a:stretch/>
        </p:blipFill>
        <p:spPr>
          <a:xfrm>
            <a:off x="5148360" y="2924280"/>
            <a:ext cx="3443040" cy="37512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360" y="3573000"/>
            <a:ext cx="392760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н в лесу, как богатырь –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есь огромный – ввысь и вширь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Лист красивый, вырезной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елен летом и весно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еликан осенний ра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урый свой надеть наряд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 веток, словно для затей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бросает желудей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32360" y="115560"/>
            <a:ext cx="3927600" cy="30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Жарким летом он зелёный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 пышной и тенистой кроно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сенью он жёлтый, красны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ль оранжевый - прекрасный!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зже листья, как перчатки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н роняет в беспорядк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сё же, как зовётся он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огадались? Это... (клён)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8" descr="8"/>
          <p:cNvPicPr/>
          <p:nvPr/>
        </p:nvPicPr>
        <p:blipFill>
          <a:blip r:embed="rId1"/>
          <a:stretch/>
        </p:blipFill>
        <p:spPr>
          <a:xfrm>
            <a:off x="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0" descr="27841c7cd0a4b2918b57e8e1ab4d41b5"/>
          <p:cNvPicPr/>
          <p:nvPr/>
        </p:nvPicPr>
        <p:blipFill>
          <a:blip r:embed="rId2"/>
          <a:stretch/>
        </p:blipFill>
        <p:spPr>
          <a:xfrm>
            <a:off x="4788000" y="3373560"/>
            <a:ext cx="4356000" cy="34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Лиственный лес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724360" y="1341000"/>
            <a:ext cx="31212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дравствуй, лес, дремучий лес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лный сказок и чудес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ы о чем шумишь листвою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очью темной, грозовою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то там шепчешь на заре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есь в росе как в серебре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то в глуши твоей таится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то за зверь? Какая птица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се открой, не ута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ы же видишь — мы свои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Автор: С. Погорельски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5" descr="%D0%9B%D0%B8%D1%81%D1%82%D0%B2%D0%B5%D0%BD%D0%BD%D1%8B%D0%B9_%D0%BB%D0%B5%D1%81_%D1%81%D1%80%D0%B5%D0%B4%D0%BD%D0%B5%D1%80%D1%83%D1%81%D1%81%D0%BA%D0%BE%D0%B9_%D1%80%D0%B0%D0%B2%D0%BD%D0%B8%D0%BD%D1%8B"/>
          <p:cNvPicPr/>
          <p:nvPr/>
        </p:nvPicPr>
        <p:blipFill>
          <a:blip r:embed="rId1"/>
          <a:stretch/>
        </p:blipFill>
        <p:spPr>
          <a:xfrm>
            <a:off x="0" y="1268280"/>
            <a:ext cx="567684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95280" y="3860640"/>
            <a:ext cx="3927600" cy="23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Ель обыкновенная -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здали надменная,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 вблизи - уютный дом...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десь мы дождь и переждём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Ю. Насимович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932360" y="0"/>
            <a:ext cx="3927600" cy="27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осны до неба хотят дорасти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ебо ветвями хотят подмести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Чтобы в течение го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Ясной стояла погод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окмакова 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8" descr="picea_glauca_general"/>
          <p:cNvPicPr/>
          <p:nvPr/>
        </p:nvPicPr>
        <p:blipFill>
          <a:blip r:embed="rId1"/>
          <a:stretch/>
        </p:blipFill>
        <p:spPr>
          <a:xfrm>
            <a:off x="611280" y="0"/>
            <a:ext cx="3132000" cy="37148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0" descr="pinus_sylvestris_big02"/>
          <p:cNvPicPr/>
          <p:nvPr/>
        </p:nvPicPr>
        <p:blipFill>
          <a:blip r:embed="rId2"/>
          <a:stretch/>
        </p:blipFill>
        <p:spPr>
          <a:xfrm>
            <a:off x="5364000" y="2924280"/>
            <a:ext cx="3024360" cy="36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Хвойный лес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292360" y="1196640"/>
            <a:ext cx="35528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хвойном лесу, где покой и прохлада,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осны и ели по рангам стоят.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м не нужны перемены нарядов,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мотрят с тоской на весенний обряд.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имнему ветру поклоны давали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трогие девы в лучах тишины.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тройных деревьев коснутся едва ли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вонкие трели посланцев весны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5" descr="les02"/>
          <p:cNvPicPr/>
          <p:nvPr/>
        </p:nvPicPr>
        <p:blipFill>
          <a:blip r:embed="rId1"/>
          <a:stretch/>
        </p:blipFill>
        <p:spPr>
          <a:xfrm>
            <a:off x="0" y="1341360"/>
            <a:ext cx="521964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88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Смешанный лес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724360" y="1341000"/>
            <a:ext cx="31212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ак и льнут березки к соснам,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крутили косы мхом,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, красивые сережки -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удят в сосенках - любовь!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ни нежно приникают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 изумрудной красоте,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 пушистые кивая,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лонят голове к листв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5" descr="86"/>
          <p:cNvPicPr/>
          <p:nvPr/>
        </p:nvPicPr>
        <p:blipFill>
          <a:blip r:embed="rId1"/>
          <a:stretch/>
        </p:blipFill>
        <p:spPr>
          <a:xfrm>
            <a:off x="179280" y="1197000"/>
            <a:ext cx="525636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6T18:13:25Z</dcterms:created>
  <dc:creator>валентина</dc:creator>
  <dc:description/>
  <dc:language>en-US</dc:language>
  <cp:lastModifiedBy>Евгений</cp:lastModifiedBy>
  <dcterms:modified xsi:type="dcterms:W3CDTF">2022-10-23T16:48:59Z</dcterms:modified>
  <cp:revision>5</cp:revision>
  <dc:subject/>
  <dc:title>Прогулка по лесу</dc:title>
</cp:coreProperties>
</file>