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8B6-FC3D-405B-BCB4-ED983D72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1D8-D574-4AF0-B4B2-21E0D7B5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606-89FC-470F-AC29-D15B0156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A4C-0F2D-47E8-9747-9AAD5B7C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22C-D675-4109-8043-D967CBE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B171-3829-4DD6-A402-A2780112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73D-2F67-4569-928E-5E18E84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9A1F-8A95-4F92-9C89-C8F7A41A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CAE-CFE0-414D-BBD8-71D2EAE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738-CB09-4926-98D6-5C4F014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1B9A-BF22-4B7A-A597-176E153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152-1814-4886-B7DA-7B9F804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2CB-2C18-478E-A533-61875E2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4096-5B20-42A6-A686-30228F2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E7EA-8632-40F6-ACC1-17B5238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B8D4-9351-488E-AC7A-3CFB53BD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DD7A-99D0-423E-A727-05BC3DA9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813-96F7-460D-8F5D-B6C20DA7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FF8-D4A0-42D1-9FB1-0E9F6E4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7CB-0C2C-4F7A-A5C2-045BFB50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4E6-BAF6-41D3-A15C-EB860FB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A3B-679F-475D-B173-ECF9861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135-98B1-4A55-83D8-0D689A0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302-9EA2-4BC2-9917-A32D497D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795E-A12F-4691-970F-F2D693AA47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D44-5955-4628-8BAA-74C858080D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179360"/>
            <a:ext cx="9144000" cy="757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волы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АРАТОВСКОГО КРАЯ</a:t>
            </a:r>
            <a:br>
              <a:rPr sz="4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начальных класс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ОУ СОШ №7 им.Героя Советского Союза Трынина А.С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Ртищево Саратовкой области»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интеева Е.П.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6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                              </a:t>
            </a:r>
            <a:r>
              <a:rPr b="1" lang="ru-RU" sz="6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Times New Roman"/>
              </a:rPr>
              <a:t>Военный симво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комплекс «Журав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3280" y="691920"/>
            <a:ext cx="6337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имвол Саратова —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мемориальный комплекс «Журавли»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 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околовой горе в парке Побед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 Это самая высокая точка города. Здесь находится величественный монумент: три устремлённых в небо пилона с клином журавлей, к которым ведут пять маршей парадной лестницы. Этот памятник сооружён в честь саратовцев, не вернувшихся с полей сражений. На территории комплекса расположен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музей под открытым небом — Музей боевой слав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 Сам парк Победы можно назвать живописным оазисом Саратова. Отсюда открывается потрясающий вид: весь город как на ладони и грандиозная многокилометровая водная гладь Волги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Саратов"/>
          <p:cNvPicPr/>
          <p:nvPr/>
        </p:nvPicPr>
        <p:blipFill>
          <a:blip r:embed="rId1"/>
          <a:stretch/>
        </p:blipFill>
        <p:spPr>
          <a:xfrm>
            <a:off x="468360" y="942840"/>
            <a:ext cx="2698560" cy="2363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User\Рабочий стол\image (1).jpg"/>
          <p:cNvPicPr/>
          <p:nvPr/>
        </p:nvPicPr>
        <p:blipFill>
          <a:blip r:embed="rId2"/>
          <a:stretch/>
        </p:blipFill>
        <p:spPr>
          <a:xfrm>
            <a:off x="98280" y="3645000"/>
            <a:ext cx="3436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ЕРГЕЙ САРАТОВСКИЙ СТАЛ АВТОРОМ ОБЩЕСТВЕННОГО ПРОЕКТА «НОВОГОДНЯЯ СИМВОЛИКА САРАТОВСКОЙ ОБЛАСТИ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9396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рб саратовского Деда мороза. и Снегур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умается, что добрая новогодняя символика поможет приобщить подрастающее поколение к историческим истокам праздничных традиций, свойственных Саратовскому краю, - говорит Сергей Владимирович. - Идея уже нашла поддержку областного комитета охраны окружающей среды и природополь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Герб  Деда мороза   и флаг                            Герб Снегуроч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и фла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erbDM"/>
          <p:cNvPicPr/>
          <p:nvPr/>
        </p:nvPicPr>
        <p:blipFill>
          <a:blip r:embed="rId1"/>
          <a:stretch/>
        </p:blipFill>
        <p:spPr>
          <a:xfrm>
            <a:off x="324000" y="4869000"/>
            <a:ext cx="1098360" cy="146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FlagDM"/>
          <p:cNvPicPr/>
          <p:nvPr/>
        </p:nvPicPr>
        <p:blipFill>
          <a:blip r:embed="rId2"/>
          <a:stretch/>
        </p:blipFill>
        <p:spPr>
          <a:xfrm>
            <a:off x="1763640" y="50115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GerbSnegur"/>
          <p:cNvPicPr/>
          <p:nvPr/>
        </p:nvPicPr>
        <p:blipFill>
          <a:blip r:embed="rId3"/>
          <a:stretch/>
        </p:blipFill>
        <p:spPr>
          <a:xfrm>
            <a:off x="4572000" y="4869000"/>
            <a:ext cx="1131840" cy="146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FlagSnegur"/>
          <p:cNvPicPr/>
          <p:nvPr/>
        </p:nvPicPr>
        <p:blipFill>
          <a:blip r:embed="rId4"/>
          <a:stretch/>
        </p:blipFill>
        <p:spPr>
          <a:xfrm>
            <a:off x="6443640" y="4948200"/>
            <a:ext cx="2016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32508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Новый символ  Саратова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-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памятник</a:t>
            </a:r>
            <a:r>
              <a:rPr b="1" i="1" lang="ru-RU" sz="2500" spc="-1" strike="noStrike">
                <a:solidFill>
                  <a:srgbClr val="cc0000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612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Идеи были разные – от легендарных героев Василия Ивановича и Петьки, Стеньки Разина с шамаханской царицей на руках до барона Мюнхгаузена, летящег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ушечном ядре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становились на холостом парне из песни «Огней так много золотых». И не пожалели об этом!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ы ещё не видели памятник - обязательно посетите этот новый символ Саратова! (проспект Кир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_dsc6209"/>
          <p:cNvPicPr/>
          <p:nvPr/>
        </p:nvPicPr>
        <p:blipFill>
          <a:blip r:embed="rId1"/>
          <a:stretch/>
        </p:blipFill>
        <p:spPr>
          <a:xfrm>
            <a:off x="1332000" y="4149720"/>
            <a:ext cx="172728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Live image"/>
          <p:cNvPicPr/>
          <p:nvPr/>
        </p:nvPicPr>
        <p:blipFill>
          <a:blip r:embed="rId2"/>
          <a:stretch/>
        </p:blipFill>
        <p:spPr>
          <a:xfrm>
            <a:off x="4788000" y="4491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800" spc="-1" strike="noStrike">
                <a:solidFill>
                  <a:srgbClr val="cc0000"/>
                </a:solidFill>
                <a:latin typeface="Times New Roman"/>
              </a:rPr>
              <a:t>Символы</a:t>
            </a: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0" lang="ru-RU" sz="3800" spc="-1" strike="noStrike">
                <a:solidFill>
                  <a:srgbClr val="cc0000"/>
                </a:solidFill>
                <a:latin typeface="Times New Roman"/>
              </a:rPr>
              <a:t> Саратовского кра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939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лос   и         троллейбу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менно они изображены на марках, посвященных Дню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лавянской письменности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.(</a:t>
            </a:r>
            <a:r>
              <a:rPr b="1" lang="ru-RU" sz="1800" spc="-1" strike="noStrike">
                <a:solidFill>
                  <a:srgbClr val="053b9c"/>
                </a:solidFill>
                <a:latin typeface="Arial"/>
              </a:rPr>
              <a:t>Марка вышла в обращение в январе 2009 года. На почтовой миниатюре изображены знаменитый мост через Волгу, колос как образ плодородия и (выпускаемый в Саратовской области) троллейбус - символ развития промышленного производств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имволы 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амятник Николаю Гавриловичу Чернышевск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 кон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имвол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Skupka_Saratov"/>
          <p:cNvPicPr/>
          <p:nvPr/>
        </p:nvPicPr>
        <p:blipFill>
          <a:blip r:embed="rId1"/>
          <a:stretch/>
        </p:blipFill>
        <p:spPr>
          <a:xfrm>
            <a:off x="6372360" y="3284640"/>
            <a:ext cx="2016000" cy="160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48105"/>
          <p:cNvPicPr/>
          <p:nvPr/>
        </p:nvPicPr>
        <p:blipFill>
          <a:blip r:embed="rId2"/>
          <a:stretch/>
        </p:blipFill>
        <p:spPr>
          <a:xfrm>
            <a:off x="7257960" y="0"/>
            <a:ext cx="1621080" cy="127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В Саратове появился конверт с рисунком древом знаний Кирилла и Мефодия."/>
          <p:cNvPicPr/>
          <p:nvPr/>
        </p:nvPicPr>
        <p:blipFill>
          <a:blip r:embed="rId3"/>
          <a:stretch/>
        </p:blipFill>
        <p:spPr>
          <a:xfrm>
            <a:off x="22320" y="476280"/>
            <a:ext cx="1476360" cy="11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34718825_saratov"/>
          <p:cNvPicPr/>
          <p:nvPr/>
        </p:nvPicPr>
        <p:blipFill>
          <a:blip r:embed="rId4"/>
          <a:stretch/>
        </p:blipFill>
        <p:spPr>
          <a:xfrm>
            <a:off x="1835280" y="4941720"/>
            <a:ext cx="1942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сурс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52720" y="836640"/>
            <a:ext cx="9396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циклопедия символов. — М.: ЭКСМО, 2007.Горди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энциклопедия символ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Грефенштейн (Peter Greif)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катеринбург, 26 июля 2012 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мире симво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траницам книги Ю.Н.Лу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ы — язык в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лена Сикирич, руководитель «Нового Акрополя»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ое издание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Человек без границ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видетельство о регистрации средства массовой информации - Эл №ФС 77-20081 от 3 ноября 2004 года.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Саратовского края. 1590-1917: Хрестоматия. /под.ред. В.А.Осипова и др. Саратов, 198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ы городов Саратовской губернии. Саратов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лина Н.Г. (1998)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к и символ в обуч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циклопедия Саратовского края. С. Приволж. Кн. Изд-во. 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928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0" y="-2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Государственная символи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бинирование симво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3645000"/>
            <a:ext cx="900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Государственный флаг РФ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Государственный герб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государственный ги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СИМВОЛЫ НАШЕГО  САРАТОВСКОГО  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:\Users\Ира.Эдик-ПК\Documents\1\Рисунок31.jpg"/>
          <p:cNvPicPr/>
          <p:nvPr/>
        </p:nvPicPr>
        <p:blipFill>
          <a:blip r:embed="rId1"/>
          <a:stretch/>
        </p:blipFill>
        <p:spPr>
          <a:xfrm>
            <a:off x="901800" y="1706400"/>
            <a:ext cx="2798640" cy="172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Ира.Эдик-ПК\Documents\1\Рисунок32.jpg"/>
          <p:cNvPicPr/>
          <p:nvPr/>
        </p:nvPicPr>
        <p:blipFill>
          <a:blip r:embed="rId2"/>
          <a:stretch/>
        </p:blipFill>
        <p:spPr>
          <a:xfrm>
            <a:off x="5510160" y="1779480"/>
            <a:ext cx="2871720" cy="177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sar_g_new"/>
          <p:cNvPicPr/>
          <p:nvPr/>
        </p:nvPicPr>
        <p:blipFill>
          <a:blip r:embed="rId3"/>
          <a:stretch/>
        </p:blipFill>
        <p:spPr>
          <a:xfrm>
            <a:off x="2484360" y="527364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i?id=357080969-63-72&amp;n=21"/>
          <p:cNvPicPr/>
          <p:nvPr/>
        </p:nvPicPr>
        <p:blipFill>
          <a:blip r:embed="rId4"/>
          <a:stretch/>
        </p:blipFill>
        <p:spPr>
          <a:xfrm>
            <a:off x="4211640" y="5535720"/>
            <a:ext cx="1800360" cy="119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15516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ародный символ земли Саратовской- 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                               саратовская гармоника</a:t>
            </a:r>
            <a:r>
              <a:rPr b="1" i="1" lang="ru-RU" sz="25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аратовская гармоника - самобытный народный музыкальный инструмент, который делался только в нашей губернии. Главное ее отличие - колокольчики, они придают гармошке необычный тембр звучания, который и прославил ее на всю Россию.  Саратовские гармошки начали изготавливать с 1865-1866 годов. В старину ни в городе, ни в деревне без них не обходились ни праздники, ни свадьбы, ни народные гулянья.  А известная исполнительница русских народных песен Лидия Русланова часто выступала под аккомпанемент саратовской гармошки…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568"/>
          <p:cNvPicPr/>
          <p:nvPr/>
        </p:nvPicPr>
        <p:blipFill>
          <a:blip r:embed="rId1"/>
          <a:stretch/>
        </p:blipFill>
        <p:spPr>
          <a:xfrm>
            <a:off x="324000" y="4724280"/>
            <a:ext cx="2411280" cy="162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9785625"/>
          <p:cNvPicPr/>
          <p:nvPr/>
        </p:nvPicPr>
        <p:blipFill>
          <a:blip r:embed="rId2"/>
          <a:stretch/>
        </p:blipFill>
        <p:spPr>
          <a:xfrm>
            <a:off x="2987640" y="4724280"/>
            <a:ext cx="2951280" cy="167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2_2"/>
          <p:cNvPicPr/>
          <p:nvPr/>
        </p:nvPicPr>
        <p:blipFill>
          <a:blip r:embed="rId3"/>
          <a:stretch/>
        </p:blipFill>
        <p:spPr>
          <a:xfrm>
            <a:off x="6443640" y="4724280"/>
            <a:ext cx="2122560" cy="156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mg9785625"/>
          <p:cNvPicPr/>
          <p:nvPr/>
        </p:nvPicPr>
        <p:blipFill>
          <a:blip r:embed="rId4"/>
          <a:stretch/>
        </p:blipFill>
        <p:spPr>
          <a:xfrm>
            <a:off x="2765520" y="4697280"/>
            <a:ext cx="29509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2900" spc="-1" strike="noStrike">
                <a:solidFill>
                  <a:srgbClr val="cc0000"/>
                </a:solidFill>
                <a:latin typeface="Times New Roman"/>
              </a:rPr>
              <a:t>Природный символ Саратовской области-дроф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5 ноября 2011 года Союз охраны птиц России (Саратов) провозгласил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дрофу природным символом Саратовской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бласти!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Федеральный канал рассказал о символе Саратова. Видео"/>
          <p:cNvPicPr/>
          <p:nvPr/>
        </p:nvPicPr>
        <p:blipFill>
          <a:blip r:embed="rId1"/>
          <a:stretch/>
        </p:blipFill>
        <p:spPr>
          <a:xfrm>
            <a:off x="2627280" y="765000"/>
            <a:ext cx="28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ru-RU" sz="3800" spc="-1" strike="noStrike">
                <a:solidFill>
                  <a:srgbClr val="cc0000"/>
                </a:solidFill>
                <a:latin typeface="Times New Roman"/>
              </a:rPr>
              <a:t>Символ молитвы -свеч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бычай ставить свечи в храмах пришел в Россию из Византии, Этот символ  характерен для всех храмов  и наше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phphqMAKe"/>
          <p:cNvPicPr/>
          <p:nvPr/>
        </p:nvPicPr>
        <p:blipFill>
          <a:blip r:embed="rId1"/>
          <a:stretch/>
        </p:blipFill>
        <p:spPr>
          <a:xfrm>
            <a:off x="0" y="692280"/>
            <a:ext cx="3176640" cy="2382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usp_hram"/>
          <p:cNvPicPr/>
          <p:nvPr/>
        </p:nvPicPr>
        <p:blipFill>
          <a:blip r:embed="rId2"/>
          <a:stretch/>
        </p:blipFill>
        <p:spPr>
          <a:xfrm>
            <a:off x="5003640" y="682560"/>
            <a:ext cx="3600720" cy="23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051009[1]"/>
          <p:cNvPicPr/>
          <p:nvPr/>
        </p:nvPicPr>
        <p:blipFill>
          <a:blip r:embed="rId3"/>
          <a:stretch/>
        </p:blipFill>
        <p:spPr>
          <a:xfrm>
            <a:off x="2124000" y="4576680"/>
            <a:ext cx="3313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Символ жизни- саратовский калач</a:t>
            </a:r>
            <a:r>
              <a:rPr b="1" i="1" lang="ru-RU" sz="29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История саратовского калача, второго всем известного символа Саратова начинается в конце ХIХ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аратовский калач – изделие имеет такое название не потому что он выпекается лишь в Саратове. саратовскими  кулинарами. Пекари по всей Волге знают 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екреты выпечки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Но саратовцы выпекают 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хлеб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 по своему особому рецеп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2233"/>
          <p:cNvPicPr/>
          <p:nvPr/>
        </p:nvPicPr>
        <p:blipFill>
          <a:blip r:embed="rId1"/>
          <a:stretch/>
        </p:blipFill>
        <p:spPr>
          <a:xfrm>
            <a:off x="1547640" y="220500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 (300x191, 17Kb)"/>
          <p:cNvPicPr/>
          <p:nvPr/>
        </p:nvPicPr>
        <p:blipFill>
          <a:blip r:embed="rId2"/>
          <a:stretch/>
        </p:blipFill>
        <p:spPr>
          <a:xfrm>
            <a:off x="5003640" y="2205000"/>
            <a:ext cx="30020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Times New Roman"/>
              </a:rPr>
              <a:t>Символ науки – СГ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м. Н.Г. Чернышевск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                       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а сегодня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едлагается</a:t>
            </a:r>
            <a:br>
              <a:rPr sz="2000"/>
            </a:b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                    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ЛОЖЕНИЕ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о проведении конкурса по разработке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имволики (герб, медаль, логотип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аратовского государственного университета 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«                                                        им. Н.Г. Чернышев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Целью конкурса является создание символики Саратовского государственного университета им. Н.Г. Чернышевского в разработке символики: герб, флаг, медаль, логотип (далее – символика), отражающей историю и перспективы развития С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овременное образование в Саратове"/>
          <p:cNvPicPr/>
          <p:nvPr/>
        </p:nvPicPr>
        <p:blipFill>
          <a:blip r:embed="rId1"/>
          <a:stretch/>
        </p:blipFill>
        <p:spPr>
          <a:xfrm>
            <a:off x="0" y="836640"/>
            <a:ext cx="3635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Символ мужества, символ России-</a:t>
            </a:r>
            <a:r>
              <a:rPr b="0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cc0000"/>
                </a:solidFill>
                <a:latin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а земле саратовск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аратовской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емл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иземлился первый космонавт мира Юрий Гагарин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 второй наш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осмонавт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 —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Герман Т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 месте приземления  первого космонавта ежегодно проходят праздничные мероприятия, на которые приглашаются  гости из отряда космонав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334227533_img_3354"/>
          <p:cNvPicPr/>
          <p:nvPr/>
        </p:nvPicPr>
        <p:blipFill>
          <a:blip r:embed="rId1"/>
          <a:stretch/>
        </p:blipFill>
        <p:spPr>
          <a:xfrm>
            <a:off x="395280" y="4149720"/>
            <a:ext cx="2664000" cy="209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06904cb9ee96fa6452521f53d9ae2051_original"/>
          <p:cNvPicPr/>
          <p:nvPr/>
        </p:nvPicPr>
        <p:blipFill>
          <a:blip r:embed="rId2"/>
          <a:stretch/>
        </p:blipFill>
        <p:spPr>
          <a:xfrm>
            <a:off x="6804000" y="3789360"/>
            <a:ext cx="1890720" cy="278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mb55715_IMG_3414"/>
          <p:cNvPicPr/>
          <p:nvPr/>
        </p:nvPicPr>
        <p:blipFill>
          <a:blip r:embed="rId3"/>
          <a:stretch/>
        </p:blipFill>
        <p:spPr>
          <a:xfrm>
            <a:off x="3635280" y="4149720"/>
            <a:ext cx="2519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Символ</a:t>
            </a:r>
            <a:r>
              <a:rPr b="0" lang="ru-RU" sz="2500" spc="-1" strike="noStrike">
                <a:solidFill>
                  <a:srgbClr val="cc0000"/>
                </a:solidFill>
                <a:latin typeface="Times New Roman"/>
              </a:rPr>
              <a:t> «</a:t>
            </a:r>
            <a:r>
              <a:rPr b="1" i="1" lang="ru-RU" sz="2500" spc="-1" strike="noStrike">
                <a:solidFill>
                  <a:srgbClr val="cc0000"/>
                </a:solidFill>
                <a:latin typeface="Times New Roman"/>
              </a:rPr>
              <a:t>САМЫЙ, САМЫЙ»-</a:t>
            </a:r>
            <a:r>
              <a:rPr b="0" lang="ru-RU" sz="25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cc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же в саратовском крае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Мост через Волгу – тоже 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имвол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аратовского края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, его любят и безошибочно узнают на любых изображениях. Это самый длинный мост в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а и сама Волга-самая длинная река 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?id=440855394-27-72&amp;n=17"/>
          <p:cNvPicPr/>
          <p:nvPr/>
        </p:nvPicPr>
        <p:blipFill>
          <a:blip r:embed="rId1"/>
          <a:stretch/>
        </p:blipFill>
        <p:spPr>
          <a:xfrm>
            <a:off x="1547640" y="3213000"/>
            <a:ext cx="61200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6:26:11Z</dcterms:created>
  <dc:creator>Оробей</dc:creator>
  <dc:description/>
  <dc:language>en-US</dc:language>
  <cp:lastModifiedBy>Елена</cp:lastModifiedBy>
  <cp:lastPrinted>2016-04-07T17:18:11Z</cp:lastPrinted>
  <dcterms:modified xsi:type="dcterms:W3CDTF">2022-11-07T15:27:32Z</dcterms:modified>
  <cp:revision>180</cp:revision>
  <dc:subject/>
  <dc:title>Знаки и символы в системе кульуры и искусства</dc:title>
</cp:coreProperties>
</file>