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D58-E805-4230-9350-BEA5C832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4D7-4909-42FC-BDFE-E9B3575C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88E-7168-4643-91D6-23367A32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973-61F9-44A6-9385-99EF6BE1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A1FA-CB0A-48EE-AA6B-5727E357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F126-D0B5-4C6E-9135-A80B33D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1FC0-3FF3-4160-B955-2B53F469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D548-952C-48F7-BBF3-C2D66BDF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5A7C-3592-45B6-98F7-EEF454AB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F8D6-D7F6-40CC-B5AE-A8E949ED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C2CA-1C18-485B-A17B-6075DEA8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CC8-AA49-45D0-B0D2-095BE50E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CEF1-8CC0-47EA-ADBD-5759C348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9A1A-A4EA-45E7-87E5-18D94FC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6A55-7FED-406C-822A-C68A67CB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5FA8-92D9-499D-8441-92C5B220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E68F-31C8-49BD-A809-6C59D44F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CA45-3808-47F0-B761-9B428EF2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DED1-AA1D-4C28-A679-38520AB8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ABF3-94BD-464E-A1A0-00A7DED7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167A-B8B8-42A3-BC9D-D6B3A9E2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E365-8A02-4308-8DC2-18C53E99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292-1A2B-4247-A360-5F841B6E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D2B3-BEC7-419D-AE73-06DA4F68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3C07-9456-4395-B55B-3458FBC5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1D7F-1A5B-4A34-ABBC-2E856B22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16D98-0BFA-41A5-86B3-F8B96943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5F07-82CF-44A2-99B9-CF61DD24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BB5F-7379-454D-B3BC-557B0EEE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9EBD-9455-45E6-A613-8A0638D2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1321-0BD2-494A-BA72-4DB4D14A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93A1-AD07-4059-81F7-B534D1E1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B650-2762-46D3-BA1B-02FBC613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E1B-3BE7-4743-B708-B5A85016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771EB-22A7-452A-906A-A95F2580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7E5B-BDB7-4B04-B5DD-FFC590B7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B89BE-E1BC-4FD2-B42F-77D83C4A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EEF3-2B6D-423C-B910-465BC460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6CF5E-AA1F-4B42-83A7-54F7C00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B7D8-321F-4862-8AB4-7B9EAA0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DB1A-51B0-42F8-85EB-AB6F21CD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4DA7-AD67-4E46-B77C-EB6AA159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E1D2-8B82-4356-81EE-DC0E0D67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BDEC0-EAAB-41D6-873B-A4A2F654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FAE-8563-4392-85E2-481C6410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1C71B-5A99-4203-A07C-BE02A29F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A5084-E825-4899-90DA-8899149D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E5F9E-3459-4FAB-AF02-6E709FDF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7EADC-141C-4A4C-941F-7D80325E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2B18-0753-409C-96C7-B886FC70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102FC-CBE9-47FC-8046-F22C29A2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95631-D6D7-437E-AAE1-2D367A9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FBF8A-F2BE-4E23-A87E-1D687B0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12918-289A-46C2-A172-8F2367CB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A3CC6-6172-4A2F-AF40-B21053E6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E5D-9D8F-4ECF-AF8C-C7B82C2A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52384-5791-4C53-9B09-4C965232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1D90B-F14C-4DE7-B6FF-6EA917C2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4F33C-F89C-4337-92BF-288C0D02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8A3B0-ABF2-489F-82EC-7C9D20FF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02438-2630-45A8-A788-BE120532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DD956-E2C2-4018-8BBB-BD45CD62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6CEE0-9117-461B-8270-CB682894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80D47-E387-4175-BDEF-C72F618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A64DB-4169-4574-8FE4-04CBDC4D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AC84-2B1F-424A-AB60-0142BA97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54A-C864-406C-9DA2-2234DE12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2807-3C4A-4CAC-8AEC-01467FAB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B41A1-B374-43C1-AE41-A51A63C8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DE596-D96E-4534-B552-078D1986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D599B-F759-4345-A258-5C22D9EA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D57E-E035-4F59-8275-D27CE759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5FE46-9B49-4A91-9E90-00F2D723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DCDDF-75B8-418F-8EF0-D2C0200B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160E8-61F5-479F-AF92-930CA299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617F0-E139-430B-9DD0-AD0ED8E0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B4E26-02ED-4DE0-A3C3-4657BDC2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6EB-0F6B-40AB-82A9-3BEE5B48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C0175-2398-43FA-B0D4-03749C38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6D1CD-2590-4EA2-968E-F17C104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E3705-1E33-4CD2-BD73-10B72414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89DB5-088B-42D1-8035-BBAF2C2C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DCCEC-BC84-4ABB-A392-7D1E65C1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952-AAB9-4004-8196-7553F8F8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0A9E-6323-4D72-9920-5BCB66FB043C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3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E866-4088-453A-8E97-9F653408FA6F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3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D4C0-DE9D-4459-A648-230A91E33828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3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CED5-8A44-463B-AFF7-14E8390FC0A8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4" descr="C3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C276-F82C-4E23-BCE1-3F43E77DE874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3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2CF9-FACB-40A9-AD65-CA079ED77363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3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0203-5504-457E-9009-9CFEFF24E7DA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169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008000"/>
                </a:solidFill>
                <a:latin typeface="Century Gothic"/>
              </a:rPr>
              <a:t>РАЗДЕЛИТЕЛЬНЫЙ МЯГКИЙ ЗНАК</a:t>
            </a:r>
            <a:br>
              <a:rPr sz="4300"/>
            </a:br>
            <a:r>
              <a:rPr b="1" lang="ru-RU" sz="4300" spc="-1" strike="noStrike">
                <a:solidFill>
                  <a:srgbClr val="008000"/>
                </a:solidFill>
                <a:latin typeface="Century Gothic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63520" y="3789000"/>
            <a:ext cx="738648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Тун-куй-сю  Нелли Владимиров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Century Gothic"/>
              </a:rPr>
              <a:t>МКОУ СОШ № 6 г.Бирюсинска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Century Gothic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16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ol2010@mail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AutoShape 4">
            <a:hlinkClick r:id="" action="ppaction://hlinkshowjump?jump=nextslide"/>
          </p:cNvPr>
          <p:cNvSpPr/>
          <p:nvPr/>
        </p:nvSpPr>
        <p:spPr>
          <a:xfrm>
            <a:off x="7215120" y="61437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42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СОЛО…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7" name="Объект 3" descr=""/>
          <p:cNvPicPr/>
          <p:nvPr/>
        </p:nvPicPr>
        <p:blipFill>
          <a:blip r:embed="rId1"/>
          <a:stretch/>
        </p:blipFill>
        <p:spPr>
          <a:xfrm>
            <a:off x="971640" y="1736640"/>
            <a:ext cx="71294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АРЕ…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9" name="Объект 3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472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ПЕЧЕ….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1" name="Объект 3" descr=""/>
          <p:cNvPicPr/>
          <p:nvPr/>
        </p:nvPicPr>
        <p:blipFill>
          <a:blip r:embed="rId1"/>
          <a:stretch/>
        </p:blipFill>
        <p:spPr>
          <a:xfrm>
            <a:off x="1562040" y="2527200"/>
            <a:ext cx="60199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ПЛА…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3" name="Объект 3" descr=""/>
          <p:cNvPicPr/>
          <p:nvPr/>
        </p:nvPicPr>
        <p:blipFill>
          <a:blip r:embed="rId1"/>
          <a:stretch/>
        </p:blipFill>
        <p:spPr>
          <a:xfrm>
            <a:off x="2171880" y="1781280"/>
            <a:ext cx="48481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93640" y="404640"/>
            <a:ext cx="7956720" cy="561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Gothic"/>
              </a:rPr>
              <a:t>СОЛОВ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Century Gothic"/>
              </a:rPr>
              <a:t>Ь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Century Gothic"/>
              </a:rPr>
              <a:t>ВАРЕН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Century Gothic"/>
              </a:rPr>
              <a:t>Ь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Century Gothic"/>
              </a:rPr>
              <a:t>ПЕЧЕН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Century Gothic"/>
              </a:rPr>
              <a:t>Ь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Century Gothic"/>
              </a:rPr>
              <a:t>ПЛАТ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Century Gothic"/>
              </a:rPr>
              <a:t>Ь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5661000"/>
            <a:ext cx="795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468360" y="1484280"/>
            <a:ext cx="842472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познаются в бе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 говори, да больше делай. Капельки росы блестят на трав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ье - путь к умень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пенька сидит ли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1"/>
          <p:cNvSpPr/>
          <p:nvPr/>
        </p:nvSpPr>
        <p:spPr>
          <a:xfrm>
            <a:off x="468360" y="2276640"/>
            <a:ext cx="8118360" cy="18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познаются в бед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ье - путь к умень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3640" y="754200"/>
            <a:ext cx="7956720" cy="34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«V»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- УЖЕ ЗНА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«+»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- НОВОЕ ДЛЯ МЕН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«-»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- ДУМАЛ ИНАЧ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«?»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- НЕ ПОНЯЛ, ЕСТЬ ВОПРОС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93640" y="3641760"/>
            <a:ext cx="79567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120" y="-892080"/>
            <a:ext cx="795492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93640" y="1909800"/>
            <a:ext cx="795672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1) Упр. 56, стр. 33. Выучить правило на стр. 32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2) По желанию: записать пословицу, в которой есть слово с разделительным мягким знаком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МОЁ НАСТРОЕНИЕ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3" name="Объект 3" descr=""/>
          <p:cNvPicPr/>
          <p:nvPr/>
        </p:nvPicPr>
        <p:blipFill>
          <a:blip r:embed="rId1"/>
          <a:stretch/>
        </p:blipFill>
        <p:spPr>
          <a:xfrm>
            <a:off x="1581120" y="2324160"/>
            <a:ext cx="5981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МОЁ НАСТРОЕНИЕ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1" name="Объект 3" descr=""/>
          <p:cNvPicPr/>
          <p:nvPr/>
        </p:nvPicPr>
        <p:blipFill>
          <a:blip r:embed="rId1"/>
          <a:stretch/>
        </p:blipFill>
        <p:spPr>
          <a:xfrm>
            <a:off x="1908000" y="2065320"/>
            <a:ext cx="5978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3640" y="754200"/>
            <a:ext cx="795672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entury Gothic"/>
              </a:rPr>
              <a:t>СПАСИБО ЗА </a:t>
            </a: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Century Gothic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93640" y="3641400"/>
            <a:ext cx="79567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МИНУТКА ЧИСТОПИСАНИЯ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3" name="Объект 3" descr=""/>
          <p:cNvPicPr/>
          <p:nvPr/>
        </p:nvPicPr>
        <p:blipFill>
          <a:blip r:embed="rId1"/>
          <a:stretch/>
        </p:blipFill>
        <p:spPr>
          <a:xfrm>
            <a:off x="1859040" y="2193840"/>
            <a:ext cx="54259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entury Gothic"/>
                <a:ea typeface="Aharoni"/>
              </a:rPr>
              <a:t>ДЖУНГЛИ – ДОМ ЕЁ РОДНОЙ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entury Gothic"/>
                <a:ea typeface="Aharoni"/>
              </a:rPr>
              <a:t>ТАМ СВОБОДА И ПОКОЙ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entury Gothic"/>
                <a:ea typeface="Aharoni"/>
              </a:rPr>
              <a:t>ТАМ ЛЮБИМЫЕ БАНАНЫ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entury Gothic"/>
                <a:ea typeface="Aharoni"/>
              </a:rPr>
              <a:t>И КРУГОМ РАСТУТ ЛИАН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93640" y="3641400"/>
            <a:ext cx="79567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БЕЗЬЯН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7" name="Объект 3" descr=""/>
          <p:cNvPicPr/>
          <p:nvPr/>
        </p:nvPicPr>
        <p:blipFill>
          <a:blip r:embed="rId1"/>
          <a:stretch/>
        </p:blipFill>
        <p:spPr>
          <a:xfrm>
            <a:off x="1446120" y="2193840"/>
            <a:ext cx="62517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93640" y="753840"/>
            <a:ext cx="7956720" cy="43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Century Gothic"/>
              </a:rPr>
              <a:t>БОЛЬНОЙ, ЛЬЁТ, ВЬЮГА, КОНЬКИ, ОЛЕНЬ, СЕМЬЯ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26920" y="5229000"/>
            <a:ext cx="79567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3640" y="259920"/>
            <a:ext cx="795672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Gothic"/>
              </a:rPr>
              <a:t>1) ЛЬЁТ, ВЬЮГА, СЕМЬ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93640" y="3641400"/>
            <a:ext cx="795672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Gothic"/>
              </a:rPr>
              <a:t>2) больной, коньки, олень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02920" y="-892440"/>
            <a:ext cx="71470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ЛАН УРО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1909440"/>
            <a:ext cx="822636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entury Gothic"/>
              </a:rPr>
              <a:t>1. Воспринимать на слух слова с разделительным ь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2. Определять в слове место написания разделительного ь и обосновывать своё мнение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93640" y="753840"/>
            <a:ext cx="795672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АЛГОРИТМ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93640" y="1557000"/>
            <a:ext cx="795672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1.Слушаем, как звучит слово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2.Определяем, есть ли звук [Й’] после согласного звука перед гласным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3. Если есть, то мягкий знак пишем после буквы согласного перед буквами е,ё,ю,и,я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пк</cp:lastModifiedBy>
  <dcterms:modified xsi:type="dcterms:W3CDTF">2019-02-17T15:48:30Z</dcterms:modified>
  <cp:revision>63</cp:revision>
  <dc:subject/>
  <dc:title>Слайд 1</dc:title>
</cp:coreProperties>
</file>