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2D8-73DC-4111-B6E0-F00F306B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6D1-18EE-4FC3-B834-286075E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C89-E0F0-4329-BB6D-2DCE5D3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EC7-172C-4168-9E95-34222574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9036-C37E-4D0A-846B-07A74377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8D0-D358-403C-BBCA-FD7124E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0654-70FC-4C24-8BF0-FA43FEE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9DFD-0332-41E4-8EB6-0E01C003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064-2754-429E-8613-B31EF0D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A4B-6F6A-445D-B0DE-71573DC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566D-57B0-4305-A55C-0D6FDDF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87D-ABA1-45AC-A5BA-60AE5BC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D89E-6CAA-4983-924F-6F1C9D88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5A38-806A-4838-96C6-E7F1D51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0C8-09EB-40A9-BD90-260C21AB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93CF-6854-47C4-BA71-05B3BF89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25E2-64A9-49AC-8DDD-82AFB9EB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53B1-5E23-40A4-8ABA-84B0682C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D585-DEEF-4A38-AEAE-3B69742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33DA-5AA5-4630-949D-BE0CD17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1638-DCE7-4ACF-9A75-7D68B83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9337-6724-4D13-BF85-C39FF6F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F2A-CBB8-4B13-9645-3C91518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14F3-2004-473D-9E70-CD1B01A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B922-7A7C-4886-AF36-5EBACAA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66C1-8227-487D-8347-C267443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F100-D7BC-4D60-88A1-AB6DD99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97AF-973E-4206-90DC-445CFF4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FBAE-6AA5-43EB-B4F8-D5576EB9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12E6-4107-4171-A662-61DCB119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8105-5E78-4D57-93EB-9E91788B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09B0-D6BA-4D17-8570-4BFF0ED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099D-A67F-4C57-B2D7-73940755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529-EBD9-482D-8281-E1A4591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CBF9-B6ED-4886-A408-97CDA84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9FA0-0CFA-41E6-AFA6-540C1F5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CCD3-1DED-4DB9-8290-511EB8FD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E5ED-DDEE-4460-85C2-22EDF34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E5CB-2FC2-476E-BD55-E4DE5CC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D64D-73A2-40ED-A1D8-2898376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8B3F-96BC-4D4E-8E8A-7465CFA7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4952-DFE3-4D72-9853-31F387B7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A58B-9E7B-48F7-B577-6E62354C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4056-9C1A-44FC-87A8-0A230FA5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30A-09EF-40B9-B3BF-12EDCB2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A011-1DED-4C88-9D90-C2285A8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6D4F-25FD-4F62-96BA-6A3BA7C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FBD1-5B05-40C3-8D79-E6379D4C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A8F2-8237-4680-9128-883E464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B9FB-0A5D-4A84-9696-B740D5C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BAE8-F15D-4A10-ACEC-27D6BA4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47BB-CB65-4CD2-80F5-7900E79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2AE9-B79C-43DB-863C-A967A54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A5A6-CF98-49EA-8318-39CC605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A47A-3F80-4961-8E71-87C6CD63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C80-D984-45B3-869D-96E425D9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86DD-851A-48E8-A671-1D862145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FD94-81E4-40DD-858D-B663A38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61818-909D-4AA6-A096-AB2F7FDF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8C36-AAA3-41EB-A175-92FD433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F892-CF18-42DE-837D-8A0828AE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19FB-58FC-4734-8918-2FCB2884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62FD-4AC8-4E22-A995-EE367BA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6D17-5830-41EB-A202-127152A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5AAE-5BAB-4888-B025-FA35163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39E8-16EA-4743-8EAE-736C193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665-335B-4B1C-A748-089FBFC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3C65-BF39-4CD5-A066-BE849D7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B18E-76C9-44FF-B656-3D57171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C23D2-0E53-4871-B6DD-80DD8F1E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39D4-0253-4646-95A7-6306EE16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5C4A-CD8E-4529-9E44-97D93C8F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8E72-3E6F-48E2-A38F-804F7919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6CED-1A47-4684-9A1B-BB4EEC43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FD813-11B5-4233-BB00-C926848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3AE4-C8E4-42B7-8CEA-2A12D5EE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DF10-B053-409A-8B5D-21C8124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0F2-DEE5-476B-8869-1E3CBFA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3217-479F-4C86-8AB4-5ECEB74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710CC-E12E-4C15-86A9-2A0BA7B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D490-7011-4DBD-A2F8-69810BF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3820D-996A-4BCD-86C3-1367E503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77DC1-9C24-43B6-B4EB-709EEAF7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C88-D07E-49C3-AF80-A11A1ADE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97B-E09A-43F0-A08C-A005B78DA9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D12-DA6E-4623-BF3B-914249E3E7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AED-10CB-409A-9757-4EEC18ACDE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5270-BB23-4C06-9F50-800F4B1079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6062-2E58-4CD6-8F69-8F54968714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ECB-CCBE-4B86-9537-CD684B797C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9C1-383C-4772-B4BE-05F8DF94B9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Государственное бюджетное общеобразовательное учреждение детский сад №35 Калининского район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 Санкт-Петербург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116000" y="3357720"/>
            <a:ext cx="7201080" cy="2286000"/>
          </a:xfrm>
          <a:prstGeom prst="roundRect">
            <a:avLst>
              <a:gd name="adj" fmla="val 16667"/>
            </a:avLst>
          </a:prstGeom>
          <a:solidFill>
            <a:srgbClr val="e8f5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Candara"/>
              </a:rPr>
              <a:t>Краткосрочный проект во 2 мл.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Candara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Candara"/>
              </a:rPr>
              <a:t>«Развитие речи детей второй младшей группы посредством русских народных сказ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ывод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Работу над связной речью детей с использованием русских народных сказок необходимо проводить систематически, начиная с младшего дошкольного возраста. Это позволит детям расширить словарный запас, использовать в речи языковые средства выразительности, а самой речи становиться осмысленной, логически построенной, связной, эмоциональной, образной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итератур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1.С. Е. Большакова, Игры и упражнения. Творческий центр Москва, 2009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2. Т.Н. Караменко «Кукольный театр – дошкольника», 1982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3. «Знакомство детей  с русским народным творчеством», Санкт-Петербург, 2002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4. О. А.Шорохова «Играем в сказку», Москва, 2007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5. И. Г. Сухин  «Веселые скороговорки», Ярославль, 2002г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7. Использование интернет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2749680"/>
            <a:ext cx="7601040" cy="11998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4" descr=""/>
          <p:cNvPicPr/>
          <p:nvPr/>
        </p:nvPicPr>
        <p:blipFill>
          <a:blip r:embed="rId2"/>
          <a:stretch/>
        </p:blipFill>
        <p:spPr>
          <a:xfrm>
            <a:off x="811080" y="2749680"/>
            <a:ext cx="753444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ип проекта: познавательно-речев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 проекта: краткосроч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астники проекта: дети 3-4 лет, воспитатели, родите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АКТУАЛЬНОСТЬ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ПРОЕКТА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Речь имеет большое значение для целостного и всестороннего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я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ребенка в младшем дошкольном возрасте, так как она становится основным средством общения. Ребенок понимает часть слов и не все грамматические конструкции, но именно речь привлекает его внимание к предметам и действиям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Возраст от 4 до 5 лет имеет особое значение для речевого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я ребенка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Главная задача педагога в области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я речи детей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дошкольного возраста – помочь им в освоении разговорной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ечи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, овладеть родным языком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Дошкольный период жизни ребенка во многом зависит от нас, взрослых. И мы, взрослые, должны наполнить жизнь ребенка светом добра и ласки, духовно обогатить среду, в которой он растет, заложить предпосылки высоких человеческих начал,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вать их речь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А что может духовно обогатить среду? Пришли к выводу, что главная задача педагога это использование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усских народных сказок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в дошкольном учреждении для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я речи детей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дошкольного возраста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В дошкольный период у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детей интенсивно развивается воображение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, способность действовать в образном плане, умение понимать читаемый текст и осуществлять элементарный анализ, поэтому в детстве роль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сказки велика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. Исследователи сходятся во мнении, что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сказки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– совершенно необходимый этап в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и ребенка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Участники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проекта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являются дети 4-5 лет, воспитатели и родители. Через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усские народные сказки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ребёнок не только овладевает родным языком, но и, осваивая его красоту, лаконичность приобщается к культуре своего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народа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, получает первые впечатления о ней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Исходя из этого, базовой основой для 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азвития речи у детей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 группы мы выбрали методическую тему «</a:t>
            </a:r>
            <a:r>
              <a:rPr b="1" lang="ru-RU" sz="1100" spc="-1" strike="noStrike">
                <a:solidFill>
                  <a:srgbClr val="073e87"/>
                </a:solidFill>
                <a:latin typeface="Candara"/>
              </a:rPr>
              <a:t>Русская народная сказка- как средство развития речи</a:t>
            </a:r>
            <a:r>
              <a:rPr b="0" lang="ru-RU" sz="1100" spc="-1" strike="noStrike">
                <a:solidFill>
                  <a:srgbClr val="073e87"/>
                </a:solidFill>
                <a:latin typeface="Candara"/>
              </a:rPr>
              <a:t>.»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ЦЕЛЬ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ПРОЕКТ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1.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е творческих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, познавательных, коммуникативных способностей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. Определить уровень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я речевого умения 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2. Создание системы работы и проверка педагогических условий по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ю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 речевого творчества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3. Приобщение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детей к культуре своего народа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4. Расширение знаний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 об окружающей действительности,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е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 умения тонко чувствовать художественную форму, мелодию и ритм родного язык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5. Использование технологии мнемоники в образовательном процессе для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я речи 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 младшего дошкольного возраст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6. Совершенствовать способность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 согласовывать прилагательные с существительными в роде, числе, падеже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7. Способствовать формированию </a:t>
            </a: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развития у детей восприятия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, воспроизведения, умения использования средств технолог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ЗАДАЧИ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ПРОЕКТА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1. Расширить знания о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сказочных героях русских народных сказок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2. Формировать нравственные представления о добре и зле, о хороших поступках и плохих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3.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звивать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познавательные способности ребенка, любознательность, творческое воображение, память, фантазию, образное мышление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4. Содействовать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звитию речи детей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обогащению словаря и навыков связной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ечи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совершенствовать интонационную выразительность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ечи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учить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ссказывать знакомые сказки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5.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звивать артикуляционную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тонкую и общую моторику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6. Содействовать совершенствованию навыков продуктивной деятельност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7. Воспитывать у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детей отзывчивость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общительность, дружелюбие. Создавать благоприятный психологический климат во время всех мероприятий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8. Создавать в семье благоприятные условия для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звития ребенка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с учетом опыта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приобретенного в детском саду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9.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Развивать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совместное творчество родителей и </a:t>
            </a:r>
            <a:r>
              <a:rPr b="1" lang="ru-RU" sz="13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, заинтересовать родителей жизнью группы, вызвать желание участвовать в ней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Этапы реализации проекта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1 этап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составление плана работы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развитие речи детей средствами народного творчества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изучить психолого-педагогическую литературу по проблеме по проблеме исследован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2 этап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работа с детьми в развитии речи дошкольников средствами устного народного творчества, работа с родителями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разработать занятия, мероприятия, развлечения, игр – имитации по теме проекта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разработать систему педагогических воздействий по развитию речи детей средствами фольклора ( чтение стихов, потешек, сказок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3 этап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итоговое занятие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консультации по теме проект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ОЖИДАЕМЫЙ РЕЗУЛЬТАТ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Познакомить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с окружающим миром – природой </a:t>
            </a:r>
            <a:r>
              <a:rPr b="0" i="1" lang="ru-RU" sz="1000" spc="-1" strike="noStrike">
                <a:solidFill>
                  <a:srgbClr val="073e87"/>
                </a:solidFill>
                <a:latin typeface="Candara"/>
              </a:rPr>
              <a:t>(растения, животные, птицы)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 с укладом жизни и быта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русского народа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Обогатить социальный быт дошкольников, расширится их кругозор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Повысить интерес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детей к русской народной сказке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Совершенствовать диалогическую и монологическую речь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Формировать предпосылки поисковой деятельности, интеллектуальной инициативы, положительного настроя на организованную учебную деятельность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Успешное овладение грамотной и связной речью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Выразительное интонирование детьми голосов героев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сказок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Использование образных выражений при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пересказе сказок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Выразительная передача мимикой и движениями эмоциональных состояний героев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сказок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Грамотное овладение лексико-грамматическими средствами языка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Совершенствование звуковой стороны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речи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Усиление интереса к занятиям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Доброжелательное отношение к взрослым и друг к другу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Сформировать коммуникативную и социальную компетентность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детей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У родителей сформировать представления о создании благоприятного эмоционального и социально – психологического климата для полноценного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развития ребенка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 Родителей вовлечь в единое пространство </a:t>
            </a:r>
            <a:r>
              <a:rPr b="0" i="1" lang="ru-RU" sz="1000" spc="-1" strike="noStrike">
                <a:solidFill>
                  <a:srgbClr val="073e87"/>
                </a:solidFill>
                <a:latin typeface="Candara"/>
              </a:rPr>
              <a:t>«семья – детский сад»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;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-Повысится культурный уровень дошкольников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547560" indent="-411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68360" y="-19000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Повысится культурный уровень дошкольни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асус\Documents\сказки.jpeg"/>
          <p:cNvPicPr/>
          <p:nvPr/>
        </p:nvPicPr>
        <p:blipFill>
          <a:blip r:embed="rId1"/>
          <a:stretch/>
        </p:blipFill>
        <p:spPr>
          <a:xfrm>
            <a:off x="1258920" y="2637000"/>
            <a:ext cx="1676520" cy="1800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6" descr="https://i.pinimg.com/originals/aa/fd/37/aafd3701cde4a5ea403b06d0049b3b83.png"/>
          <p:cNvPicPr/>
          <p:nvPr/>
        </p:nvPicPr>
        <p:blipFill>
          <a:blip r:embed="rId2"/>
          <a:stretch/>
        </p:blipFill>
        <p:spPr>
          <a:xfrm>
            <a:off x="3851280" y="2637000"/>
            <a:ext cx="1757520" cy="165564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2" descr="https://general-family.ru/netcat_files/c/76/a9/a7ce89ee5424339c6a4dbe410a2/c76a9a7ce89ee5424339c6a4dbe410a2_main.jpg"/>
          <p:cNvPicPr/>
          <p:nvPr/>
        </p:nvPicPr>
        <p:blipFill>
          <a:blip r:embed="rId3"/>
          <a:stretch/>
        </p:blipFill>
        <p:spPr>
          <a:xfrm>
            <a:off x="6443640" y="2637000"/>
            <a:ext cx="2054160" cy="1800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https://knigamir.com/upload/iblock/1c4/1c4fa8b3926f7b1831b02ff55f257c81.jpg"/>
          <p:cNvPicPr/>
          <p:nvPr/>
        </p:nvPicPr>
        <p:blipFill>
          <a:blip r:embed="rId4"/>
          <a:stretch/>
        </p:blipFill>
        <p:spPr>
          <a:xfrm>
            <a:off x="2484360" y="4724280"/>
            <a:ext cx="1582920" cy="1871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2" descr="https://pp.userapi.com/c305301/v305301606/24a8/fnvYepndCbA.jpg"/>
          <p:cNvPicPr/>
          <p:nvPr/>
        </p:nvPicPr>
        <p:blipFill>
          <a:blip r:embed="rId5"/>
          <a:stretch/>
        </p:blipFill>
        <p:spPr>
          <a:xfrm>
            <a:off x="5580000" y="4653000"/>
            <a:ext cx="14018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асус\Documents\2.jpeg"/>
          <p:cNvPicPr/>
          <p:nvPr/>
        </p:nvPicPr>
        <p:blipFill>
          <a:blip r:embed="rId1"/>
          <a:stretch/>
        </p:blipFill>
        <p:spPr>
          <a:xfrm>
            <a:off x="539640" y="2421000"/>
            <a:ext cx="2737080" cy="3240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4" descr="https://4youngmama.ru/wp-content/uploads/f/4/a/f4abc689234a75a07dac0bb8a8a332c0.jpeg"/>
          <p:cNvPicPr/>
          <p:nvPr/>
        </p:nvPicPr>
        <p:blipFill>
          <a:blip r:embed="rId2"/>
          <a:stretch/>
        </p:blipFill>
        <p:spPr>
          <a:xfrm>
            <a:off x="4788000" y="2754360"/>
            <a:ext cx="28083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11:12:43Z</dcterms:created>
  <dc:creator>асус</dc:creator>
  <dc:description/>
  <dc:language>en-US</dc:language>
  <cp:lastModifiedBy>асус</cp:lastModifiedBy>
  <dcterms:modified xsi:type="dcterms:W3CDTF">2022-11-08T18:32:18Z</dcterms:modified>
  <cp:revision>12</cp:revision>
  <dc:subject/>
  <dc:title>Государственное бюджетное общеобразовательное учреждение детский сад №35 Калининского района Сенкт-Петербурга</dc:title>
</cp:coreProperties>
</file>