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D0B-B4B4-4E30-9F99-768301AD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35C-F428-442D-8BA4-9CF52011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535-EF60-4059-A75C-9A5FBC87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44D-BD82-4544-82DA-84CE1C97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DFCD-9580-4768-930C-04F1B73A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7D19-C283-45B5-B2EC-37D7812B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4CB-3B17-4B38-8AE6-05F28859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4FBF-BD6E-4403-8FCF-94CD5D7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95C-C8E9-4418-B3D4-D672784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1AE7-6116-4999-841E-4C366E53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90A-1890-432C-A6DA-DC8674B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A7-0DBA-4363-8A58-2D287A8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A3EF-BCE3-4456-876D-AC5A8A1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86A-F10D-47F8-A5D0-E52A6E1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F9C-8C93-4D31-89AC-64D09C8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06E-397A-4F8A-913D-E886B62A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960-70AD-419C-B281-0B44E9EF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F6F-1214-4E1C-AAF1-AB174E4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B63-FDF9-4B95-9718-83EA2441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CA7-9667-431F-9693-7A9411B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CEB-DB2C-4FDE-90BF-E7694CC5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8D5-B82A-41B9-B4A3-6A379E6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159-978C-439A-8CAA-8102074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E77-8875-4FBF-ADF1-CDE50B2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21E5-5709-44FA-BAFA-61D9C557F5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BBB1-EE40-4E81-949B-9E1CEAB941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6985080" cy="1584360"/>
          </a:xfrm>
          <a:prstGeom prst="rect">
            <a:avLst/>
          </a:prstGeom>
          <a:solidFill>
            <a:srgbClr val="008080"/>
          </a:solidFill>
          <a:ln w="57240">
            <a:solidFill>
              <a:srgbClr val="000000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РОДУКТЫ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8360" y="2781360"/>
            <a:ext cx="8207280" cy="1224000"/>
          </a:xfrm>
          <a:prstGeom prst="rect">
            <a:avLst/>
          </a:prstGeom>
          <a:solidFill>
            <a:srgbClr val="008080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Местоимения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800080"/>
                </a:solidFill>
                <a:latin typeface="Comic Sans MS"/>
              </a:rPr>
              <a:t>some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и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800080"/>
                </a:solidFill>
                <a:latin typeface="Comic Sans MS"/>
              </a:rPr>
              <a:t>any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59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9120" y="98100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s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an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don’t have </a:t>
            </a:r>
            <a:r>
              <a:rPr b="0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an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ffe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8080"/>
                </a:solidFill>
                <a:uFillTx/>
                <a:latin typeface="Comic Sans MS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сколько, какое-то количе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утвердительных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ложения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riends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меня есть несколько др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ffee. –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меня есть (какое-то количество) коф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колько-нибудь, какой-нибуд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686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оимен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600" spc="-1" strike="noStrike" u="sng">
                <a:solidFill>
                  <a:srgbClr val="00b200"/>
                </a:solidFill>
                <a:uFillTx/>
                <a:latin typeface="Comic Sans MS"/>
              </a:rPr>
              <a:t>any</a:t>
            </a: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вопросительных и 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Any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2924280"/>
            <a:ext cx="86421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ha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ooks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ебя есть (какие-нибудь) книг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ha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ffee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ас есть (сколько-нибудь) коф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местоимение 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икак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hav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any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iends. 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еня нет (никаких) друз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have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offee. –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мня нет (никакого) коф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есколько, какое-то количест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употребляется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утвердительны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яется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cc3399"/>
                </a:solidFill>
                <a:latin typeface="Comic Sans MS"/>
              </a:rPr>
              <a:t>вопроси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колько-нибудь, какой-нибуд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cc3399"/>
                </a:solidFill>
                <a:latin typeface="Comic Sans MS"/>
              </a:rPr>
              <a:t>отрицательны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едложениях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води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икак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we g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ples in the fridg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want to make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cak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. sa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haven’t got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.eg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n’t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.cheese in the frid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b) any  c) 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give me . 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.app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some     b) a      c) 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4" dur="500" autoRev="1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8" dur="500" autoRev="1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1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2" dur="500" autoRev="1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5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6" dur="500" autoRev="1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8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2:53:48Z</dcterms:created>
  <dc:creator>Оксана</dc:creator>
  <dc:description/>
  <dc:language>en-US</dc:language>
  <cp:lastModifiedBy>Дмитрий</cp:lastModifiedBy>
  <dcterms:modified xsi:type="dcterms:W3CDTF">2021-10-12T16:21:55Z</dcterms:modified>
  <cp:revision>16</cp:revision>
  <dc:subject/>
  <dc:title>ПРОДУКТЫ</dc:title>
</cp:coreProperties>
</file>