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FDEC-3640-44D7-B645-9C49D49A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0D76-4B88-4ED5-9EF0-ADCD9538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36F2-1CDC-4E3B-9F04-236DCAB1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1373-1914-4835-90F5-BB26D39A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936A-C49B-4A7C-BF9E-A4C2B660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8AD5-E4E1-4904-8D43-7A291ED1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AD4F-8381-4C22-BE04-C3AC5826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F7BE-0A58-4997-B0EB-04BDB84C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3EE9-5516-418D-BECB-90AAA749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1F33-5B27-4A33-9FD6-B12C7A51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4CC6-23C5-4FFA-B4C5-5D626081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7173-92C7-496B-9164-CDCBA457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ACA9-FD1D-4AF8-8B19-53C9DB974F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50720" y="274680"/>
            <a:ext cx="837576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омашнее задание.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Упр.122, стр.10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читай. Каким действием один предмет может быть похож на другой? Выбери в скобках глаго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авни предметы по их действиям.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Запиши получившиеся предложения. Подчеркни глаго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лыш ..., как заяц. (Ползает, ходит, скачет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згляд ..., как магнит. (Притягивает, зовёт, привлекает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раницы ..., как мыши. (Пищат, шуршат, скрипят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йди лишнее слово в каждой строке. Почему лишнее?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егает      прыгает  моет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ает   рубит    звени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214200" y="2286000"/>
            <a:ext cx="8143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кает, гаснет, сия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жит, мчится, сто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втор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500040" y="1041480"/>
            <a:ext cx="8215200" cy="57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лагол 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это часть речи, которая обозначает действие предмета и отвечает на вопросы что делать?   что сд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Глаголы бывают близкими по значени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, например: смотрит-глядит, работает- труд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Глаголы бывают противоположными по значени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, например: говорить-молчать, прятать-находи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56800" y="2571480"/>
            <a:ext cx="77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домашнего задания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ме :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ы, близкие и противоположные по значен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ю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омашнее задание 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Упр.119, стр.1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8760" y="1428480"/>
            <a:ext cx="8229600" cy="5257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Болтает с подружкам,  спокойно беседуе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Дрались  за девчонку, боролись  за Родин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Тихонько хихикали,  смеялись  от душ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Красовались на клумбе, модничали в молодост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571680" y="1875240"/>
            <a:ext cx="75722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16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Движение: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216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Трудовые процессы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216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Звучание: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216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Речевая деятель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216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упки человек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216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Чувства человека: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Georgi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76579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спомни значение глаголов, приведи приме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171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Тема урока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спользование глаголов для выражения сравне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785880" y="3143160"/>
            <a:ext cx="807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редметы  можно сравнить с другими предметами по их действиями.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Например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Голосок звенит, как колокольчи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Ветер воет, как зве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142920" y="33120"/>
            <a:ext cx="8786880" cy="659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720" rIns="514080" tIns="384120" bIns="663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пр.121 стр.1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читай названия предметов в левом столбике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. Подбер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ним для сравнения слова из правого столбика. Запиши получившиеся предложения. Подчеркни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зец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ёзы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атятся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ак горош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71680" y="3143160"/>
          <a:ext cx="7729200" cy="1706760"/>
        </p:xfrm>
        <a:graphic>
          <a:graphicData uri="http://schemas.openxmlformats.org/drawingml/2006/table">
            <a:tbl>
              <a:tblPr/>
              <a:tblGrid>
                <a:gridCol w="3085920"/>
                <a:gridCol w="4643280"/>
              </a:tblGrid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слёз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лежит, как брев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деревц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катятся, как гороши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крокоди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качается, как маят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снежи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орхают, как бабоч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онтроль.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Запиши в тетрад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одбери  глаголы для сравнения предме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ерезка   …….. , как девуш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нег  ……. ,  как   серебр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блака …., как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 лебед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14T14:29:32Z</dcterms:created>
  <dc:creator>Алексей</dc:creator>
  <dc:description/>
  <dc:language>en-US</dc:language>
  <cp:lastModifiedBy>user</cp:lastModifiedBy>
  <dcterms:modified xsi:type="dcterms:W3CDTF">2022-11-06T13:45:40Z</dcterms:modified>
  <cp:revision>35</cp:revision>
  <dc:subject/>
  <dc:title>Слайд 1</dc:title>
</cp:coreProperties>
</file>