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BB7-71C6-427D-AC3F-D4D2E64B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71C-4782-48FB-876D-66F3D87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7A7-2648-45EF-BDDD-B6B5BF87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EFC-EE0F-45D9-8629-75DE6D32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CD4D-ADD1-4F26-A400-625C53CF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0A26-B9A5-42A4-8DF9-6473412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3B8F-E461-41C7-A569-8656BC96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C840-F0FD-4BC2-8387-C28B75D9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0821-7552-4D6A-8077-2BAC1940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6952-93AC-4A7D-BF97-2B6D00C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CE8B-E2E7-468E-8A04-C89A5214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729-81A2-4A0F-AA85-263CE770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758F-29DB-4ACB-A755-7F3B6919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8FFF-2E82-44FA-9001-6E027FB4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0A6-4595-4E39-8083-DF82ADA2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AD7A-448E-4636-B199-AFBE2234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3D8E-CF50-4DF4-9FA8-55B43104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0DFD-4FAB-4DB5-A361-821AE6D2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D2D8-B2F1-4DB0-BA24-7FA3EDAF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B98A-D66A-4875-A88C-59B04E65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769E-D8CC-4378-9745-513A0DA9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AC79-983B-4172-AA52-A5DEF8C7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425-0D19-40E6-AD6B-2793C633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288C-9728-4E98-AE48-09327526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C7F2-AF25-4B36-9966-F20980DD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5E16-307A-4933-83B0-1DE5C3D1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B761-80EB-4D48-9766-BF95301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A8C6-89C1-427E-BA0C-F1DA991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D690-2A0C-42CF-8077-E1E54EB7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054F-6DA1-490B-B99B-D9F82976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6404-CF0F-4B55-BDA3-F8571997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34B4-B910-47EB-83A1-237988BF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DED7-4BAF-4A61-AE2F-C2630246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A6E-7E28-4C4E-8079-52F9696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6723D-555F-40D7-8395-8749BE86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E6E4-957E-4289-AD2A-10595349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8E94-411D-423F-BF94-8BFB7FA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B998-04EE-48E9-A1EB-5D521EE3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8C57-57D3-45BA-9A17-E73A546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D31E-EDC8-40AC-BE87-53FA5C8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F549-4136-47FE-89CC-D1E65FF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56DA-535B-402C-A6D2-7C7E0D8B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CF6D-EFD2-4B36-AFD9-259B5CD5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D47D-F496-48C5-B39D-621C0EE1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2E8-298F-4A34-B469-05C86597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C968-0569-461F-90FA-540ACA5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826F-693F-4BE7-ABD8-C4DCBBCA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D8251-3AF7-48C3-9380-5A976088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CAB0F-066D-4658-B88B-0BEAB82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5732C-9F60-4DAC-AB51-DCF86213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4816-C06C-40A7-A9F3-0C8B249D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2BBC-0BA8-44BB-B307-94042AB1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4E66-8645-4AF7-BC11-AD21671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45B5-DCB6-464C-9EEC-F9EAB02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19B0-11B3-46DD-8C1B-98B001B2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FA0-159E-4FAB-AF7D-3344829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C606-BA38-497B-B230-CEF62F19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95A3-3210-497A-AE52-72FE1F20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B207-3F17-4A71-AAB2-F31A3475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EADBD-A4F1-46FC-84BB-BA4B1A57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950D-5D67-4554-B4AD-1AE87B73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DE8AC-725A-4FBD-B3A8-46566A08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EEF1-EB4E-470D-8048-9A9D3DE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93497-C217-4D23-9209-FB1A356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DEB3-AECC-4251-A2CD-1F2BBF9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DC1D6-3C71-4C32-B4C3-4D061A51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779-EE20-42EE-9ACD-B78FA0A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8F4A-7253-4011-AAB9-3C684A7C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F44E-B6A1-469A-9C80-810AC2C5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C014C-3F8F-4819-8C82-61FE346C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0539-532C-46F6-BB3E-439E3CF2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18AD-616A-4021-95EC-F89F8DE4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E44A-3009-4581-805D-8015140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E578-7490-414C-84C8-5CEB6E24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A2D8-7099-492E-859F-395C5D77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C6C8-1F26-49E5-A855-CC68E77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7AC24-E602-4622-9F85-3BDCA04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F33-6124-4FEE-98D1-BCDE608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06CE-BA5D-4B20-840C-0BC5BDC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D720-832B-49B2-8FC6-1AF8A2E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71765-7C6E-491B-B016-7564721A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12B8-8AA5-4F7F-993A-9D10E802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1B31-56A9-4E44-AAD3-9314ACC8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7036-7651-4F41-B02D-19BD70A1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96F7D-791A-418F-AD55-C3A3BB3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67455-7A52-4D0E-BFC3-1E4006F7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1C5B-2219-4E68-B31C-F56DE00D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0407F-06D7-4EB4-B4B1-304DF43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BFA-2B4D-4F58-A92A-63D2868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A2B94-8D89-4AB1-BC8A-6141436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DCF7B-4606-45AB-9A60-B1C2123F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3B41-3A7F-4B09-9FBD-F542041E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49398-1E52-4D84-9879-095A77B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16238-4346-4DEC-9275-70BA4983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59DA1-073F-4C90-9D66-0951EA64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2393-EF0B-44D9-8898-BCD1C668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78C0-2B44-42ED-9353-FE025F8B8D5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72DF-B81E-4FFB-81EC-9878FE49ED7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85F-540F-4B02-95ED-A9CA58DE0E5D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B77B-60B1-407C-8BCB-E2621A252F1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55A-5E54-4A24-A2D4-4A404C4290C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76EE-80E2-4FC7-BF0F-1B0E18CC200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8DD7-618D-4E34-98B9-C449ED2DE14B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46C-9792-48D4-9C03-6C8366B311B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32000" y="19890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Физическое развитие школьника и пути его совершенствования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Что может сделать семья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Рисунок 3" descr="10001.jpeg"/>
          <p:cNvPicPr/>
          <p:nvPr/>
        </p:nvPicPr>
        <p:blipFill>
          <a:blip r:embed="rId1"/>
          <a:stretch/>
        </p:blipFill>
        <p:spPr>
          <a:xfrm>
            <a:off x="3635280" y="357336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ебёнок подражателе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ряд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черние прогул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ктивный отдых в выходные, каникул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мест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Анке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3" descr="1441.jpeg"/>
          <p:cNvPicPr/>
          <p:nvPr/>
        </p:nvPicPr>
        <p:blipFill>
          <a:blip r:embed="rId1"/>
          <a:stretch/>
        </p:blipFill>
        <p:spPr>
          <a:xfrm>
            <a:off x="3924360" y="378936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.Занимаешься ли ты спортом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Да –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Нет -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. Нравится ли тебе заниматься спорто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а – 1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ет -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. Ты занимаешься один или вместе с родителям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Один - 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. Делаешь ли ты зарядку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а –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ет –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е всегда – все осталь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.Какие виды спорта тебе нравятся более всего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На первом месте – велосипе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На втором – плава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.Хотел (а) бы ты достичь успехов в занятиях спорто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а - 1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.Считаешь ли ты уроки физической культуры важными и нужными уроками в школьном расписан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Да - 1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53"/>
                </a:solidFill>
                <a:latin typeface="Cambria"/>
              </a:rPr>
              <a:t>Ничто так не истощает и не разрушает человеческий организм, как физическое бездействие.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Аристотель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5" name="Содержимое 3" descr="111.jpeg"/>
          <p:cNvPicPr/>
          <p:nvPr/>
        </p:nvPicPr>
        <p:blipFill>
          <a:blip r:embed="rId1"/>
          <a:stretch/>
        </p:blipFill>
        <p:spPr>
          <a:xfrm>
            <a:off x="4859280" y="3933720"/>
            <a:ext cx="38084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8.Поддерживают ли твои спортивные увлечения родител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а - 1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9.Посещают ли родители спортивные мероприятия, в которых ты участвуешь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а – 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ет -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24000" y="259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.Какие спортивные традиции существуют в вашей семь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икаких –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Лыжи – 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елосипед –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уляем –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а коньках - 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alibri"/>
              </a:rPr>
              <a:t>Памят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мнению специалистов - медиков, 75% всех болезней человека заложено в детские годы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113.jpeg"/>
          <p:cNvPicPr/>
          <p:nvPr/>
        </p:nvPicPr>
        <p:blipFill>
          <a:blip r:embed="rId1"/>
          <a:stretch/>
        </p:blipFill>
        <p:spPr>
          <a:xfrm>
            <a:off x="4932360" y="4100400"/>
            <a:ext cx="3654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ивыч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Рисунок 3" descr="1212368.jpg"/>
          <p:cNvPicPr/>
          <p:nvPr/>
        </p:nvPicPr>
        <p:blipFill>
          <a:blip r:embed="rId1"/>
          <a:stretch/>
        </p:blipFill>
        <p:spPr>
          <a:xfrm>
            <a:off x="3564000" y="342900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езультате исследования, проведенного в 8-11 классах (всего опрошено 200 учащихся) здоровье как жизненная ценность становится лишь на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девятое мес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ки физкультур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олняют дефицит двигательной активности только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ва - три урока в школьном расписании проблему не решат, не смогут сформировать привычку к сохранению собственного здоровь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Рисунок 3" descr="11122.jpeg"/>
          <p:cNvPicPr/>
          <p:nvPr/>
        </p:nvPicPr>
        <p:blipFill>
          <a:blip r:embed="rId1"/>
          <a:stretch/>
        </p:blipFill>
        <p:spPr>
          <a:xfrm>
            <a:off x="5003640" y="4076640"/>
            <a:ext cx="3654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360" y="40428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чень часто медики и педагоги поднимают вопрос о том, что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вигательная активность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тей стала очень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низкой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порт и физическая культура перестают быть значимыми для молодого поколения. Такое положение вещей угрожает психическому и физическому здоровью школьни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Рисунок 3" descr="1113333.jpeg"/>
          <p:cNvPicPr/>
          <p:nvPr/>
        </p:nvPicPr>
        <p:blipFill>
          <a:blip r:embed="rId1"/>
          <a:stretch/>
        </p:blipFill>
        <p:spPr>
          <a:xfrm>
            <a:off x="6443640" y="4076640"/>
            <a:ext cx="24004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3333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одняшни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леден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статистического ребенка - 2-3 часа неподвижности у телеэкрана, усталость органов зрения и слуха, головные боли, плохое настроение, сонливость, апатия и т.д. а если ко всему вышесказанному добавить уличный шум, громкую музыку на улице и дома, сотовые телефоны - это приводит к опасным различным симптомам и отклонениям в здоровье уже в школьном возра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Рисунок 3" descr="1234.jpeg"/>
          <p:cNvPicPr/>
          <p:nvPr/>
        </p:nvPicPr>
        <p:blipFill>
          <a:blip r:embed="rId1"/>
          <a:stretch/>
        </p:blipFill>
        <p:spPr>
          <a:xfrm>
            <a:off x="5364000" y="5143680"/>
            <a:ext cx="32673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Прямоугольник 3" descr=""/>
          <p:cNvPicPr/>
          <p:nvPr/>
        </p:nvPicPr>
        <p:blipFill>
          <a:blip r:embed="rId1"/>
          <a:stretch/>
        </p:blipFill>
        <p:spPr>
          <a:xfrm>
            <a:off x="1390680" y="1504800"/>
            <a:ext cx="678348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7T17:08:23Z</dcterms:created>
  <dc:creator>User</dc:creator>
  <dc:description/>
  <dc:language>en-US</dc:language>
  <cp:lastModifiedBy>User</cp:lastModifiedBy>
  <dcterms:modified xsi:type="dcterms:W3CDTF">2007-07-19T20:21:17Z</dcterms:modified>
  <cp:revision>6</cp:revision>
  <dc:subject/>
  <dc:title>Физическое развитие школьника и пути его совершенствования</dc:title>
</cp:coreProperties>
</file>