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396-32D0-4F9C-936F-3A96B575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DDC-806C-4855-BFA3-1F10A45F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4B4-8388-466C-B94E-EEBE960C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22E-A3A4-4C1D-AD1B-B7704636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92A0-482E-4925-8D3B-2FCED147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316D-2838-4317-9669-E4BACCB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D812-0743-4190-8741-BF13014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C6D0-BFAD-40DF-892A-FE214A66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9A8B-EECE-4DDA-BA47-A8837378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A614-7148-4C46-9604-1B22B161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04D3-F64D-4EF4-8068-B82CECF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61E-C7C8-44A0-BAE4-07F1F094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EB67-EA8D-4D13-B448-EF2F04C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F435-ADC9-4E83-9CB8-3B08B73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4E17-8594-4B27-833F-87E681E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649-808C-4FA0-87E1-2BA6ED38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3502-C480-4E56-95C0-5C2F7320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12F7-9EDA-44B0-9684-9D546920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BC2D-1143-4ED3-955D-A7DD3278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C630-C095-4A05-A4F8-4ACBB04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6A96-5B74-48EE-870F-C34FBBA0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548C-E7C1-49B7-BD41-163EEF1E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0F4-DB65-4FF8-A2E6-DBEAD9DB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53EB-8C6C-4E1A-ABB3-52E39F53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3DDE-ADA1-4AE5-8C3E-52B8400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A03B-95FB-48EE-B7DC-E193087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5DB6-FE8D-4FC0-93EF-635CB360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AA4C-7999-45F9-811D-81B47CD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ECE3-5B27-45F6-BD68-FE86FD19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96C7-D1DE-4963-ACDB-096F66CB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2128-2994-409E-B03A-F7F5C00E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B495-27F2-4BC1-B8EF-40F04E5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7B48-E456-4901-AED7-633DA654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A05-2C16-494A-BB52-E9F8A7D5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52B3-B8B2-4C2F-8811-592271CF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DBD6-D70D-4058-A2CD-27602953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8F6F-F0F8-4646-95C8-6762231D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9B3D-1C00-4C10-90A0-2027832C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1FE4-3A6B-4DA7-98DC-2534D41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6062-C17F-47FB-AF72-86E67BFB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1B9C-1ADE-4C06-AD02-0B33C152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DDCA-1936-450E-9929-1663DACF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126B-0720-4C9F-8329-C572BC4D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586-8B61-4330-AD76-F6124D87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0FC-45B3-49E4-AD30-7983FBC0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D1F-DD83-4126-AE74-1BE14040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B28-E08E-4A2D-BF37-D9D36D9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177-32E2-4FAE-9BA1-F40A6914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7C8-5834-499F-AC1E-40C0D1F8F84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374C-8265-41DE-8760-45E52905BA3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0B6E-05D7-474F-9AE5-9A33BDCF13B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9D3F-255D-4AB2-8988-2947C149E76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963720" y="895320"/>
            <a:ext cx="7742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309160" cy="15303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2"/>
          <p:cNvSpPr/>
          <p:nvPr/>
        </p:nvSpPr>
        <p:spPr>
          <a:xfrm>
            <a:off x="714240" y="18572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642960" y="1500120"/>
            <a:ext cx="828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ши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голы из скобок ставь в повелительной форме мн.ч.(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что сделайте?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линарный рецеп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огреть) масло на ск..вороде. (Выр..зать) в середине кусочка хлеба   кружоч…к, (поджарить) с одной стороны в масле. (Перевернуть) хлеб, (разбить) туда яйцо так, чтобы ж..лток остался целым. (Пр..править) солью и перц..м и (накрыть) крышкой. Через пять минут блюдо гот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14200" y="571500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ец: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зогрейт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сло на сковороде. Вырежьте в середине кусочка хлеба сердечко, поджарьте с одной сторон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15920" y="212760"/>
            <a:ext cx="8693280" cy="15368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2"/>
          <p:cNvSpPr/>
          <p:nvPr/>
        </p:nvSpPr>
        <p:spPr>
          <a:xfrm>
            <a:off x="1428840" y="1357200"/>
            <a:ext cx="621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одолжить любое предл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выполнял зад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перь я мог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пробу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2"/>
          <p:cNvSpPr/>
          <p:nvPr/>
        </p:nvSpPr>
        <p:spPr>
          <a:xfrm>
            <a:off x="571680" y="2143080"/>
            <a:ext cx="7929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и правописание слов с данными орфограммами.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одчерк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голы в повелительной 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бята, пожалуйста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аккуратными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трогай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еня грязными руками. Когда читаете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став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меня локти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кла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книгу карандаш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ьзуйтес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ла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аша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куратность поможет мне остаться чистой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г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ам быть счастлив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Заголовок 3" descr=""/>
          <p:cNvPicPr/>
          <p:nvPr/>
        </p:nvPicPr>
        <p:blipFill>
          <a:blip r:embed="rId1"/>
          <a:stretch/>
        </p:blipFill>
        <p:spPr>
          <a:xfrm>
            <a:off x="500040" y="426960"/>
            <a:ext cx="8309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577360" cy="12128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2"/>
          <p:cNvSpPr/>
          <p:nvPr/>
        </p:nvSpPr>
        <p:spPr>
          <a:xfrm>
            <a:off x="285840" y="785880"/>
            <a:ext cx="864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это часть речи, которая обозначает действие предмета и отвечает на вопросы что делать?  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отрицания с глаголами используют частиц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 с глаголами пишется от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велительная форма  глагола отвечает на вопрос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что делай? что сделай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ед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уходи, спрячь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делайте? что сделайте? –мн.ч.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ячьте, найдит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единственном числе глаголы в повелительной форме имеют на кон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, й, 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 множественном числе к ним присоедин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гкий знак пере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заглян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—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гля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571680" y="571680"/>
            <a:ext cx="8001000" cy="539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овтор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 глаголах в повелительной форме перед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-те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и перед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-ся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 мягкий зна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прячьте ,спряч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79200" y="-158760"/>
            <a:ext cx="8656920" cy="25779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1000080" y="1928880"/>
            <a:ext cx="75009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сь собирать лекарственные травы. Делай сбор утром и вечером. В жаркую пору оставь работу. Сырьё долго не храни. Оно портится. Брось все дела и займись сортировкой. Не забудь упаковать сухие растения. Готовую упаковку подпиши и спрячь в тёмно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158760" y="1079640"/>
            <a:ext cx="86742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8656920" cy="25844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714240" y="2179800"/>
            <a:ext cx="74296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дай, пожалуйста, со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дайте мою шля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авайте напишем письм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медленно выйди из воды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сскажи о себ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571680" y="4714920"/>
            <a:ext cx="8072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щите щенка!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2"/>
          <p:cNvSpPr/>
          <p:nvPr/>
        </p:nvSpPr>
        <p:spPr>
          <a:xfrm>
            <a:off x="785880" y="1000080"/>
            <a:ext cx="7786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 стихотворные строки. Подбери по смыслу пропущенные глаголы в повелите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укушечка, мой свет, ... мне двести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Ёж, ты колкий! ..., дружок,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ы ..., мой соловей, хоть за тридевять зе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 ..., девчонка, пройдут дожди. Солдат вернётся, ты только 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иши предложения. Подчеркни глаголы в повелите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214200" y="7142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Провер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укушечка, мой свет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куку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мне двести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Ёж, ты колкий!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ряч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дружок, иго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ы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е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мой соловей, хоть за тридевять зем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лач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девчонка, пройдут дожди. Солдат вернётся, ты только жд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4T14:29:32Z</dcterms:created>
  <dc:creator>Алексей</dc:creator>
  <dc:description/>
  <dc:language>en-US</dc:language>
  <cp:lastModifiedBy>user</cp:lastModifiedBy>
  <dcterms:modified xsi:type="dcterms:W3CDTF">2022-11-08T08:27:04Z</dcterms:modified>
  <cp:revision>71</cp:revision>
  <dc:subject/>
  <dc:title>Слайд 1</dc:title>
</cp:coreProperties>
</file>