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526D-24C1-4943-A838-6F868E9447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BA74-7D70-43C6-B131-DEADC69E09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761-67E0-4C2C-85F3-0EFF2B4A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BBB-AD9A-4617-9B42-262024E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98930-D443-4F65-89EA-4B46D969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4C82F-AFF6-4840-BA26-D0702C29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CC4FC-AD2B-45DA-9A88-98DB3D90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E4DF4-8BFE-4D51-8F49-C73FF65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B0A2F-BB55-464B-AE33-6F50090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3CD58-CE43-4EBD-A572-55C68738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166CF-928F-4F49-A297-D55F8F0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AFAED-6A48-4629-91AB-DEE7D937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60FB8-F797-4BEB-8383-CD652BC0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61501-AA56-4D51-9EC9-98B5A7D8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458-5E67-49FF-9A05-6F87A29F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692C6-937B-4A44-BA3B-1E586D6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86687-824C-4429-8606-35E37D7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991D3-5AEA-4953-907F-36EF85C1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3B260-E2D3-4BB6-B04F-B205B4DC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AD238-3FA7-49F2-83C0-C6881E4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0DDFE-D305-46CD-A699-E6AF188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CB584-437D-4E20-A30B-CBB3FFE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4895F-4F69-48F7-B5C8-990AE8C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CD13A-CA10-4780-BD69-F6F69B5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B1074-174B-4BC0-888A-1B191420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4EC-639F-4E43-8410-32695EC3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B595F-ABFD-4052-8D48-A026FD2A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9040-98DC-49DC-B641-5E274D9A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D2A5D-7300-448A-9D2A-6F3ECBED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9308D-2C66-4639-93B3-2A513FC3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7E006-BAE4-435B-96B0-589D982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6179-4BF6-425D-B90A-4F8B1A0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C7E22-6452-45FA-9328-42D62023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B442-94D8-496D-92EB-338DB0D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D1BD7-DDBA-41C6-8F12-F7557E0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6B46A-11FB-4192-BB45-EB0060B8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B23B-DB16-4164-8C16-C4102F42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2795-1048-47CF-A2B5-621628B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13E3-3CF5-4AE9-9B48-0BA59ED6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07006-A8E4-4515-B8AC-0922A73F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A13BC-CCEB-4E3B-A8A3-BA1C947C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52561-CB84-42B0-8FC8-B8805CD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0BCF8-4B76-4670-9383-4DDDDCA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86ABE-8024-41CD-AE32-3B110D4D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BE2CB-BAFC-4876-B50F-DB7F1142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5002A-29D2-439C-AD5D-74ADEB3A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D902B-FDFC-4033-9AFC-D1BFC3F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5EC7-24B5-474B-A84E-22D8C34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C51CE-2AA6-43DE-AAC3-9829010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16EBF-DA4C-44A4-9927-F7049A5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BDD55-7F7D-491E-8277-4EC4310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27B59-41F5-4A11-9844-382BC404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40A05-61FD-4334-9D0E-A3215D70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3AB78-8CF0-493F-AA2C-13646248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DE0A4-A38E-4938-BAB1-4FD5156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7BBBD-4C96-4252-A2AA-27ECC4E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959F2-F71F-42FD-9459-405E8C7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9BBDA-527D-478E-8676-B77CA73B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6AD-8339-4717-B3F0-C8030D7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F221F-3B69-4D82-92BE-3DE160A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A73F7-EA1B-4E3E-A00A-6A8C469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1E1DC-4008-4EED-BAB9-D6B8124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47ECF-074D-4905-BC4E-37050BE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F0A3D-4FE1-4B29-9465-FAA3EFBB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0AA64-643C-4E5A-A2E9-5D5B6C17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3234C-766A-4D7A-9265-FF76E6C5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769C2-948B-4463-818E-AE86EE5D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5549A-E36E-44ED-A125-BA70AA8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60523-FC9B-44BE-A459-2A507422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A7DB-80C8-4573-A5E1-9C7F462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56FD3-A2A9-4DBE-878D-4C13755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035E9-62CE-474E-BFCA-D8A0B6C2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400F2-A8E7-4F26-9FFB-CD3E38CA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E5192-D530-486F-B5DA-FEF77ED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9B11D-842B-4348-8CD6-2D46A98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8348B-913D-4AF5-B9B9-9AF4828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665BB-9D37-41E3-85DD-38916ACC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37F33-62F2-4C7F-9F00-B8C5A733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F10F8-F955-4261-ADB0-BA31B704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2DC82-AAD6-44D0-8A52-DBD03630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A2AF-418C-4E41-A5A2-0BBEEBB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4AE5E-B595-49B6-8E60-A53AE50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0579A-10A3-4127-BB59-41E1CE52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9B021-ECE5-4D0B-9341-165A498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94992-F2FA-4E63-929B-ADFA5D67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A7580-DDE9-4A30-A06D-CB864A6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EE145-A057-4F16-8A63-172A503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D852B-D563-4724-9030-C6544CA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A0C2F-4AB6-484F-94B0-9E37B9FA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C48E0-1AF8-479D-96AA-11D79F7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7B134-F468-4F50-AA92-B056D52C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D1B-181C-4BC2-92CC-9CBFF95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95083-8F75-4DB8-B63F-8E6EA5BD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F1CAD-FAD2-43D7-BFFC-9DCF1AA8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0078B-F1F7-452A-84C8-555D29D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B2F68-0FAF-4BCC-B896-AC7D3189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054C9-94AC-4A0D-A0B6-3DD88626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F4A64-61C5-4D03-AB8F-62107CB7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41177-A9DB-4DDC-82EA-38B5C2B0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AB8C6-CFC0-4418-814A-AD8FC30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6873C-6E67-4967-BED4-87180AAC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E8F65-A10D-4D3A-A8FE-B813C719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8EB8-5241-4A8B-B7AA-9430C13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6B242-B7C1-4C50-B566-D8370D76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C6B29-4E1D-4A4B-BA0E-81DE181B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22723-6FD1-4B44-8D73-8814CCA1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0EF7B-1901-44ED-BF82-4EB5E48E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A899F-34C2-4193-A0A3-3E3D054F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3B8FD-52C6-4903-B313-798B4583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C2604-01A4-469D-A70D-4F810A5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1CECA1-C131-4311-A244-D50C536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6FD02-A057-436D-B58C-04446A3F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85E8B-EFF6-4C9F-8439-35BD923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888-F7F6-4484-8128-50DDDFEB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D20-C51C-43DD-9892-C9D983E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830D3-8ABD-46D2-9A21-A52EA89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F36F2-79F4-4E18-903B-23F57DB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442D0-B4AE-49E6-B393-4AE3C52F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9FAE4-0510-4769-B4E3-423F9442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2E4E9-DB4F-4921-8E34-0EB9599D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A408-FADE-465C-B141-85AFDE4F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AC1A-1137-45B8-9BBA-A735F3CC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8FA-D50C-4516-9B5A-8C75E8D3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1BED-4900-4217-888E-637DF19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A091-176C-4D5F-8DB6-9D7865F3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81F6-74B5-4E8E-ADD2-5B6DE990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7629-7166-473D-AB22-433C65C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579F-8D2A-4073-88AB-7F42DEB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C007-6AE6-440E-8627-D4D0A1ED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299-DFB8-4FD4-A3AC-03E15158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3CF3-02B7-4E2E-B911-4D49AD5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85A6-8D62-41C5-A025-AE7BEEF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6274-1378-443E-B552-E5B0BEA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9A79-10E1-414F-8DEF-274461B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58DE-8BAD-49EC-A500-CC0D02F0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97CD-ECF7-493B-B883-AB2866E1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D49B-75EF-4A6B-9DFC-1E7260B1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6D0E-04D6-4050-A6E3-CA6B4BA4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00F5-BD67-45C7-92CA-0B93DA8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074D-F779-4D3D-94EA-7C59E2E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B2C-4956-4421-A243-15F158EA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0A5E-E0F2-4B00-B9CD-67371C6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D12C-0C56-4EFB-A203-6D9C7B10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67B5-D1AB-4533-8882-34B79518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D026-EA14-4F4B-B82D-61695E7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A4FC-3E7F-4921-B6D8-E05BEDE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1903-7876-40F1-9334-120E1A5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CB04-4364-4ACB-85EC-5069F48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6FDB-3352-4DC4-AC4F-0E77DC9B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21EB-CA26-46EE-883F-2A1F7402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31DD-19A2-4666-803E-469A7375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2D8-0D70-4AC1-9104-2770CF8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9EFE-5F6C-445E-9B47-18EC2F7C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0E2E-AA87-4725-A64F-5ACDD631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2B4C-8A3D-45CE-98E0-66894128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7ACD5-621B-453C-A23D-998653A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ED66D-AD48-49D3-81C6-45086738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8886-F638-4A9B-937A-08FE806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66183-7509-49DE-8960-97BD7839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831A-713D-487E-8F41-08C9542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56C0E-4EF3-4A66-9475-6C59FD3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654B-A4AA-4899-8965-84CD3A9E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BC2-9904-4F6B-A729-97E3C1C2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4C13-CEB4-4316-87F4-5E8404A1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D2A63-4BE7-4770-B6CE-C73122B3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51C7-0762-4A83-862D-1E05783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16E9-2CF4-4FC5-B479-0D08A82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0A7A-687A-47C7-8CE3-A7C8472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7F8C-DD23-46AB-B7E4-5B0375C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008C-7551-444C-BE55-1F9256A9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F621-266E-4CB2-9CAE-715EA47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8E21-0181-4E86-B9AA-5F61DC2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55ECB-19A1-49FD-B929-A76E571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088-38B1-481C-BA3C-ED17E32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0194-2CA5-4BF9-9D6B-ADA4908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C4CF9-1D86-4FB1-A48A-49BE0CE8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1033-E1AD-42C1-B3BA-8483483F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EA1D6-7796-4827-A9FC-CD846755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1599-AA51-4522-BE1A-7474059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092BA-800E-41FA-B3C8-57E76CF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2318-2647-432B-9968-5DD957D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410B-1384-4CC8-8538-42812C4B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3451-1368-4315-B8FE-B511426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03E17-7E2D-405C-B277-17D297BA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967-E729-4CEC-A54F-3C0316A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2A04-9580-4D14-83CB-3A57B3C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5CDCA-690D-4617-A2F2-0C13FDC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CCB00-A66B-4819-9869-D3D95CA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BED4-37A7-43D7-AAE3-5D9BED0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D8F8-9C0C-4362-97CA-25CCF6D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F275-9676-4897-B6B6-C74ACD68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EEA76-A5B4-46B6-9C2D-7D1E2DD5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62BF-A420-4538-9F73-BBB6AFED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4C467-C46F-44AB-9109-6608D6C5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9AE5-65B9-4DA6-ABAA-D1A0CFF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0A8-82B5-4641-A567-35ED5C4D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160360" y="693360"/>
            <a:ext cx="732132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4B765-85A3-4C4E-93FF-4D36CE3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F118-8802-4BD2-8938-158F02E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5C06-2FE4-4698-8369-DC29255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4F76-B523-4D15-842B-A1FC3306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158920" y="4626000"/>
            <a:ext cx="73231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AF1B7-CD22-489C-B005-51C1F028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911200" y="237024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15892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911200" y="4626000"/>
            <a:ext cx="3573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C8E72-5400-400B-B7E5-22F90C3A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500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7110720" y="237024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1589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63500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7110720" y="4626000"/>
            <a:ext cx="23576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395B-731F-46D4-9EEE-0580724D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5CC4-91C6-49BC-A300-9683D254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976AA-F566-4955-ADCE-E75B090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6C8E9-8B68-4BBF-B8BF-ED6525BE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1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14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82D8-D211-4BE8-8A41-45C350B9C91F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621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634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545616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68080" y="553680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347-9CDB-4109-9685-0EA5A3657245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690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703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51792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68080" y="360468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8DDD-246F-4104-95BC-BEFEBE34F7D4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759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772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51792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2009880" y="720720"/>
            <a:ext cx="50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35"/>
          <p:cNvSpPr/>
          <p:nvPr/>
        </p:nvSpPr>
        <p:spPr>
          <a:xfrm>
            <a:off x="9077400" y="3227400"/>
            <a:ext cx="50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68080" y="360468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BB6D-0147-4910-94F4-4636E4297957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830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843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545616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68080" y="553680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4121-0605-412A-81E6-F495202AB953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899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912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545616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2009880" y="720720"/>
            <a:ext cx="50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35"/>
          <p:cNvSpPr/>
          <p:nvPr/>
        </p:nvSpPr>
        <p:spPr>
          <a:xfrm>
            <a:off x="9077400" y="3227400"/>
            <a:ext cx="50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68080" y="553680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42DC-90A2-40E3-96EF-D36CCFC4DA17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970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983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545616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68080" y="553680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F9AE-6221-4441-831D-36D21C9AD13B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1039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1052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F6F-0D62-4B86-A25A-69AD04FB3C60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1108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1121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6373-C68B-41E4-9128-544593FA7F58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69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82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4920" y="4800600"/>
            <a:ext cx="1550880" cy="87012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69800" y="5032080"/>
            <a:ext cx="650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801-9A1F-4541-B95B-46EB2C0E245A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138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151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9C4-DFAF-4045-A1C7-761FB3CF2733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207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220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517920"/>
            <a:ext cx="1509840" cy="5652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68080" y="3604680"/>
            <a:ext cx="64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7D6-B72D-4EFD-8CA4-9303DCEF6F43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276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289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8576-E88F-4AA3-83E3-2D71BDE774A8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345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358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A3FE-945E-4586-AC9C-6CBE24D31326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414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427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1EB-E1BF-48C3-AD79-3481BF0C1100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483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496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05B8-0D5B-4293-B663-C7B9A2BCE22F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54160"/>
            <a:ext cx="2201760" cy="7375320"/>
            <a:chOff x="0" y="254160"/>
            <a:chExt cx="2201760" cy="7375320"/>
          </a:xfrm>
        </p:grpSpPr>
        <p:sp>
          <p:nvSpPr>
            <p:cNvPr id="552" name="Freeform 11"/>
            <p:cNvSpPr/>
            <p:nvPr/>
          </p:nvSpPr>
          <p:spPr>
            <a:xfrm>
              <a:off x="0" y="2860920"/>
              <a:ext cx="77400" cy="69552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9000" y="3507120"/>
              <a:ext cx="499320" cy="25797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23160" y="6051960"/>
              <a:ext cx="470520" cy="157752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40880" y="7225920"/>
              <a:ext cx="132120" cy="40356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7400" y="3556800"/>
              <a:ext cx="634680" cy="369792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920" y="254160"/>
              <a:ext cx="81720" cy="32529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60120" y="3270960"/>
              <a:ext cx="60120" cy="548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94360" y="6086880"/>
              <a:ext cx="146520" cy="11386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98680" y="1554480"/>
              <a:ext cx="1603080" cy="449712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712440" y="7254720"/>
              <a:ext cx="124920" cy="3747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94360" y="5954400"/>
              <a:ext cx="28440" cy="246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56280" y="6937920"/>
              <a:ext cx="183960" cy="69156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2320" y="0"/>
            <a:ext cx="2170080" cy="7615080"/>
            <a:chOff x="22320" y="0"/>
            <a:chExt cx="2170080" cy="7615080"/>
          </a:xfrm>
        </p:grpSpPr>
        <p:sp>
          <p:nvSpPr>
            <p:cNvPr id="565" name="Freeform 27"/>
            <p:cNvSpPr/>
            <p:nvPr/>
          </p:nvSpPr>
          <p:spPr>
            <a:xfrm>
              <a:off x="22320" y="0"/>
              <a:ext cx="455040" cy="48906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04000" y="4796280"/>
              <a:ext cx="389880" cy="175644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923760" y="6514560"/>
              <a:ext cx="396720" cy="11005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77360" y="4849560"/>
              <a:ext cx="507960" cy="24847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28040" y="1432080"/>
              <a:ext cx="160560" cy="33638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020960" y="7302240"/>
              <a:ext cx="123480" cy="3128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59720" y="4564080"/>
              <a:ext cx="75600" cy="5684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93880" y="3495240"/>
              <a:ext cx="1298520" cy="30189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985680" y="7334280"/>
              <a:ext cx="110880" cy="28080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93880" y="6552720"/>
              <a:ext cx="126720" cy="74916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93880" y="6414480"/>
              <a:ext cx="35280" cy="2530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923760" y="7025400"/>
              <a:ext cx="194040" cy="5896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203040" cy="762012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89480"/>
            <a:ext cx="1509840" cy="56340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60360" y="693360"/>
            <a:ext cx="73213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158920" y="2370240"/>
            <a:ext cx="73231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824040" indent="-31608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2" marL="126828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3" marL="1776240" indent="-25236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4" marL="2284560" indent="-252720">
              <a:spcBef>
                <a:spcPts val="111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2284560" indent="-252720">
              <a:spcBef>
                <a:spcPts val="111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8636040" y="6816600"/>
            <a:ext cx="851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158920" y="6818400"/>
            <a:ext cx="6351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68080" y="874440"/>
            <a:ext cx="649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5A7-0154-464D-995F-40F30F733DBE}" type="slidenum">
              <a:rPr b="0" lang="en-US" sz="22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650600" y="1809720"/>
            <a:ext cx="795492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.Г. Паустовский</a:t>
            </a:r>
            <a:br>
              <a:rPr sz="3600"/>
            </a:br>
            <a:br>
              <a:rPr sz="3600"/>
            </a:br>
            <a:r>
              <a:rPr b="1" lang="en-US" sz="4300" spc="-1" strike="noStrike">
                <a:solidFill>
                  <a:srgbClr val="006666"/>
                </a:solidFill>
                <a:latin typeface="Arial"/>
              </a:rPr>
              <a:t>«Растрепанный воробей»</a:t>
            </a: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Picture 4" descr=""/>
          <p:cNvPicPr/>
          <p:nvPr/>
        </p:nvPicPr>
        <p:blipFill>
          <a:blip r:embed="rId1"/>
          <a:stretch/>
        </p:blipFill>
        <p:spPr>
          <a:xfrm>
            <a:off x="3279600" y="2873520"/>
            <a:ext cx="3384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42520" y="425160"/>
            <a:ext cx="91458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1" lang="ru-RU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6" name="Picture 4" descr="C:\Users\Asus\Desktop\ворона.jpg"/>
          <p:cNvPicPr/>
          <p:nvPr/>
        </p:nvPicPr>
        <p:blipFill>
          <a:blip r:embed="rId1"/>
          <a:stretch/>
        </p:blipFill>
        <p:spPr>
          <a:xfrm>
            <a:off x="2703600" y="2873520"/>
            <a:ext cx="7200720" cy="45306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C:\Users\Asus\Desktop\ВОРОБ.jpg"/>
          <p:cNvPicPr/>
          <p:nvPr/>
        </p:nvPicPr>
        <p:blipFill>
          <a:blip r:embed="rId2"/>
          <a:stretch/>
        </p:blipFill>
        <p:spPr>
          <a:xfrm>
            <a:off x="399960" y="28116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6" descr="C:\Users\Asus\Desktop\смайл.gif"/>
          <p:cNvPicPr/>
          <p:nvPr/>
        </p:nvPicPr>
        <p:blipFill>
          <a:blip r:embed="rId3"/>
          <a:stretch/>
        </p:blipFill>
        <p:spPr>
          <a:xfrm>
            <a:off x="326880" y="524988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93440" y="0"/>
            <a:ext cx="9366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0" name="Picture 9" descr="https://ds03.infourok.ru/uploads/ex/098c/00054d33-b8d5ac09/640/img29.jpg"/>
          <p:cNvPicPr/>
          <p:nvPr/>
        </p:nvPicPr>
        <p:blipFill>
          <a:blip r:embed="rId1"/>
          <a:stretch/>
        </p:blipFill>
        <p:spPr>
          <a:xfrm>
            <a:off x="0" y="-36360"/>
            <a:ext cx="102078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42520" y="425160"/>
            <a:ext cx="91458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1" lang="ru-RU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2" name="Picture 4" descr="C:\Users\Asus\Desktop\ворона.jpg"/>
          <p:cNvPicPr/>
          <p:nvPr/>
        </p:nvPicPr>
        <p:blipFill>
          <a:blip r:embed="rId1"/>
          <a:stretch/>
        </p:blipFill>
        <p:spPr>
          <a:xfrm>
            <a:off x="2703600" y="2873520"/>
            <a:ext cx="7200720" cy="45306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5" descr="C:\Users\Asus\Desktop\ВОРОБ.jpg"/>
          <p:cNvPicPr/>
          <p:nvPr/>
        </p:nvPicPr>
        <p:blipFill>
          <a:blip r:embed="rId2"/>
          <a:stretch/>
        </p:blipFill>
        <p:spPr>
          <a:xfrm>
            <a:off x="399960" y="28116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6" descr="C:\Users\Asus\Desktop\смайл.gif"/>
          <p:cNvPicPr/>
          <p:nvPr/>
        </p:nvPicPr>
        <p:blipFill>
          <a:blip r:embed="rId3"/>
          <a:stretch/>
        </p:blipFill>
        <p:spPr>
          <a:xfrm>
            <a:off x="326880" y="524988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58880" y="353880"/>
            <a:ext cx="8037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Самопроверка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Прямоугольник 4"/>
          <p:cNvSpPr/>
          <p:nvPr/>
        </p:nvSpPr>
        <p:spPr>
          <a:xfrm>
            <a:off x="758880" y="1793880"/>
            <a:ext cx="8858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) +                   6) +                 11)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) –                   7) +                 12) 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) –                   8) –                 13)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) +                   9) +                 14)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) –                 10) +                 15) 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976320" y="546552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т ошибок -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-2 ошибки -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-4 ошибки -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42880" y="281160"/>
            <a:ext cx="96170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Сегодня я узнал(а)... 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Мне было трудно… 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Я понял(а), что… 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Я научился (научилась) … 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Я смог (смогла) …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Мне было интересно узнать, что …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entury Gothic"/>
              </a:rPr>
              <a:t>- Меня удивило …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9" name="Picture 4" descr="C:\Users\Asus\Desktop\ХХХХХХХХХХХХХХ.gif"/>
          <p:cNvPicPr/>
          <p:nvPr/>
        </p:nvPicPr>
        <p:blipFill>
          <a:blip r:embed="rId1"/>
          <a:stretch/>
        </p:blipFill>
        <p:spPr>
          <a:xfrm>
            <a:off x="5945040" y="4673520"/>
            <a:ext cx="266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92320" y="92988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1" name="Picture 4" descr="C:\Users\Asus\Desktop\ССССССССССССМММММММММ.gif"/>
          <p:cNvPicPr/>
          <p:nvPr/>
        </p:nvPicPr>
        <p:blipFill>
          <a:blip r:embed="rId1"/>
          <a:stretch/>
        </p:blipFill>
        <p:spPr>
          <a:xfrm>
            <a:off x="2031840" y="3017880"/>
            <a:ext cx="54961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Ученик</cp:lastModifiedBy>
  <dcterms:modified xsi:type="dcterms:W3CDTF">2022-11-08T13:56:18Z</dcterms:modified>
  <cp:revision>21</cp:revision>
  <dc:subject/>
  <dc:title>PowerPoint Presentation</dc:title>
</cp:coreProperties>
</file>