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7FA-A513-4269-A5B2-DD577B0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3B6-EF9D-48D0-BDD1-EFFDA85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631-E038-416F-9E02-E13EF12D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D2-D44F-4C15-BEB9-E6DC5950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7A55-6FE3-43FB-ADB5-F0F242E3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BBB8-A465-456E-A8D7-8365E8A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5A94-C488-4A2A-9CE5-586D8C4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A29A-C459-4369-8D01-E8DFE7A2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087B-1077-40A1-85F9-340859E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C93-F929-4CB5-A7A8-D856501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A6A-3F2F-4146-BB0D-AAF8647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FF3-FFE4-49C1-BDD7-6E420D6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00E-DA07-42EC-904E-A789F78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C9B-0996-4C3A-A3F5-909C8FC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6EFF-9EA9-416C-BF8F-7FC9734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9FDC-5C18-4302-9831-CEB7F185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7E7C-0F04-4A45-A0F6-F1F7474A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4CA15-E592-466A-BB73-CA5F23B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3CE5C-4A2E-4413-A534-578E0DC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213D4-0156-45AD-AA85-B7349C69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7DD4F-D778-449A-9F8D-BC805860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4DBA3-DA1A-495C-A51A-C4FCCFE3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8F2-95CB-4619-8041-7894939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3E8C8-54B2-4682-A250-A77BAB78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48BF6-22D0-4EFA-ABB5-D31414E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63C46-A1D5-4C31-9D4E-2BD3431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E9CA1-5942-4411-B879-963C146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3DD3F-E4A6-4569-9449-1E5CA623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1D9E6-144E-4E73-8174-C17DE227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64A77-791C-45B1-9C1B-3FD6AA74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CFE41-7F9A-4481-B5E2-56F65DE9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9C824-DC5B-48F3-9FC8-779F7BC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91643-51DB-4632-A2D8-87EE30C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F90-BC12-473C-A540-B46E0FA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7A734-4A15-48A2-BC3E-BBFC9A21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844C5-295F-4816-8A73-6E4E0E97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99FD5-ADA2-4F74-894B-C1A5B61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4B56A-FE69-4E1C-A431-218908B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A4D78-0167-4CA3-88CB-1863D15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69BB0-6FF7-45DC-B765-D8B6E5F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94ADB-54EF-4250-808A-F1E424E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F5591-28E7-40E9-BBB1-EDD72FA5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AA1A0-B0D9-4E7E-94B3-5F29374C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7EF83-4353-4B5E-9FAC-50AE8EE5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FAA-AF12-4309-A53E-966598A5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3D875-40E4-44AA-BEB2-7D65FE1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BB4C8-3A2F-455B-8DCA-5D40E66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C93D1-7D6C-43CD-910A-F9D0545D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0EDFB-DC63-4881-8902-9AC6B97F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FB2AF-7101-4EAF-A2CE-FDF8E6E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242A0-0EEB-4EC6-ABF6-3174B02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DD405-9BC9-4FCC-889E-6789240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45D7C-DF94-442A-9013-E8F83F7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DF82F-D120-4899-A090-4491FA0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C71D5-F21B-4992-814F-A7DF48EA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137-2A6B-4DDF-AC44-3266B357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25864-0C89-4B88-9AF1-6426968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0D64-C1E2-4242-85FB-F4A8D679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00DE-9C0C-43B5-89F3-306BF01A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322D-FCF0-4731-984C-62C01533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CECF-5558-4F57-96DF-D8E74C2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8560-0CA8-43A4-9ED7-3131BC8D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47B4-A29E-424D-852D-D3180BD8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7D6B-368B-4AC3-9D1C-EB55129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DCD8-C871-4A92-893D-27FB143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467E-BA4B-47B9-8AB6-CF4496BC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D0B-DEFA-40C4-910F-128C2A3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14C0-0399-4E9A-AE8D-B37FD0A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1DC9-9509-4747-855E-11379914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06A4-90DC-452A-8E10-D82778F5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80A5E-44C3-46B3-8219-0C230CFE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45BFB-3302-4004-89B3-D7BEA899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AD0A7-B610-4D1A-B858-95B99CB6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0EA9F-9BBF-402C-BDB2-C9CDB29F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7001D-0443-4918-97DA-2EEA909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35EE0-5116-4A73-9FCB-F8F5B660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E9436-A94E-48E8-A83D-4BD3D4F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BF9-CF76-4787-B2EA-D076C4A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0B3CD-5439-4CAE-9222-1E41569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024F3-C627-4DC5-9289-0B12AFB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F14FA-9DB3-4791-9A00-D0E41A7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B2101-21ED-48A8-9DB2-F1468E7A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DD587-F1B3-4450-B2CF-6EABA5C3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B85CA-1A8E-4A00-951F-927ADFE2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8336D-7758-4A94-A12E-9621696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4037-033F-4CB4-931B-CF7C1618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2AAF0-3E18-41F9-AC31-87CFA88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15E27-59CE-46B4-B672-92434FC6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BB9-9CA6-4061-88B5-B2BFA1FA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4ADA-8FBD-4138-9407-70203B76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8B69-295A-4600-B8A1-3593CD1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40BF-B8FA-422B-B912-EEF3E4C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C592-EA09-4D04-9E85-AA1F7A4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DB0E-885C-4D55-8CEE-925186D3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5A04-3D70-4EA4-BA83-3248B3BB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D69B-8B9C-4C6B-B6D4-C9309DC1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1E7-F0C6-4665-BD18-5CE40A95A9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9431-FBD3-44B8-A24B-DA3886777D7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2DF2-92CE-4D87-A71C-F4149B1567CF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540-7E27-4AF0-99CA-76400E72AF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AEDC-5E3E-4393-AD85-ECB12ECA50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312-A0A3-450D-AB46-B286EDD1E833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9EF5-8C39-4498-A4AB-6BFCC6C1DD1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5C3-E93F-4D5E-93D5-9FD38B425E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dc3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ebddc3"/>
                </a:solidFill>
                <a:latin typeface="Times New Roman"/>
              </a:rPr>
              <a:t>ДЕТСКИЙ САД «СВЕТЛЯЧОК»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«Математическое развитие дошкольников с использованием логических блоков Дьенеша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: Фоменкова Т.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. Екатериновка, 2022г.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Arial"/>
              </a:rPr>
              <a:t>Альбомы с заданиями для  детей дошкольного возраста  от 3 до 8 лет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11" descr="ÐÐ»ÑÐ±Ð¾Ð¼ ÐÐ»Ð¾ÐºÐ¸ ÐÑÐµÐ½ÐµÑÐ° ÐÐ¾Ð¸ÑÐº ÐÐ°ÑÐ¾Ð½ÑÐ²ÑÐµÐ³Ð¾ ÐÐ»Ð°Ð´Ð° 5-8 Ð»ÐµÑ"/>
          <p:cNvPicPr/>
          <p:nvPr/>
        </p:nvPicPr>
        <p:blipFill>
          <a:blip r:embed="rId1"/>
          <a:stretch/>
        </p:blipFill>
        <p:spPr>
          <a:xfrm>
            <a:off x="3736800" y="318132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ddc3"/>
                </a:solidFill>
                <a:latin typeface="Arial"/>
              </a:rPr>
              <a:t>ДЕЙСТВУЙТЕ!</a:t>
            </a:r>
            <a:br>
              <a:rPr sz="3600"/>
            </a:br>
            <a:r>
              <a:rPr b="1" lang="ru-RU" sz="3600" spc="-1" strike="noStrike">
                <a:solidFill>
                  <a:srgbClr val="ebddc3"/>
                </a:solidFill>
                <a:latin typeface="Arial"/>
              </a:rPr>
              <a:t>КАЖДЫЙ МИГ ВОЗВРАТУ И ОБМЕНУ НЕ ПОДЛЕЖИТ…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Times New Roman"/>
              </a:rPr>
              <a:t>ИСПОЛЬЗОВАНИЕ  ЛОГИЧЕСКИХ БЛОКОВ ДЬЕНЕША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Times New Roman"/>
              </a:rPr>
              <a:t>В РАБОТЕ С ДЕТЬМИ ДОШКОЛЬНОГО ВОЗРАСТА  ПОЗВОЛЯЕТ РЕШАТЬ СЛЕДУЮЩИЕ ЗАДАЧИ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я о математических понятиях (алгоритм, кодирование, декодирование информации, кодирование со знаком отрицания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вивать познавательные процессы, мыслительные операции. Способности к моделированию и конструированию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вивать представление о множестве, операции над множеством, пространственные представл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вивать творческие способности, воображение, фантазию, речевую деятель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итывать самостоятельность, инициативность, настойчивость                 в достижении цели, преодоление трудност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75f55"/>
                </a:solidFill>
                <a:latin typeface="Georgia"/>
              </a:rPr>
              <a:t>БЛОКИ  ДЬЕНЕША</a:t>
            </a: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материал представляет собой набор из 48 логических блоков, различающих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углые, квадратные, треугольные, прямоуголь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сные, желтые, си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ольшие и малень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лстые и тон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844880" y="1841400"/>
            <a:ext cx="3886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Модель описания свойств блоков, знаки символы 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4" descr="1014835579"/>
          <p:cNvPicPr/>
          <p:nvPr/>
        </p:nvPicPr>
        <p:blipFill>
          <a:blip r:embed="rId1"/>
          <a:stretch/>
        </p:blipFill>
        <p:spPr>
          <a:xfrm>
            <a:off x="1181160" y="2901960"/>
            <a:ext cx="2743200" cy="1946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свойства"/>
          <p:cNvPicPr/>
          <p:nvPr/>
        </p:nvPicPr>
        <p:blipFill>
          <a:blip r:embed="rId2"/>
          <a:stretch/>
        </p:blipFill>
        <p:spPr>
          <a:xfrm>
            <a:off x="4844880" y="2462040"/>
            <a:ext cx="388620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Знакомство с блоками Дьенеша   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1" name="Picture 2" descr="C:\Users\Admin\Desktop\IMG_20221019_092210.jpg"/>
          <p:cNvPicPr/>
          <p:nvPr/>
        </p:nvPicPr>
        <p:blipFill>
          <a:blip r:embed="rId1"/>
          <a:stretch/>
        </p:blipFill>
        <p:spPr>
          <a:xfrm>
            <a:off x="797040" y="1611360"/>
            <a:ext cx="3511440" cy="4527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Admin\Desktop\IMG_20221019_092922.jpg"/>
          <p:cNvPicPr/>
          <p:nvPr/>
        </p:nvPicPr>
        <p:blipFill>
          <a:blip r:embed="rId2"/>
          <a:stretch/>
        </p:blipFill>
        <p:spPr>
          <a:xfrm>
            <a:off x="5084640" y="1611360"/>
            <a:ext cx="34070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граем с блокам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4" name="Picture 2" descr="C:\Users\Admin\Desktop\IMG_20221019_092440.jpg"/>
          <p:cNvPicPr/>
          <p:nvPr/>
        </p:nvPicPr>
        <p:blipFill>
          <a:blip r:embed="rId1"/>
          <a:stretch/>
        </p:blipFill>
        <p:spPr>
          <a:xfrm>
            <a:off x="849240" y="1611360"/>
            <a:ext cx="3406680" cy="4527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Admin\Desktop\IMG_20221019_092350.jpg"/>
          <p:cNvPicPr/>
          <p:nvPr/>
        </p:nvPicPr>
        <p:blipFill>
          <a:blip r:embed="rId2"/>
          <a:stretch/>
        </p:blipFill>
        <p:spPr>
          <a:xfrm>
            <a:off x="5084640" y="1611360"/>
            <a:ext cx="34070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Игра «Цепочка», «Фигурки для зайца и лисички»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7" name="Picture 2" descr="C:\Users\Admin\Desktop\Анжела.jpg"/>
          <p:cNvPicPr/>
          <p:nvPr/>
        </p:nvPicPr>
        <p:blipFill>
          <a:blip r:embed="rId1"/>
          <a:stretch/>
        </p:blipFill>
        <p:spPr>
          <a:xfrm>
            <a:off x="849240" y="1611360"/>
            <a:ext cx="3406680" cy="4527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Admin\Desktop\Вика.jpg"/>
          <p:cNvPicPr/>
          <p:nvPr/>
        </p:nvPicPr>
        <p:blipFill>
          <a:blip r:embed="rId2"/>
          <a:stretch/>
        </p:blipFill>
        <p:spPr>
          <a:xfrm>
            <a:off x="5084640" y="1611360"/>
            <a:ext cx="34070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775f55"/>
                </a:solidFill>
                <a:latin typeface="Times New Roman"/>
              </a:rPr>
              <a:t>НЕ МЫСЛЯМ НАДОБНО УЧИТЬ, А МЫСЛИТЬ» И. КАНТ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0" name="Picture 8" descr="IMG_20191008_094526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IMG_20191008_09525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IMG_20191008_095708"/>
          <p:cNvPicPr/>
          <p:nvPr/>
        </p:nvPicPr>
        <p:blipFill>
          <a:blip r:embed="rId3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</a:rPr>
              <a:t>ИГРЫ ДЛЯ САМЫХ  МАЛЕНЬКИХ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12" descr="блоки"/>
          <p:cNvPicPr/>
          <p:nvPr/>
        </p:nvPicPr>
        <p:blipFill>
          <a:blip r:embed="rId1"/>
          <a:stretch/>
        </p:blipFill>
        <p:spPr>
          <a:xfrm>
            <a:off x="1504800" y="1600200"/>
            <a:ext cx="6369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Admin</cp:lastModifiedBy>
  <dcterms:modified xsi:type="dcterms:W3CDTF">2022-11-08T14:37:58Z</dcterms:modified>
  <cp:revision>15</cp:revision>
  <dc:subject/>
  <dc:title>Слайд 1</dc:title>
</cp:coreProperties>
</file>