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13.jpeg" ContentType="image/jpeg"/>
  <Override PartName="/ppt/media/image27.jpeg" ContentType="image/jpeg"/>
  <Override PartName="/ppt/media/image33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0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2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jpeg" ContentType="image/jpeg"/>
  <Override PartName="/ppt/media/image1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534-C6D3-4D77-9A3C-D6CDCE91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A13-E610-4B65-84EF-6D8E65F4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7B006-FBA5-4713-9770-8668E981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2F34C-28F9-4B3F-9538-B3B07EE0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63F05-1CEC-4AB2-A709-412368EE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6B0EE-0D52-4D4A-9131-449477DA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5F61B-EFAB-4A5A-931D-6833F9E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8B983-BCE3-4C50-A04B-815E5D6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F04AC-503A-4CC6-8CAE-E75F88B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11CA4-0A5A-49F2-86E1-F79DACE0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D3920-F6BE-4D09-9B22-0E2AC566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380-0153-4356-A999-A0E71642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84A-627C-457C-9575-B13660CB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4C06-C245-4EC8-81C5-832D7898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488A-41D5-450E-8EA6-78D39C0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7ED7-A975-4E46-AB33-4E119FBA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219F-5964-463E-9300-6899017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92CB-E481-4CD3-ABF9-E77AF40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185C-B839-43D5-AF55-104A38B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4D6D-6B85-4D51-8F72-D8B8E3E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4BA-5DE7-43C6-9C4C-78E9AD9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CED6-0858-4928-8F4E-EA39A20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8567-CCAF-4427-9A9F-6936939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A748-DFFE-48D7-AA05-E0236FFE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1FF-9103-42FF-8C11-1B5E3E0E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9DA4-C290-4900-9AA8-BA06BB3F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DE3F-E758-4BB4-94F4-738E1F3D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92C7-7132-4EF4-A822-71A31E2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78D1-1B14-4547-9216-674E226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0A73A-6567-436A-BC46-243B2DF8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BEB7-9278-416C-B2C7-42A2D39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77E-F0CA-464F-B9D7-224679DE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8B55-31D1-408F-B865-2DE7064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43FF-604F-4A33-A0F3-C25A060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7542-395E-40C0-844A-3C080F2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9AA9-7EE0-4632-8621-5C300EB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7EAF-AD4E-4939-8624-3944805B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3E8F-6659-4C23-8CD0-BA7583C2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69C8-C855-45D1-96D8-A5BC2F5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FE07-104E-47EE-A765-AB6C2BBB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66DD-D943-4881-8F7B-887FDE7D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FB57-75F0-4615-9B23-2274111E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D1F-6626-416A-B394-22AD13FB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BC40-B517-4869-AE46-1651602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E1F8-7D85-41C3-9E6F-6F99848D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66CD-CD1C-4C20-8A1B-CD0EAAD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37C3-9CC2-4A11-9007-1C214285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0C7C-3968-4915-B3F0-AA9A06B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55D8-23AF-4F9A-99CC-21CD30DE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A719-EFB6-4B6A-B521-0D813764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2C53D-37B4-4B57-8282-0BA174B5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93BB-C835-465D-8A56-79FBE5B2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324F-DB0D-4CE7-9BB4-59CF3AAD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C62-720B-4723-947F-0436BD20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A8A7-A3E0-4A51-AB5A-28D01D2F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4042-1F65-45F7-8375-ABD52F92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12B3-6A54-4000-B35B-EDABCC97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4176-041B-4DD5-B343-3DE331C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B8E7-EF86-44F7-B7CB-9CD97142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A65A-434B-4D7C-9483-BADFAAD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D9C9-B90A-458E-A374-28C282F5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BAF9-98FA-498D-9C19-1B4E66E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1F71-57B8-4B6D-85DD-2C8713EE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BDA1-0311-4AEC-870E-8C3CE347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472-EC4A-4F7D-AC25-9FDE4229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4B0C-1CA2-446D-AEA9-0CB6138E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BC234-F509-4842-B674-7DE6E279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7267-16AE-44EF-A178-C2AC78A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C63A-D2D7-4C82-9B12-19EC7A8F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05DE-2E85-4F7B-98A7-99751ACF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467F-D0DB-407F-8D1C-F406D38C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21D1-2D53-4A04-B522-CD94A76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106B3-C0FA-46A3-9B05-80467D0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F868-A080-4F3B-A8A7-3A53B7D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BDB6-9A83-4A58-B058-F620015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1B7-DA16-4EE5-8FFF-727D9356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A6A9-7BA7-4F3A-9A38-15D03D39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5EA8-6376-48A2-8E77-305E4BCD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1116-321A-47DA-A0E4-CC1090F5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932F-AA6B-4088-96D8-53503F6A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67E9B-885E-49C7-B853-745A6FFB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6A8B7-A558-4415-BFB8-D673875E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31A8A-2B2E-4674-8618-F6727CC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666D-5548-41E0-9562-55562B3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0EC7A-80BE-403F-AD7A-8E31C3D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9C190-7F82-48FF-AD78-D069E48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6C9-C74F-4D22-A2D1-23F0319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A8E7-2D49-41B8-8CE5-4C3F35D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869A-D018-4B1F-8884-D4C8A64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EFBA-1648-4CD3-BE95-CC73C2B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1DD8-90DC-4D9A-BB94-1D229732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3137F-A32C-49D2-A937-64551143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5F41-B843-4650-8E9D-D35B9E0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02E39-CEB9-4858-9FC8-7E1E838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ED07-520D-47F2-9C44-7DD7F4E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7A3C-4FEC-4F00-9DFF-5B702219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37F2-1BC0-4FA8-B858-DE7B343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DB8-2A22-4AA6-A622-1B472CF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F326F-7E49-44A7-BDCB-06B1192F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9F2F-4B9B-4DAF-96E4-864D604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81D2C-4BC9-438B-B780-555CBFA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D657C-41B2-4ADE-9423-5ABF71F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E203-776C-4D50-9F51-3550858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AB5C6-A682-4D96-9786-90D63A2F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6A110-1E39-47E5-8FE1-6AFE8862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0934F-8984-4183-B1B9-033C75D1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40F0D-E022-4C93-8D94-80147B5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975FF-B8EE-471E-8B9E-BFA285F4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6215-58C0-411A-8E13-500DF2AC79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A62C-04F9-452D-9770-0A591EA379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54ED-0CBB-472B-A0AE-EE2B631E7A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716-3594-4000-BCDF-568E1BA0F3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293-3C7E-49E9-B06F-72911C072A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85C-E582-40CC-9A19-1782D829AC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727A-6830-488A-BB45-375B0359D2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668F-B6C8-49B8-8EC9-A78895FB33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4C7A-D2B8-4F07-A065-7B3BF76137A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4" descr="с солнышко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7" descr=""/>
          <p:cNvPicPr/>
          <p:nvPr/>
        </p:nvPicPr>
        <p:blipFill>
          <a:blip r:embed="rId2"/>
          <a:stretch/>
        </p:blipFill>
        <p:spPr>
          <a:xfrm>
            <a:off x="378000" y="1779480"/>
            <a:ext cx="8467560" cy="47973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80520" y="21420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4433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-56376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560" y="2071440"/>
            <a:ext cx="4190760" cy="42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лесу на ветке она сиди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дно «ку-ку» она твердит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ода она нам всем считает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тенцов своих она теряе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у-ку» то там то тут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 птицу эту зовут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Содержимое 4" descr="кукушка.jpg"/>
          <p:cNvPicPr/>
          <p:nvPr/>
        </p:nvPicPr>
        <p:blipFill>
          <a:blip r:embed="rId1"/>
          <a:stretch/>
        </p:blipFill>
        <p:spPr>
          <a:xfrm>
            <a:off x="5000760" y="2071800"/>
            <a:ext cx="3500280" cy="3286080"/>
          </a:xfrm>
          <a:prstGeom prst="rect">
            <a:avLst/>
          </a:prstGeom>
          <a:ln w="0">
            <a:noFill/>
          </a:ln>
        </p:spPr>
      </p:pic>
      <p:pic>
        <p:nvPicPr>
          <p:cNvPr id="435" name="Golosa_ptic_Kukushka_obyknovennaya_-_Kukushka_obyknovennaya_http_vkontakte_ru_club1087481_rybalk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536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37" name="Содержимое 4" descr="яйцо кукушки.jpg"/>
          <p:cNvPicPr/>
          <p:nvPr/>
        </p:nvPicPr>
        <p:blipFill>
          <a:blip r:embed="rId2"/>
          <a:stretch/>
        </p:blipFill>
        <p:spPr>
          <a:xfrm>
            <a:off x="785880" y="428616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647960" y="3000240"/>
            <a:ext cx="399564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ает в мае. Гнезда не делает, птенцов не высиживает. Свое яйцо подкладывает в гнездо к другими птицам. Питается насекомыми, ядовитыми гусеница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Рисунок 5" descr="не делает гнездо.jpg"/>
          <p:cNvPicPr/>
          <p:nvPr/>
        </p:nvPicPr>
        <p:blipFill>
          <a:blip r:embed="rId3"/>
          <a:stretch/>
        </p:blipFill>
        <p:spPr>
          <a:xfrm>
            <a:off x="785880" y="1428840"/>
            <a:ext cx="3286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4" descr="iсоловей с птенцами.jpg"/>
          <p:cNvPicPr/>
          <p:nvPr/>
        </p:nvPicPr>
        <p:blipFill>
          <a:blip r:embed="rId2"/>
          <a:stretch/>
        </p:blipFill>
        <p:spPr>
          <a:xfrm>
            <a:off x="785880" y="1500120"/>
            <a:ext cx="3357360" cy="250056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5" descr="лсточка кормит.jpg"/>
          <p:cNvPicPr/>
          <p:nvPr/>
        </p:nvPicPr>
        <p:blipFill>
          <a:blip r:embed="rId3"/>
          <a:stretch/>
        </p:blipFill>
        <p:spPr>
          <a:xfrm>
            <a:off x="785880" y="4071960"/>
            <a:ext cx="3357360" cy="250020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6" descr="кормят кукушонка.jpg"/>
          <p:cNvPicPr/>
          <p:nvPr/>
        </p:nvPicPr>
        <p:blipFill>
          <a:blip r:embed="rId4"/>
          <a:stretch/>
        </p:blipFill>
        <p:spPr>
          <a:xfrm>
            <a:off x="5000760" y="4071960"/>
            <a:ext cx="3357360" cy="250020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8" descr="у скворечника.jpg"/>
          <p:cNvPicPr/>
          <p:nvPr/>
        </p:nvPicPr>
        <p:blipFill>
          <a:blip r:embed="rId5"/>
          <a:stretch/>
        </p:blipFill>
        <p:spPr>
          <a:xfrm>
            <a:off x="5000760" y="1500120"/>
            <a:ext cx="3357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9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Нельзя громко кричать, чтобы не спугнуть птиц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Нельзя разорять гнезд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Нельзя трогать яйц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Больше развешивать для птиц скворечников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В начале весны, когда возможен еще снегопад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роз, и для перелетных птиц сыпать корм в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рмуш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ничтожают вредных насекомых, тем самым спасают урожаи ягод, фруктов, овоще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дуют своим пением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Рисунок 5" descr="замечательные песни.jpg"/>
          <p:cNvPicPr/>
          <p:nvPr/>
        </p:nvPicPr>
        <p:blipFill>
          <a:blip r:embed="rId2"/>
          <a:stretch/>
        </p:blipFill>
        <p:spPr>
          <a:xfrm>
            <a:off x="5000760" y="1857240"/>
            <a:ext cx="3571920" cy="364356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6" descr="кормит птичка птенцов.jpg"/>
          <p:cNvPicPr/>
          <p:nvPr/>
        </p:nvPicPr>
        <p:blipFill>
          <a:blip r:embed="rId3"/>
          <a:stretch/>
        </p:blipFill>
        <p:spPr>
          <a:xfrm>
            <a:off x="714240" y="264312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3" descr=""/>
          <p:cNvPicPr/>
          <p:nvPr/>
        </p:nvPicPr>
        <p:blipFill>
          <a:blip r:embed="rId1"/>
          <a:stretch/>
        </p:blipFill>
        <p:spPr>
          <a:xfrm>
            <a:off x="195120" y="1494000"/>
            <a:ext cx="8869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560" y="2499840"/>
            <a:ext cx="41907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весне к нам с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юга мчит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рная , как ворон, птиц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Для деревьев наших врач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Угадай, кто это?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Содержимое 6" descr="желторотый.jpg"/>
          <p:cNvPicPr/>
          <p:nvPr/>
        </p:nvPicPr>
        <p:blipFill>
          <a:blip r:embed="rId2"/>
          <a:stretch/>
        </p:blipFill>
        <p:spPr>
          <a:xfrm>
            <a:off x="4572000" y="1928880"/>
            <a:ext cx="3857760" cy="3857400"/>
          </a:xfrm>
          <a:prstGeom prst="rect">
            <a:avLst/>
          </a:prstGeom>
          <a:ln w="0">
            <a:noFill/>
          </a:ln>
        </p:spPr>
      </p:pic>
      <p:pic>
        <p:nvPicPr>
          <p:cNvPr id="405" name="Golosa_ptic_-_Grach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35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4" descr="гнезда гра.jpg"/>
          <p:cNvPicPr/>
          <p:nvPr/>
        </p:nvPicPr>
        <p:blipFill>
          <a:blip r:embed="rId2"/>
          <a:stretch/>
        </p:blipFill>
        <p:spPr>
          <a:xfrm>
            <a:off x="1071720" y="1428840"/>
            <a:ext cx="4005000" cy="3222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435280" y="1699920"/>
            <a:ext cx="3281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ает в начале марта. Гнезда строят на крупных деревьях из веток. Питаются червями, пауками, насекомыми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Рисунок 5" descr="грач на гнезде.jpg"/>
          <p:cNvPicPr/>
          <p:nvPr/>
        </p:nvPicPr>
        <p:blipFill>
          <a:blip r:embed="rId3"/>
          <a:stretch/>
        </p:blipFill>
        <p:spPr>
          <a:xfrm>
            <a:off x="4716360" y="3284640"/>
            <a:ext cx="4008600" cy="30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-61200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23640" y="1844280"/>
            <a:ext cx="4190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шесте -  дворец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дворце – певец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зовут его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кворец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Содержимое 6" descr=""/>
          <p:cNvPicPr/>
          <p:nvPr/>
        </p:nvPicPr>
        <p:blipFill>
          <a:blip r:embed="rId1"/>
          <a:stretch/>
        </p:blipFill>
        <p:spPr>
          <a:xfrm>
            <a:off x="3676680" y="1916280"/>
            <a:ext cx="4753080" cy="3168360"/>
          </a:xfrm>
          <a:prstGeom prst="rect">
            <a:avLst/>
          </a:prstGeom>
          <a:ln w="0">
            <a:noFill/>
          </a:ln>
        </p:spPr>
      </p:pic>
      <p:pic>
        <p:nvPicPr>
          <p:cNvPr id="413" name="skvorec-obyknovennyy-golos-4539-onbird.ru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7439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скворец у скворечника.jpg"/>
          <p:cNvPicPr/>
          <p:nvPr/>
        </p:nvPicPr>
        <p:blipFill>
          <a:blip r:embed="rId2"/>
          <a:stretch/>
        </p:blipFill>
        <p:spPr>
          <a:xfrm>
            <a:off x="928800" y="2286000"/>
            <a:ext cx="3429000" cy="3500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3071520"/>
            <a:ext cx="385272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ают в марте. Гнезда строят в любой пустоте, чаще в скворечниках. Могут имитировать голоса других птиц. Питаются личинками, жуками, гусеница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-5533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95280" y="1699920"/>
            <a:ext cx="419112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ел к нам, наконец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учший наш певец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ни и ночи напроле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поет, поет, пое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6" descr="поет соловей.jpg"/>
          <p:cNvPicPr/>
          <p:nvPr/>
        </p:nvPicPr>
        <p:blipFill>
          <a:blip r:embed="rId1"/>
          <a:stretch/>
        </p:blipFill>
        <p:spPr>
          <a:xfrm>
            <a:off x="4714920" y="2000160"/>
            <a:ext cx="3357360" cy="3286080"/>
          </a:xfrm>
          <a:prstGeom prst="rect">
            <a:avLst/>
          </a:prstGeom>
          <a:ln w="0">
            <a:noFill/>
          </a:ln>
        </p:spPr>
      </p:pic>
      <p:pic>
        <p:nvPicPr>
          <p:cNvPr id="420" name="Golosa_ptic_-_Polevoj_zhavoronok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839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соловей в гнезде.jpg"/>
          <p:cNvPicPr/>
          <p:nvPr/>
        </p:nvPicPr>
        <p:blipFill>
          <a:blip r:embed="rId2"/>
          <a:stretch/>
        </p:blipFill>
        <p:spPr>
          <a:xfrm>
            <a:off x="642960" y="1928880"/>
            <a:ext cx="3500280" cy="3429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647960" y="2499840"/>
            <a:ext cx="406692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ает в мае. Гнездо делает на земле из тонких веточек, травинок, перышек. Питается мухами, жучками, муравьями, паучками. Поет песни от вечерней  до утренней зари.  Хорошим певцом становится на третий год жизн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-7549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560" y="2499840"/>
            <a:ext cx="41907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ела к нам с теплом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уть проделав длинны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пит домик под окн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 травы и гл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Содержимое 4" descr="ласточка.jpg"/>
          <p:cNvPicPr/>
          <p:nvPr/>
        </p:nvPicPr>
        <p:blipFill>
          <a:blip r:embed="rId1"/>
          <a:stretch/>
        </p:blipFill>
        <p:spPr>
          <a:xfrm>
            <a:off x="4786200" y="200016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427" name="lastochka-derevenskaya-golos-863-onbird.ru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7996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4" descr="гнезда ласточек береговушек.jpg"/>
          <p:cNvPicPr/>
          <p:nvPr/>
        </p:nvPicPr>
        <p:blipFill>
          <a:blip r:embed="rId2"/>
          <a:stretch/>
        </p:blipFill>
        <p:spPr>
          <a:xfrm>
            <a:off x="714240" y="1428840"/>
            <a:ext cx="3286440" cy="2571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647960" y="2643120"/>
            <a:ext cx="406692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летают в мае. Ласточки береговушки гнездятся на склоне берегов. Деревенская ласточка  делает гнездо под крышей, карнизом дома. Гнездо свое птица делает из комочков земли, которые находит в луже, скатывает шарик и несет в клюве к месту построения гнезда. Питается мошкам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Рисунок 5" descr="гнездо ласточки.jpg"/>
          <p:cNvPicPr/>
          <p:nvPr/>
        </p:nvPicPr>
        <p:blipFill>
          <a:blip r:embed="rId3"/>
          <a:stretch/>
        </p:blipFill>
        <p:spPr>
          <a:xfrm>
            <a:off x="714240" y="4071960"/>
            <a:ext cx="3286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1:14Z</dcterms:created>
  <dc:creator>вера</dc:creator>
  <dc:description/>
  <dc:language>en-US</dc:language>
  <cp:lastModifiedBy>офис</cp:lastModifiedBy>
  <dcterms:modified xsi:type="dcterms:W3CDTF">2022-11-08T08:33:22Z</dcterms:modified>
  <cp:revision>49</cp:revision>
  <dc:subject/>
  <dc:title>Слайд 1</dc:title>
</cp:coreProperties>
</file>