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885-22ED-4E8B-877B-1C0AE0FD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291-809A-4498-A119-A7A727BA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D82-E82C-44A1-A87A-19A3A973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C77-3F9C-4516-BBC3-DC162EC5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44A-B171-4C5C-BDBA-8EF3232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991-5B55-4643-B78A-D9264347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7A1-2CB1-4F39-B5E7-C4A849FD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D32-9586-4254-ADAB-1DB9F253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E6C-BC71-40D7-9C85-A6C04AFE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1B1-8A3A-44DC-B753-D02EC69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2CE-23AD-478D-A62D-EC606DB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396-0006-4C84-B4B2-F9919E1D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1F4-5CD1-4D77-AEA0-0AE768CB5A7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авописание глаголов 2-го лица единственного чи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42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змени глаголы, поставь и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о ед, 2 –ое лицо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57120" y="2286000"/>
            <a:ext cx="821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рисовать …. ….. 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озвонить … …..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ержать …. ….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бодрить ….. ….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исовать ….. ….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ить … ….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читай словосочетания с глаголами в неопределён­ной форме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71680" y="1859040"/>
            <a:ext cx="8286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пешить домой, стоять смирно, спеть песню, дождаться звонка, ничего не бояться, вернуться вовремя, немного подождать, повернуть налево, ждать под окном, неожиданно заговорить, договориться о встре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ши словосочетания, употребляя глаголы во 2-м лице, единственном числе. Подчеркни -шь, -ш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7120" y="760680"/>
            <a:ext cx="835812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св</a:t>
            </a:r>
            <a:r>
              <a:rPr b="0" lang="ru-RU" sz="5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ль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видетельство —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тверждение какого-либо факта или события; документ, подтверждающий факт, событ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98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Укажи в слове орфограммы, которые следует запомнит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6984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ставь словосочетания и предложения с данны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  <a:ea typeface="Times New Roman"/>
              </a:rPr>
              <a:t>слов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372080" cy="113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справь ошибки.</a:t>
            </a:r>
            <a:br>
              <a:rPr sz="29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214200" y="213660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унывный ветер гонишь стаю туч на край небес , ель надломленная стонешь, глухо шепчешь темный лес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f2.ppt-online.org/files2/slide/u/uN4I0dXpfGTUYLwCg8imS2EbDZhtFRyoMrjWBncvqs/slide-18.jpg"/>
          <p:cNvPicPr/>
          <p:nvPr/>
        </p:nvPicPr>
        <p:blipFill>
          <a:blip r:embed="rId1"/>
          <a:stretch/>
        </p:blipFill>
        <p:spPr>
          <a:xfrm>
            <a:off x="500040" y="142920"/>
            <a:ext cx="7812000" cy="651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cf2.ppt-online.org/files2/slide/u/uN4I0dXpfGTUYLwCg8imS2EbDZhtFRyoMrjWBncvqs/slide-18.jpg"/>
          <p:cNvPicPr/>
          <p:nvPr/>
        </p:nvPicPr>
        <p:blipFill>
          <a:blip r:embed="rId2"/>
          <a:stretch/>
        </p:blipFill>
        <p:spPr>
          <a:xfrm>
            <a:off x="500040" y="0"/>
            <a:ext cx="78120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br>
              <a:rPr sz="3200"/>
            </a:br>
            <a:br>
              <a:rPr sz="32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000080" y="2214720"/>
            <a:ext cx="6858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голов неопределённой формы образуйте форму 2 лица единственного числа настоящего или будущ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дти, пойти, помочь, беречь, добежать, рисовать, писать, учить, соч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ец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юбить – люб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428840" y="1357200"/>
            <a:ext cx="621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одолжить любое предл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выполнял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перь я мог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пробу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714240" y="1857240"/>
            <a:ext cx="764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СТР.119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Упр. 1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71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втор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85840" y="78588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это часть речи, которая обозначает действие предмета и отвечает на вопросы что делать?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бывают близкими по 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 смотрит-глядит, работает- тру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бывают противоположными по 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 говорить-молчать, прятать-на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используют для   с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ер воет, как зв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отрицания с глаголами используют частиц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 с глаголами пишется от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определённая форма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Что делать? 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390600"/>
            <a:ext cx="80406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йди лишнее слово в каждой строке. Почему лишнее?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т      бежит    летаю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е       звените        бегу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жут         кричат       говор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85840" y="2143080"/>
            <a:ext cx="78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 лицо глаголов и чи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https://cf2.ppt-online.org/files2/slide/u/uN4I0dXpfGTUYLwCg8imS2EbDZhtFRyoMrjWBncvqs/slide-18.jpg"/>
          <p:cNvPicPr/>
          <p:nvPr/>
        </p:nvPicPr>
        <p:blipFill>
          <a:blip r:embed="rId1"/>
          <a:srcRect l="61828" t="42616" r="0" b="36326"/>
          <a:stretch/>
        </p:blipFill>
        <p:spPr>
          <a:xfrm>
            <a:off x="1143000" y="1714680"/>
            <a:ext cx="7000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857160" y="1244160"/>
            <a:ext cx="785808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2-е лицо, единственн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(ты) что делаеш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(ты) что сделаеш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шь, -ш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урока</a:t>
            </a:r>
            <a:br>
              <a:rPr sz="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авописание глаголов 2-го лица единственного чис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Помни!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85840" y="1285920"/>
            <a:ext cx="84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окончаниях глаголов 2-го лица единственного чис­ла посл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ишется мягкий знак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ь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укв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ь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 перед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Ты ждёшь не дождёшь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читай запись  и объясни её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857160" y="20001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4 &quot;К&quot; -наш Классный дом!В Классе дружно Мы живём!"/>
          <p:cNvPicPr/>
          <p:nvPr/>
        </p:nvPicPr>
        <p:blipFill>
          <a:blip r:embed="rId1"/>
          <a:stretch/>
        </p:blipFill>
        <p:spPr>
          <a:xfrm>
            <a:off x="928800" y="142884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4T14:29:32Z</dcterms:created>
  <dc:creator>Алексей</dc:creator>
  <dc:description/>
  <dc:language>en-US</dc:language>
  <cp:lastModifiedBy>user</cp:lastModifiedBy>
  <dcterms:modified xsi:type="dcterms:W3CDTF">2022-11-08T08:30:39Z</dcterms:modified>
  <cp:revision>65</cp:revision>
  <dc:subject/>
  <dc:title>Слайд 1</dc:title>
</cp:coreProperties>
</file>