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4F9-6AB0-4164-BF06-781065FB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959-3108-4E26-AA5A-5AE51282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5EA5-C0FF-423D-B345-AACA60AF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37DB-A380-4907-A14C-819F3C44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8EB4-8AFE-4637-ABD2-BFA394E8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0717-3DBF-4EB4-8411-C9B6E03A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8698-ED33-4434-88EB-89EE1FF6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2AD4-6D09-4ADF-9A53-0F83DADA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4E3C-848F-49B1-847D-7C0B6733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DB58-87FA-488A-AB0D-A7862775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CF83-C3D3-49BE-B50A-3F864237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3163-1850-4A99-8793-A9C552E1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9344-C122-43FD-8157-0944AC2F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07B4-1466-4C06-92ED-77E3A75D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BF78-7156-4518-B08A-3B72E54C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58CB-5CAE-4B37-9CF9-318622F7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B4DB-A7C4-44D7-8268-EF70B62D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1F1B9-70FD-4679-A7D1-8C7016CF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47151-2FC8-4B67-B2A5-7DD7909E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76A97-21F7-4210-AFE6-8335E6E5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55D1F-BBD7-4D65-9393-BD9DBC91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D901F-6FFB-498F-B012-63678DEA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8455-98E1-4485-9C9F-1160749A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02D13-D405-4A90-8CB6-2B4E0F84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33BEE-2DBC-4BBB-9C48-7EBCA694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F13F6-F4F4-4EE5-BCE2-45F8C433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AC489-3B23-4298-A69F-B556DA78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1ADF2-5F3B-409F-AE3F-80C2AA14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7212F-1FC2-4093-BF13-27183170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E342D-BF3D-4359-9BC9-06BDC4B0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E0D99-2493-4C3E-A8A7-3745AABD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13036-CA18-43E9-B43E-3EB19714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1AD58-70A2-401A-804C-E02AAB1E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B56C-5AC9-4DF6-8E3E-23ADEE51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30867-57BA-4BD3-B0DA-77B5E579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22FCE-6F64-4008-B351-883EB699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B9D01-696A-4997-AEBF-1D35600E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08644-440C-4C00-8349-10CF389B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4A5DD-F77B-490C-AC71-E01AB63F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69034-E071-45E3-B750-1ED032D2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9A983-5EBD-4985-9C5D-24EB95DD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66D33-17A1-4037-98A4-7254AD24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EB930-A4E8-4D92-9CC4-192B49E0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80DA-3EFF-4F12-BC14-0F12F405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F349-2ABC-40B7-88E4-7D1AC194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9FE2-C97E-4D22-8541-3213C54D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D70-9B9A-4F65-A393-50C26D7C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31A4-9DAD-4D1C-9CCC-DC958716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CDEC-48F3-44D2-BAC2-E898FC7674C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AC29-5EE0-486F-9BD5-8BBF3F2B8873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B984-A460-420C-81EC-52CE87AD99D5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8E28-7AC4-4F94-98B1-FD75C0384CF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927000" y="1378080"/>
            <a:ext cx="759456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1"/>
          <p:cNvSpPr/>
          <p:nvPr/>
        </p:nvSpPr>
        <p:spPr>
          <a:xfrm>
            <a:off x="214200" y="71424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Arial"/>
                <a:ea typeface="Arial"/>
              </a:rPr>
              <a:t>Проверь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Сказать-скажи;скажит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Читать-читай;читайте,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Познакомить-познаком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  <a:ea typeface="Arial"/>
              </a:rPr>
              <a:t>ь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;познаком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  <a:ea typeface="Arial"/>
              </a:rPr>
              <a:t>ь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те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Плакат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  <a:ea typeface="Arial"/>
              </a:rPr>
              <a:t>ь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-плач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  <a:ea typeface="Arial"/>
              </a:rPr>
              <a:t>ь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;плач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  <a:ea typeface="Arial"/>
              </a:rPr>
              <a:t>ь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т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1"/>
          <p:cNvSpPr/>
          <p:nvPr/>
        </p:nvSpPr>
        <p:spPr>
          <a:xfrm>
            <a:off x="571680" y="571680"/>
            <a:ext cx="8001000" cy="539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 глаголах в повелительной форме перед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-те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и перед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-ся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сохраняется мягкий зна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спрячьте ,спряч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1"/>
          <p:cNvSpPr/>
          <p:nvPr/>
        </p:nvSpPr>
        <p:spPr>
          <a:xfrm>
            <a:off x="285840" y="428760"/>
            <a:ext cx="8858160" cy="68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Упр.151стр 1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иши глаголы в повелительной форме. Изменяй их по образцу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одчерк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мягкий зн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 б р а з е ц.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прячь — спрячьте — спряч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пряч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день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маж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отов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овер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буд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меть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прав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рав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мыл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теш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прав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кин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гранич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мер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 трат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 тревожь-.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115920" y="212760"/>
            <a:ext cx="8693280" cy="153684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2"/>
          <p:cNvSpPr/>
          <p:nvPr/>
        </p:nvSpPr>
        <p:spPr>
          <a:xfrm>
            <a:off x="1428840" y="1357200"/>
            <a:ext cx="6215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одолжить любое предлож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егодня я узна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я выполнял задани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я понял,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еперь я могу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я понял,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я научил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я попробую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53036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2"/>
          <p:cNvSpPr/>
          <p:nvPr/>
        </p:nvSpPr>
        <p:spPr>
          <a:xfrm>
            <a:off x="714240" y="1857240"/>
            <a:ext cx="76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ТР.12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Упр. 1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500040" y="2714760"/>
            <a:ext cx="8286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иши. Глаголы из скобок ставь в повелительной форме. Объясни написание мягкого знака в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ван говорит братьям: «(Покараулить) моего коня, а я лягу отдохн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(печалиться), батюшка, мы сами станем сад сто­ро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ы сперва поешь, в баньке (попариться), а потом спрашив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 хоть (верить), хоть (не верить), а жил на свете Федот-стрелец, удалой молод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2"/>
          <p:cNvSpPr/>
          <p:nvPr/>
        </p:nvSpPr>
        <p:spPr>
          <a:xfrm>
            <a:off x="571680" y="2143080"/>
            <a:ext cx="792936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ясни правописание слов с данными орфограммами.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одчеркн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аголы в повелительной фор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бята, пожалуйста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уд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аккуратными: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 трогай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меня грязными руками. Когда читаете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 став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меня локти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 клади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 книгу карандаш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льзуйтес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кла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аша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куратность поможет мне остаться чистой, 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мог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ам быть счастлив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Заголовок 3" descr=""/>
          <p:cNvPicPr/>
          <p:nvPr/>
        </p:nvPicPr>
        <p:blipFill>
          <a:blip r:embed="rId1"/>
          <a:stretch/>
        </p:blipFill>
        <p:spPr>
          <a:xfrm>
            <a:off x="500040" y="426960"/>
            <a:ext cx="83091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577360" cy="121284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2"/>
          <p:cNvSpPr/>
          <p:nvPr/>
        </p:nvSpPr>
        <p:spPr>
          <a:xfrm>
            <a:off x="285840" y="785880"/>
            <a:ext cx="8643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лаго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это часть речи, которая обозначает действие предмета и отвечает на вопросы что делать?   что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отрицания с глаголами используют частицу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Не с глаголами пишется отд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овелительная форма  глагола отвечает на вопросы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что делай? что сделай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ед.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уходи, спрячь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что делайте? что сделайте? –мн.ч.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рячьте, найдит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 единственном числе глаголы в повелительной форме имеют на конц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, й, 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 множественном числе к ним присоедин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т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ягкий знак пере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т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хран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: заглян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—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глян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4200" y="3642840"/>
            <a:ext cx="8072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айди лишнее слово в каждой строке. Почему лишнее?</a:t>
            </a:r>
            <a:br>
              <a:rPr sz="4500"/>
            </a:br>
            <a:br>
              <a:rPr sz="45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ишь   смотришь   идут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ете     отдадите    играй           сделать    учу      приготовить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285840" y="2143080"/>
            <a:ext cx="7858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109440" y="298440"/>
            <a:ext cx="8656560" cy="189540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2"/>
          <p:cNvSpPr/>
          <p:nvPr/>
        </p:nvSpPr>
        <p:spPr>
          <a:xfrm>
            <a:off x="1000080" y="1928880"/>
            <a:ext cx="7500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Чист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Дума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готовиш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делай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омога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Люб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0040" y="32857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Чистописание. Составь пословицу, объясни смысл </a:t>
            </a:r>
            <a:br>
              <a:rPr sz="3600"/>
            </a:br>
            <a:r>
              <a:rPr b="1" lang="ru-RU" sz="6000" spc="-1" strike="noStrike">
                <a:solidFill>
                  <a:srgbClr val="04617b"/>
                </a:solidFill>
                <a:latin typeface="Calibri"/>
              </a:rPr>
              <a:t>аккуратен, 1 кто , приятен  и людям тот »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1"/>
          <p:cNvSpPr/>
          <p:nvPr/>
        </p:nvSpPr>
        <p:spPr>
          <a:xfrm>
            <a:off x="857160" y="714240"/>
            <a:ext cx="8001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Запиши, Подчеркни словарно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Кто 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аккуратен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, тот и людям приятен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"/>
          <p:cNvSpPr/>
          <p:nvPr/>
        </p:nvSpPr>
        <p:spPr>
          <a:xfrm>
            <a:off x="1000080" y="3929040"/>
            <a:ext cx="79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мысл этой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словиц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в том что если будишь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ккурате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с тобой другим будит приятно общаться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285840" y="895320"/>
            <a:ext cx="830412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642960" y="571680"/>
            <a:ext cx="771516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Запиши глаголы в повелительной форме, ед.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мн.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что делай? что сделай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что делайте? что сделайте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СКАЗАТЬ-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ЧИТАТЬ-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ПОЗНАКОМИТЬ-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ПЛАКАТЬ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14T14:29:32Z</dcterms:created>
  <dc:creator>Алексей</dc:creator>
  <dc:description/>
  <dc:language>en-US</dc:language>
  <cp:lastModifiedBy>user</cp:lastModifiedBy>
  <dcterms:modified xsi:type="dcterms:W3CDTF">2022-11-08T08:42:27Z</dcterms:modified>
  <cp:revision>70</cp:revision>
  <dc:subject/>
  <dc:title>Слайд 1</dc:title>
</cp:coreProperties>
</file>