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A10-F216-45BB-93DF-65431C41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D7C-D232-4C99-BDB5-4B6D9972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D06-561D-4702-871B-9C657CE6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E7D-4355-4F8A-AF89-6A0CA9E2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8E0-2E85-4A1C-AAAC-A7656013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52E-9737-47EE-BBE9-1116E292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78C-6BC9-4917-9E08-DE7D1950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FF4-61A6-45C6-83B6-C491E71D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FA8-61F5-4B37-BA05-4E7DEFEF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B9F-2DA0-47DF-940C-E1EC0446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E0B-3327-4114-A4C3-392D520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C8F-4649-4651-9205-D6230148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5A457-44F6-43DE-B104-04C69D61F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5480" y="969840"/>
            <a:ext cx="7777080" cy="282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Всякое начало трудно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22" descr=""/>
          <p:cNvPicPr/>
          <p:nvPr/>
        </p:nvPicPr>
        <p:blipFill>
          <a:blip r:embed="rId1"/>
          <a:stretch/>
        </p:blipFill>
        <p:spPr>
          <a:xfrm>
            <a:off x="257040" y="2138400"/>
            <a:ext cx="7043760" cy="35971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ая соединительная линия 2"/>
          <p:cNvSpPr/>
          <p:nvPr/>
        </p:nvSpPr>
        <p:spPr>
          <a:xfrm flipV="1">
            <a:off x="1509840" y="2903400"/>
            <a:ext cx="984240" cy="119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ая соединительная линия 26"/>
          <p:cNvSpPr/>
          <p:nvPr/>
        </p:nvSpPr>
        <p:spPr>
          <a:xfrm>
            <a:off x="2494080" y="2951280"/>
            <a:ext cx="977760" cy="1325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ая соединительная линия 32"/>
          <p:cNvSpPr/>
          <p:nvPr/>
        </p:nvSpPr>
        <p:spPr>
          <a:xfrm flipV="1">
            <a:off x="2146320" y="4236840"/>
            <a:ext cx="1325520" cy="758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ая соединительная линия 13"/>
          <p:cNvSpPr/>
          <p:nvPr/>
        </p:nvSpPr>
        <p:spPr>
          <a:xfrm flipV="1">
            <a:off x="2146320" y="2903400"/>
            <a:ext cx="2882880" cy="209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6" descr=""/>
          <p:cNvPicPr/>
          <p:nvPr/>
        </p:nvPicPr>
        <p:blipFill>
          <a:blip r:embed="rId2"/>
          <a:stretch/>
        </p:blipFill>
        <p:spPr>
          <a:xfrm rot="1453200">
            <a:off x="4649760" y="2993760"/>
            <a:ext cx="1235160" cy="1635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"/>
          <p:cNvSpPr/>
          <p:nvPr/>
        </p:nvSpPr>
        <p:spPr>
          <a:xfrm>
            <a:off x="631800" y="176040"/>
            <a:ext cx="11228400" cy="1060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адание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31800" y="176040"/>
            <a:ext cx="11228400" cy="1060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оманая ли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https://avatars.mds.yandex.net/get-images-cbir/903632/IFqL05e1Iv6HKoZiCIvTiQ3464/ocr"/>
          <p:cNvPicPr/>
          <p:nvPr/>
        </p:nvPicPr>
        <p:blipFill>
          <a:blip r:embed="rId1"/>
          <a:stretch/>
        </p:blipFill>
        <p:spPr>
          <a:xfrm>
            <a:off x="-130320" y="1236600"/>
            <a:ext cx="829656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31800" y="176040"/>
            <a:ext cx="11228400" cy="1060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ривая ли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2" descr=""/>
          <p:cNvPicPr/>
          <p:nvPr/>
        </p:nvPicPr>
        <p:blipFill>
          <a:blip r:embed="rId1"/>
          <a:stretch/>
        </p:blipFill>
        <p:spPr>
          <a:xfrm>
            <a:off x="406440" y="1495440"/>
            <a:ext cx="7620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496880" y="1081080"/>
            <a:ext cx="9193320" cy="5353200"/>
          </a:xfrm>
          <a:prstGeom prst="rect">
            <a:avLst/>
          </a:prstGeom>
          <a:ln w="28440">
            <a:solidFill>
              <a:srgbClr val="ed7d31"/>
            </a:solidFill>
            <a:miter/>
          </a:ln>
        </p:spPr>
      </p:pic>
      <p:sp>
        <p:nvSpPr>
          <p:cNvPr id="148" name="Freeform 9"/>
          <p:cNvSpPr/>
          <p:nvPr/>
        </p:nvSpPr>
        <p:spPr>
          <a:xfrm rot="17800800">
            <a:off x="5623200" y="1674720"/>
            <a:ext cx="1244520" cy="1355760"/>
          </a:xfrm>
          <a:custGeom>
            <a:avLst/>
            <a:gdLst/>
            <a:ahLst/>
            <a:rect l="l" t="t" r="r" b="b"/>
            <a:pathLst>
              <a:path w="784" h="854">
                <a:moveTo>
                  <a:pt x="240" y="345"/>
                </a:moveTo>
                <a:cubicBezTo>
                  <a:pt x="277" y="291"/>
                  <a:pt x="268" y="288"/>
                  <a:pt x="250" y="230"/>
                </a:cubicBezTo>
                <a:cubicBezTo>
                  <a:pt x="259" y="202"/>
                  <a:pt x="276" y="111"/>
                  <a:pt x="288" y="96"/>
                </a:cubicBezTo>
                <a:cubicBezTo>
                  <a:pt x="301" y="80"/>
                  <a:pt x="322" y="72"/>
                  <a:pt x="336" y="57"/>
                </a:cubicBezTo>
                <a:cubicBezTo>
                  <a:pt x="349" y="20"/>
                  <a:pt x="357" y="12"/>
                  <a:pt x="394" y="0"/>
                </a:cubicBezTo>
                <a:cubicBezTo>
                  <a:pt x="461" y="3"/>
                  <a:pt x="528" y="4"/>
                  <a:pt x="595" y="9"/>
                </a:cubicBezTo>
                <a:cubicBezTo>
                  <a:pt x="608" y="10"/>
                  <a:pt x="625" y="10"/>
                  <a:pt x="634" y="19"/>
                </a:cubicBezTo>
                <a:cubicBezTo>
                  <a:pt x="643" y="28"/>
                  <a:pt x="636" y="46"/>
                  <a:pt x="643" y="57"/>
                </a:cubicBezTo>
                <a:cubicBezTo>
                  <a:pt x="653" y="73"/>
                  <a:pt x="682" y="96"/>
                  <a:pt x="682" y="96"/>
                </a:cubicBezTo>
                <a:cubicBezTo>
                  <a:pt x="684" y="150"/>
                  <a:pt x="643" y="318"/>
                  <a:pt x="730" y="345"/>
                </a:cubicBezTo>
                <a:cubicBezTo>
                  <a:pt x="784" y="401"/>
                  <a:pt x="758" y="558"/>
                  <a:pt x="749" y="605"/>
                </a:cubicBezTo>
                <a:cubicBezTo>
                  <a:pt x="747" y="615"/>
                  <a:pt x="730" y="611"/>
                  <a:pt x="720" y="614"/>
                </a:cubicBezTo>
                <a:cubicBezTo>
                  <a:pt x="705" y="658"/>
                  <a:pt x="691" y="647"/>
                  <a:pt x="653" y="672"/>
                </a:cubicBezTo>
                <a:cubicBezTo>
                  <a:pt x="623" y="760"/>
                  <a:pt x="446" y="718"/>
                  <a:pt x="394" y="720"/>
                </a:cubicBezTo>
                <a:cubicBezTo>
                  <a:pt x="370" y="743"/>
                  <a:pt x="349" y="748"/>
                  <a:pt x="317" y="758"/>
                </a:cubicBezTo>
                <a:cubicBezTo>
                  <a:pt x="247" y="804"/>
                  <a:pt x="326" y="743"/>
                  <a:pt x="278" y="816"/>
                </a:cubicBezTo>
                <a:cubicBezTo>
                  <a:pt x="267" y="833"/>
                  <a:pt x="245" y="840"/>
                  <a:pt x="230" y="854"/>
                </a:cubicBezTo>
                <a:cubicBezTo>
                  <a:pt x="179" y="851"/>
                  <a:pt x="127" y="853"/>
                  <a:pt x="77" y="845"/>
                </a:cubicBezTo>
                <a:cubicBezTo>
                  <a:pt x="48" y="840"/>
                  <a:pt x="9" y="737"/>
                  <a:pt x="0" y="710"/>
                </a:cubicBezTo>
                <a:cubicBezTo>
                  <a:pt x="3" y="665"/>
                  <a:pt x="5" y="620"/>
                  <a:pt x="10" y="576"/>
                </a:cubicBezTo>
                <a:cubicBezTo>
                  <a:pt x="15" y="533"/>
                  <a:pt x="55" y="504"/>
                  <a:pt x="77" y="470"/>
                </a:cubicBezTo>
                <a:cubicBezTo>
                  <a:pt x="109" y="368"/>
                  <a:pt x="168" y="402"/>
                  <a:pt x="240" y="355"/>
                </a:cubicBezTo>
                <a:cubicBezTo>
                  <a:pt x="264" y="319"/>
                  <a:pt x="267" y="318"/>
                  <a:pt x="240" y="345"/>
                </a:cubicBez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1"/>
          <p:cNvSpPr/>
          <p:nvPr/>
        </p:nvSpPr>
        <p:spPr>
          <a:xfrm rot="8607600">
            <a:off x="6670080" y="4377960"/>
            <a:ext cx="1662120" cy="1482840"/>
          </a:xfrm>
          <a:custGeom>
            <a:avLst/>
            <a:gdLst/>
            <a:ahLst/>
            <a:rect l="l" t="t" r="r" b="b"/>
            <a:pathLst>
              <a:path w="1047" h="778">
                <a:moveTo>
                  <a:pt x="312" y="17"/>
                </a:moveTo>
                <a:cubicBezTo>
                  <a:pt x="398" y="45"/>
                  <a:pt x="278" y="0"/>
                  <a:pt x="360" y="55"/>
                </a:cubicBezTo>
                <a:cubicBezTo>
                  <a:pt x="418" y="94"/>
                  <a:pt x="595" y="87"/>
                  <a:pt x="667" y="94"/>
                </a:cubicBezTo>
                <a:cubicBezTo>
                  <a:pt x="742" y="117"/>
                  <a:pt x="656" y="82"/>
                  <a:pt x="705" y="132"/>
                </a:cubicBezTo>
                <a:cubicBezTo>
                  <a:pt x="711" y="138"/>
                  <a:pt x="770" y="151"/>
                  <a:pt x="772" y="151"/>
                </a:cubicBezTo>
                <a:cubicBezTo>
                  <a:pt x="811" y="158"/>
                  <a:pt x="888" y="170"/>
                  <a:pt x="888" y="170"/>
                </a:cubicBezTo>
                <a:cubicBezTo>
                  <a:pt x="909" y="177"/>
                  <a:pt x="924" y="178"/>
                  <a:pt x="936" y="199"/>
                </a:cubicBezTo>
                <a:cubicBezTo>
                  <a:pt x="941" y="208"/>
                  <a:pt x="939" y="220"/>
                  <a:pt x="945" y="228"/>
                </a:cubicBezTo>
                <a:cubicBezTo>
                  <a:pt x="958" y="244"/>
                  <a:pt x="985" y="251"/>
                  <a:pt x="1003" y="257"/>
                </a:cubicBezTo>
                <a:cubicBezTo>
                  <a:pt x="1020" y="310"/>
                  <a:pt x="1047" y="360"/>
                  <a:pt x="1012" y="420"/>
                </a:cubicBezTo>
                <a:cubicBezTo>
                  <a:pt x="1002" y="437"/>
                  <a:pt x="974" y="427"/>
                  <a:pt x="955" y="430"/>
                </a:cubicBezTo>
                <a:cubicBezTo>
                  <a:pt x="936" y="482"/>
                  <a:pt x="910" y="484"/>
                  <a:pt x="859" y="497"/>
                </a:cubicBezTo>
                <a:cubicBezTo>
                  <a:pt x="774" y="553"/>
                  <a:pt x="661" y="506"/>
                  <a:pt x="571" y="478"/>
                </a:cubicBezTo>
                <a:cubicBezTo>
                  <a:pt x="538" y="443"/>
                  <a:pt x="567" y="466"/>
                  <a:pt x="504" y="449"/>
                </a:cubicBezTo>
                <a:cubicBezTo>
                  <a:pt x="484" y="444"/>
                  <a:pt x="446" y="430"/>
                  <a:pt x="446" y="430"/>
                </a:cubicBezTo>
                <a:cubicBezTo>
                  <a:pt x="402" y="384"/>
                  <a:pt x="307" y="359"/>
                  <a:pt x="244" y="343"/>
                </a:cubicBezTo>
                <a:cubicBezTo>
                  <a:pt x="157" y="366"/>
                  <a:pt x="224" y="373"/>
                  <a:pt x="187" y="420"/>
                </a:cubicBezTo>
                <a:cubicBezTo>
                  <a:pt x="181" y="428"/>
                  <a:pt x="168" y="429"/>
                  <a:pt x="158" y="430"/>
                </a:cubicBezTo>
                <a:cubicBezTo>
                  <a:pt x="114" y="435"/>
                  <a:pt x="69" y="436"/>
                  <a:pt x="24" y="439"/>
                </a:cubicBezTo>
                <a:cubicBezTo>
                  <a:pt x="14" y="468"/>
                  <a:pt x="0" y="493"/>
                  <a:pt x="24" y="526"/>
                </a:cubicBezTo>
                <a:cubicBezTo>
                  <a:pt x="32" y="537"/>
                  <a:pt x="49" y="532"/>
                  <a:pt x="62" y="535"/>
                </a:cubicBezTo>
                <a:cubicBezTo>
                  <a:pt x="99" y="642"/>
                  <a:pt x="164" y="612"/>
                  <a:pt x="264" y="631"/>
                </a:cubicBezTo>
                <a:cubicBezTo>
                  <a:pt x="273" y="637"/>
                  <a:pt x="285" y="641"/>
                  <a:pt x="292" y="650"/>
                </a:cubicBezTo>
                <a:cubicBezTo>
                  <a:pt x="298" y="658"/>
                  <a:pt x="294" y="673"/>
                  <a:pt x="302" y="679"/>
                </a:cubicBezTo>
                <a:cubicBezTo>
                  <a:pt x="342" y="707"/>
                  <a:pt x="409" y="706"/>
                  <a:pt x="456" y="737"/>
                </a:cubicBezTo>
                <a:cubicBezTo>
                  <a:pt x="462" y="747"/>
                  <a:pt x="478" y="755"/>
                  <a:pt x="475" y="766"/>
                </a:cubicBezTo>
                <a:cubicBezTo>
                  <a:pt x="472" y="778"/>
                  <a:pt x="423" y="775"/>
                  <a:pt x="417" y="77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31800" y="176040"/>
            <a:ext cx="11228400" cy="72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ния 3 и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168120" y="1925640"/>
            <a:ext cx="11900160" cy="389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711360" y="2263680"/>
            <a:ext cx="2309760" cy="2557440"/>
            <a:chOff x="711360" y="2263680"/>
            <a:chExt cx="2309760" cy="2557440"/>
          </a:xfrm>
        </p:grpSpPr>
        <p:sp>
          <p:nvSpPr>
            <p:cNvPr id="153" name="AutoShape 3"/>
            <p:cNvSpPr/>
            <p:nvPr/>
          </p:nvSpPr>
          <p:spPr>
            <a:xfrm>
              <a:off x="711360" y="2795400"/>
              <a:ext cx="2309760" cy="2025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40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val 4"/>
            <p:cNvSpPr/>
            <p:nvPr/>
          </p:nvSpPr>
          <p:spPr>
            <a:xfrm>
              <a:off x="1808280" y="2673000"/>
              <a:ext cx="117000" cy="139320"/>
            </a:xfrm>
            <a:prstGeom prst="ellipse">
              <a:avLst/>
            </a:prstGeom>
            <a:solidFill>
              <a:srgbClr val="0d0d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WordArt 5"/>
            <p:cNvSpPr txBox="1"/>
            <p:nvPr/>
          </p:nvSpPr>
          <p:spPr>
            <a:xfrm>
              <a:off x="1786680" y="2263680"/>
              <a:ext cx="155880" cy="31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 flipH="1">
              <a:off x="1593000" y="2843280"/>
              <a:ext cx="175320" cy="4870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H="1" flipV="1">
              <a:off x="1962000" y="2820240"/>
              <a:ext cx="234000" cy="55692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3267000" y="3403440"/>
            <a:ext cx="3457440" cy="851040"/>
            <a:chOff x="3267000" y="3403440"/>
            <a:chExt cx="3457440" cy="851040"/>
          </a:xfrm>
        </p:grpSpPr>
        <p:sp>
          <p:nvSpPr>
            <p:cNvPr id="159" name="Freeform 9"/>
            <p:cNvSpPr/>
            <p:nvPr/>
          </p:nvSpPr>
          <p:spPr>
            <a:xfrm>
              <a:off x="3590280" y="3747240"/>
              <a:ext cx="2995200" cy="373320"/>
            </a:xfrm>
            <a:custGeom>
              <a:avLst/>
              <a:gdLst/>
              <a:ahLst/>
              <a:rect l="l" t="t" r="r" b="b"/>
              <a:pathLst>
                <a:path w="1170" h="288">
                  <a:moveTo>
                    <a:pt x="0" y="225"/>
                  </a:moveTo>
                  <a:cubicBezTo>
                    <a:pt x="30" y="180"/>
                    <a:pt x="60" y="135"/>
                    <a:pt x="90" y="90"/>
                  </a:cubicBezTo>
                  <a:cubicBezTo>
                    <a:pt x="108" y="64"/>
                    <a:pt x="180" y="60"/>
                    <a:pt x="180" y="60"/>
                  </a:cubicBezTo>
                  <a:cubicBezTo>
                    <a:pt x="259" y="68"/>
                    <a:pt x="367" y="49"/>
                    <a:pt x="405" y="135"/>
                  </a:cubicBezTo>
                  <a:cubicBezTo>
                    <a:pt x="418" y="164"/>
                    <a:pt x="409" y="207"/>
                    <a:pt x="435" y="225"/>
                  </a:cubicBezTo>
                  <a:cubicBezTo>
                    <a:pt x="450" y="235"/>
                    <a:pt x="464" y="248"/>
                    <a:pt x="480" y="255"/>
                  </a:cubicBezTo>
                  <a:cubicBezTo>
                    <a:pt x="509" y="268"/>
                    <a:pt x="570" y="285"/>
                    <a:pt x="570" y="285"/>
                  </a:cubicBezTo>
                  <a:cubicBezTo>
                    <a:pt x="660" y="280"/>
                    <a:pt x="752" y="288"/>
                    <a:pt x="840" y="270"/>
                  </a:cubicBezTo>
                  <a:cubicBezTo>
                    <a:pt x="864" y="265"/>
                    <a:pt x="877" y="195"/>
                    <a:pt x="885" y="180"/>
                  </a:cubicBezTo>
                  <a:cubicBezTo>
                    <a:pt x="927" y="95"/>
                    <a:pt x="954" y="32"/>
                    <a:pt x="1050" y="0"/>
                  </a:cubicBezTo>
                  <a:cubicBezTo>
                    <a:pt x="1075" y="5"/>
                    <a:pt x="1101" y="6"/>
                    <a:pt x="1125" y="15"/>
                  </a:cubicBezTo>
                  <a:cubicBezTo>
                    <a:pt x="1142" y="21"/>
                    <a:pt x="1170" y="45"/>
                    <a:pt x="1170" y="45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3489120" y="3987720"/>
              <a:ext cx="147600" cy="117360"/>
            </a:xfrm>
            <a:prstGeom prst="ellipse">
              <a:avLst/>
            </a:prstGeom>
            <a:solidFill>
              <a:srgbClr val="0d0d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11"/>
            <p:cNvSpPr/>
            <p:nvPr/>
          </p:nvSpPr>
          <p:spPr>
            <a:xfrm>
              <a:off x="6528240" y="3754080"/>
              <a:ext cx="147600" cy="117360"/>
            </a:xfrm>
            <a:prstGeom prst="ellipse">
              <a:avLst/>
            </a:prstGeom>
            <a:solidFill>
              <a:srgbClr val="0d0d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WordArt 12"/>
            <p:cNvSpPr txBox="1"/>
            <p:nvPr/>
          </p:nvSpPr>
          <p:spPr>
            <a:xfrm>
              <a:off x="3267000" y="3988080"/>
              <a:ext cx="197280" cy="26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  <p:sp>
          <p:nvSpPr>
            <p:cNvPr id="163" name="WordArt 13"/>
            <p:cNvSpPr txBox="1"/>
            <p:nvPr/>
          </p:nvSpPr>
          <p:spPr>
            <a:xfrm>
              <a:off x="6527160" y="3403440"/>
              <a:ext cx="197280" cy="26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  <p:sp>
          <p:nvSpPr>
            <p:cNvPr id="164" name="Arc 14"/>
            <p:cNvSpPr/>
            <p:nvPr/>
          </p:nvSpPr>
          <p:spPr>
            <a:xfrm>
              <a:off x="3563280" y="3754080"/>
              <a:ext cx="368640" cy="173520"/>
            </a:xfrm>
            <a:custGeom>
              <a:avLst/>
              <a:gdLst/>
              <a:ahLst/>
              <a:rect l="l" t="t" r="r" b="b"/>
              <a:pathLst>
                <a:path fill="none" w="21508" h="21377">
                  <a:moveTo>
                    <a:pt x="-1" y="19385"/>
                  </a:moveTo>
                  <a:cubicBezTo>
                    <a:pt x="920" y="9446"/>
                    <a:pt x="8531" y="1431"/>
                    <a:pt x="18410" y="0"/>
                  </a:cubicBezTo>
                </a:path>
                <a:path stroke="0" w="21508" h="21377">
                  <a:moveTo>
                    <a:pt x="-1" y="19385"/>
                  </a:moveTo>
                  <a:cubicBezTo>
                    <a:pt x="920" y="9446"/>
                    <a:pt x="8531" y="1431"/>
                    <a:pt x="18410" y="0"/>
                  </a:cubicBezTo>
                  <a:lnTo>
                    <a:pt x="21508" y="21377"/>
                  </a:lnTo>
                  <a:lnTo>
                    <a:pt x="-1" y="19385"/>
                  </a:lnTo>
                  <a:close/>
                </a:path>
              </a:pathLst>
            </a:custGeom>
            <a:noFill/>
            <a:ln w="38160">
              <a:solidFill>
                <a:srgbClr val="00b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rc 15"/>
            <p:cNvSpPr/>
            <p:nvPr/>
          </p:nvSpPr>
          <p:spPr>
            <a:xfrm>
              <a:off x="6118560" y="3628440"/>
              <a:ext cx="441000" cy="175320"/>
            </a:xfrm>
            <a:custGeom>
              <a:avLst/>
              <a:gdLst/>
              <a:ahLst/>
              <a:rect l="l" t="t" r="r" b="b"/>
              <a:pathLst>
                <a:path fill="none" w="25725" h="21600">
                  <a:moveTo>
                    <a:pt x="0" y="1374"/>
                  </a:moveTo>
                  <a:cubicBezTo>
                    <a:pt x="2424" y="465"/>
                    <a:pt x="4992" y="0"/>
                    <a:pt x="7582" y="0"/>
                  </a:cubicBezTo>
                  <a:cubicBezTo>
                    <a:pt x="14914" y="0"/>
                    <a:pt x="21746" y="3719"/>
                    <a:pt x="25725" y="9878"/>
                  </a:cubicBezTo>
                </a:path>
                <a:path stroke="0" w="25725" h="21600">
                  <a:moveTo>
                    <a:pt x="0" y="1374"/>
                  </a:moveTo>
                  <a:cubicBezTo>
                    <a:pt x="2424" y="465"/>
                    <a:pt x="4992" y="0"/>
                    <a:pt x="7582" y="0"/>
                  </a:cubicBezTo>
                  <a:cubicBezTo>
                    <a:pt x="14914" y="0"/>
                    <a:pt x="21746" y="3719"/>
                    <a:pt x="25725" y="9878"/>
                  </a:cubicBezTo>
                  <a:lnTo>
                    <a:pt x="7582" y="21600"/>
                  </a:lnTo>
                  <a:lnTo>
                    <a:pt x="0" y="1374"/>
                  </a:lnTo>
                  <a:close/>
                </a:path>
              </a:pathLst>
            </a:custGeom>
            <a:noFill/>
            <a:ln w="38160">
              <a:solidFill>
                <a:srgbClr val="00b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6"/>
          <p:cNvGrpSpPr/>
          <p:nvPr/>
        </p:nvGrpSpPr>
        <p:grpSpPr>
          <a:xfrm>
            <a:off x="7159680" y="2192400"/>
            <a:ext cx="1843200" cy="3085920"/>
            <a:chOff x="7159680" y="2192400"/>
            <a:chExt cx="1843200" cy="3085920"/>
          </a:xfrm>
        </p:grpSpPr>
        <p:grpSp>
          <p:nvGrpSpPr>
            <p:cNvPr id="167" name="Group 17"/>
            <p:cNvGrpSpPr/>
            <p:nvPr/>
          </p:nvGrpSpPr>
          <p:grpSpPr>
            <a:xfrm>
              <a:off x="7159680" y="2371680"/>
              <a:ext cx="1843200" cy="2786040"/>
              <a:chOff x="7159680" y="2371680"/>
              <a:chExt cx="1843200" cy="2786040"/>
            </a:xfrm>
          </p:grpSpPr>
          <p:sp>
            <p:nvSpPr>
              <p:cNvPr id="168" name="Line 18"/>
              <p:cNvSpPr/>
              <p:nvPr/>
            </p:nvSpPr>
            <p:spPr>
              <a:xfrm>
                <a:off x="7566120" y="2371680"/>
                <a:ext cx="1073880" cy="555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 flipH="1">
                <a:off x="7166160" y="2926800"/>
                <a:ext cx="1473480" cy="1082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20"/>
              <p:cNvSpPr/>
              <p:nvPr/>
            </p:nvSpPr>
            <p:spPr>
              <a:xfrm>
                <a:off x="7159680" y="4010400"/>
                <a:ext cx="1837440" cy="480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Line 21"/>
              <p:cNvSpPr/>
              <p:nvPr/>
            </p:nvSpPr>
            <p:spPr>
              <a:xfrm flipV="1">
                <a:off x="7523280" y="4482000"/>
                <a:ext cx="1479600" cy="675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2" name="Oval 22"/>
            <p:cNvSpPr/>
            <p:nvPr/>
          </p:nvSpPr>
          <p:spPr>
            <a:xfrm>
              <a:off x="7508880" y="2311200"/>
              <a:ext cx="114120" cy="120600"/>
            </a:xfrm>
            <a:prstGeom prst="ellipse">
              <a:avLst/>
            </a:prstGeom>
            <a:solidFill>
              <a:srgbClr val="0d0d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23"/>
            <p:cNvSpPr/>
            <p:nvPr/>
          </p:nvSpPr>
          <p:spPr>
            <a:xfrm>
              <a:off x="7472520" y="5091120"/>
              <a:ext cx="114120" cy="120600"/>
            </a:xfrm>
            <a:prstGeom prst="ellipse">
              <a:avLst/>
            </a:prstGeom>
            <a:solidFill>
              <a:srgbClr val="0d0d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WordArt 24"/>
            <p:cNvSpPr txBox="1"/>
            <p:nvPr/>
          </p:nvSpPr>
          <p:spPr>
            <a:xfrm>
              <a:off x="7280640" y="2192400"/>
              <a:ext cx="152280" cy="27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  <p:sp>
          <p:nvSpPr>
            <p:cNvPr id="175" name="WordArt 25"/>
            <p:cNvSpPr txBox="1"/>
            <p:nvPr/>
          </p:nvSpPr>
          <p:spPr>
            <a:xfrm>
              <a:off x="7223760" y="5005800"/>
              <a:ext cx="152280" cy="27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  <p:sp>
          <p:nvSpPr>
            <p:cNvPr id="176" name="Line 26"/>
            <p:cNvSpPr/>
            <p:nvPr/>
          </p:nvSpPr>
          <p:spPr>
            <a:xfrm>
              <a:off x="7680600" y="2311920"/>
              <a:ext cx="342720" cy="179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27"/>
            <p:cNvSpPr/>
            <p:nvPr/>
          </p:nvSpPr>
          <p:spPr>
            <a:xfrm flipH="1">
              <a:off x="7701480" y="4998600"/>
              <a:ext cx="399600" cy="179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28"/>
          <p:cNvGrpSpPr/>
          <p:nvPr/>
        </p:nvGrpSpPr>
        <p:grpSpPr>
          <a:xfrm>
            <a:off x="9501120" y="2244600"/>
            <a:ext cx="2203200" cy="2631960"/>
            <a:chOff x="9501120" y="2244600"/>
            <a:chExt cx="2203200" cy="2631960"/>
          </a:xfrm>
        </p:grpSpPr>
        <p:grpSp>
          <p:nvGrpSpPr>
            <p:cNvPr id="179" name="Group 29"/>
            <p:cNvGrpSpPr/>
            <p:nvPr/>
          </p:nvGrpSpPr>
          <p:grpSpPr>
            <a:xfrm>
              <a:off x="9501120" y="2742480"/>
              <a:ext cx="2203200" cy="2134080"/>
              <a:chOff x="9501120" y="2742480"/>
              <a:chExt cx="2203200" cy="2134080"/>
            </a:xfrm>
          </p:grpSpPr>
          <p:grpSp>
            <p:nvGrpSpPr>
              <p:cNvPr id="180" name="Group 30"/>
              <p:cNvGrpSpPr/>
              <p:nvPr/>
            </p:nvGrpSpPr>
            <p:grpSpPr>
              <a:xfrm>
                <a:off x="9501120" y="2742480"/>
                <a:ext cx="2203200" cy="2134080"/>
                <a:chOff x="9501120" y="2742480"/>
                <a:chExt cx="2203200" cy="2134080"/>
              </a:xfrm>
            </p:grpSpPr>
            <p:sp>
              <p:nvSpPr>
                <p:cNvPr id="181" name="Oval 31"/>
                <p:cNvSpPr/>
                <p:nvPr/>
              </p:nvSpPr>
              <p:spPr>
                <a:xfrm>
                  <a:off x="9501120" y="2742480"/>
                  <a:ext cx="2203200" cy="2134080"/>
                </a:xfrm>
                <a:prstGeom prst="ellipse">
                  <a:avLst/>
                </a:prstGeom>
                <a:noFill/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" name="Line 32"/>
                <p:cNvSpPr/>
                <p:nvPr/>
              </p:nvSpPr>
              <p:spPr>
                <a:xfrm>
                  <a:off x="9877680" y="3668400"/>
                  <a:ext cx="15076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3" name="Oval 33"/>
              <p:cNvSpPr/>
              <p:nvPr/>
            </p:nvSpPr>
            <p:spPr>
              <a:xfrm>
                <a:off x="9777240" y="3597120"/>
                <a:ext cx="136440" cy="141120"/>
              </a:xfrm>
              <a:prstGeom prst="ellipse">
                <a:avLst/>
              </a:prstGeom>
              <a:solidFill>
                <a:srgbClr val="0d0d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Oval 34"/>
              <p:cNvSpPr/>
              <p:nvPr/>
            </p:nvSpPr>
            <p:spPr>
              <a:xfrm>
                <a:off x="11292120" y="3597120"/>
                <a:ext cx="137880" cy="141120"/>
              </a:xfrm>
              <a:prstGeom prst="ellipse">
                <a:avLst/>
              </a:prstGeom>
              <a:solidFill>
                <a:srgbClr val="0d0d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WordArt 35"/>
              <p:cNvSpPr txBox="1"/>
              <p:nvPr/>
            </p:nvSpPr>
            <p:spPr>
              <a:xfrm>
                <a:off x="9776520" y="3240360"/>
                <a:ext cx="183600" cy="3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3366"/>
                    </a:solidFill>
                    <a:latin typeface="+mn-lt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  <a:ea typeface="+mn-lt"/>
                </a:endParaRPr>
              </a:p>
            </p:txBody>
          </p:sp>
          <p:sp>
            <p:nvSpPr>
              <p:cNvPr id="186" name="WordArt 36"/>
              <p:cNvSpPr txBox="1"/>
              <p:nvPr/>
            </p:nvSpPr>
            <p:spPr>
              <a:xfrm>
                <a:off x="11291400" y="3240360"/>
                <a:ext cx="183600" cy="3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3366"/>
                    </a:solidFill>
                    <a:latin typeface="+mn-lt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  <a:ea typeface="+mn-lt"/>
                </a:endParaRPr>
              </a:p>
            </p:txBody>
          </p:sp>
          <p:sp>
            <p:nvSpPr>
              <p:cNvPr id="187" name="Line 37"/>
              <p:cNvSpPr/>
              <p:nvPr/>
            </p:nvSpPr>
            <p:spPr>
              <a:xfrm>
                <a:off x="9914040" y="3809520"/>
                <a:ext cx="344160" cy="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Line 38"/>
              <p:cNvSpPr/>
              <p:nvPr/>
            </p:nvSpPr>
            <p:spPr>
              <a:xfrm>
                <a:off x="10947240" y="3809520"/>
                <a:ext cx="344160" cy="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Oval 39"/>
            <p:cNvSpPr/>
            <p:nvPr/>
          </p:nvSpPr>
          <p:spPr>
            <a:xfrm>
              <a:off x="10464840" y="2671560"/>
              <a:ext cx="137880" cy="141480"/>
            </a:xfrm>
            <a:prstGeom prst="ellipse">
              <a:avLst/>
            </a:prstGeom>
            <a:solidFill>
              <a:srgbClr val="0d0d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WordArt 40"/>
            <p:cNvSpPr txBox="1"/>
            <p:nvPr/>
          </p:nvSpPr>
          <p:spPr>
            <a:xfrm>
              <a:off x="10465200" y="2244600"/>
              <a:ext cx="18360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  <p:sp>
          <p:nvSpPr>
            <p:cNvPr id="191" name="Arc 41"/>
            <p:cNvSpPr/>
            <p:nvPr/>
          </p:nvSpPr>
          <p:spPr>
            <a:xfrm>
              <a:off x="9963360" y="2678760"/>
              <a:ext cx="391680" cy="189360"/>
            </a:xfrm>
            <a:custGeom>
              <a:avLst/>
              <a:gdLst/>
              <a:ahLst/>
              <a:rect l="l" t="t" r="r" b="b"/>
              <a:pathLst>
                <a:path fill="none" w="21552" h="20968">
                  <a:moveTo>
                    <a:pt x="-1" y="19530"/>
                  </a:moveTo>
                  <a:cubicBezTo>
                    <a:pt x="625" y="10153"/>
                    <a:pt x="7241" y="2256"/>
                    <a:pt x="16365" y="0"/>
                  </a:cubicBezTo>
                </a:path>
                <a:path stroke="0" w="21552" h="20968">
                  <a:moveTo>
                    <a:pt x="-1" y="19530"/>
                  </a:moveTo>
                  <a:cubicBezTo>
                    <a:pt x="625" y="10153"/>
                    <a:pt x="7241" y="2256"/>
                    <a:pt x="16365" y="0"/>
                  </a:cubicBezTo>
                  <a:lnTo>
                    <a:pt x="21552" y="20968"/>
                  </a:lnTo>
                  <a:lnTo>
                    <a:pt x="-1" y="19530"/>
                  </a:lnTo>
                  <a:close/>
                </a:path>
              </a:pathLst>
            </a:custGeom>
            <a:noFill/>
            <a:ln w="28440">
              <a:solidFill>
                <a:srgbClr val="00b05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rc 42"/>
            <p:cNvSpPr/>
            <p:nvPr/>
          </p:nvSpPr>
          <p:spPr>
            <a:xfrm>
              <a:off x="10550880" y="2673720"/>
              <a:ext cx="597600" cy="519120"/>
            </a:xfrm>
            <a:custGeom>
              <a:avLst/>
              <a:gdLst/>
              <a:ahLst/>
              <a:rect l="l" t="t" r="r" b="b"/>
              <a:pathLst>
                <a:path fill="none" w="14514" h="21213">
                  <a:moveTo>
                    <a:pt x="4070" y="0"/>
                  </a:moveTo>
                  <a:cubicBezTo>
                    <a:pt x="7964" y="747"/>
                    <a:pt x="11577" y="2551"/>
                    <a:pt x="14513" y="5216"/>
                  </a:cubicBezTo>
                </a:path>
                <a:path stroke="0" w="14514" h="21213">
                  <a:moveTo>
                    <a:pt x="4070" y="0"/>
                  </a:moveTo>
                  <a:cubicBezTo>
                    <a:pt x="7964" y="747"/>
                    <a:pt x="11577" y="2551"/>
                    <a:pt x="14513" y="5216"/>
                  </a:cubicBezTo>
                  <a:lnTo>
                    <a:pt x="0" y="21213"/>
                  </a:lnTo>
                  <a:lnTo>
                    <a:pt x="4070" y="0"/>
                  </a:lnTo>
                  <a:close/>
                </a:path>
              </a:pathLst>
            </a:custGeom>
            <a:noFill/>
            <a:ln w="28440">
              <a:solidFill>
                <a:srgbClr val="00b05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Text Box 2"/>
          <p:cNvSpPr/>
          <p:nvPr/>
        </p:nvSpPr>
        <p:spPr>
          <a:xfrm>
            <a:off x="504720" y="306360"/>
            <a:ext cx="11228400" cy="106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тветы к самостоятельной работ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887400" y="2378160"/>
            <a:ext cx="8064360" cy="3681360"/>
          </a:xfrm>
          <a:prstGeom prst="rect">
            <a:avLst/>
          </a:prstGeom>
          <a:ln w="28440">
            <a:solidFill>
              <a:srgbClr val="ed7d31"/>
            </a:solidFill>
            <a:miter/>
          </a:ln>
        </p:spPr>
      </p:pic>
      <p:grpSp>
        <p:nvGrpSpPr>
          <p:cNvPr id="195" name="Group 3"/>
          <p:cNvGrpSpPr/>
          <p:nvPr/>
        </p:nvGrpSpPr>
        <p:grpSpPr>
          <a:xfrm>
            <a:off x="1352520" y="3489480"/>
            <a:ext cx="7134120" cy="2346120"/>
            <a:chOff x="1352520" y="3489480"/>
            <a:chExt cx="7134120" cy="2346120"/>
          </a:xfrm>
        </p:grpSpPr>
        <p:grpSp>
          <p:nvGrpSpPr>
            <p:cNvPr id="196" name="Group 4"/>
            <p:cNvGrpSpPr/>
            <p:nvPr/>
          </p:nvGrpSpPr>
          <p:grpSpPr>
            <a:xfrm>
              <a:off x="1663560" y="3489480"/>
              <a:ext cx="1670040" cy="868320"/>
              <a:chOff x="1663560" y="3489480"/>
              <a:chExt cx="1670040" cy="868320"/>
            </a:xfrm>
          </p:grpSpPr>
          <p:sp>
            <p:nvSpPr>
              <p:cNvPr id="197" name="Line 5"/>
              <p:cNvSpPr/>
              <p:nvPr/>
            </p:nvSpPr>
            <p:spPr>
              <a:xfrm flipH="1">
                <a:off x="1739520" y="4111560"/>
                <a:ext cx="415800" cy="2462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6"/>
              <p:cNvSpPr/>
              <p:nvPr/>
            </p:nvSpPr>
            <p:spPr>
              <a:xfrm>
                <a:off x="1663560" y="4357800"/>
                <a:ext cx="12952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Line 7"/>
              <p:cNvSpPr/>
              <p:nvPr/>
            </p:nvSpPr>
            <p:spPr>
              <a:xfrm flipH="1">
                <a:off x="2901600" y="3489480"/>
                <a:ext cx="432000" cy="863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Freeform 8"/>
            <p:cNvSpPr/>
            <p:nvPr/>
          </p:nvSpPr>
          <p:spPr>
            <a:xfrm>
              <a:off x="3325680" y="3627360"/>
              <a:ext cx="2160720" cy="2028960"/>
            </a:xfrm>
            <a:custGeom>
              <a:avLst/>
              <a:gdLst/>
              <a:ahLst/>
              <a:rect l="l" t="t" r="r" b="b"/>
              <a:pathLst>
                <a:path w="1361" h="1278">
                  <a:moveTo>
                    <a:pt x="326" y="211"/>
                  </a:moveTo>
                  <a:cubicBezTo>
                    <a:pt x="348" y="208"/>
                    <a:pt x="373" y="211"/>
                    <a:pt x="393" y="201"/>
                  </a:cubicBezTo>
                  <a:cubicBezTo>
                    <a:pt x="402" y="196"/>
                    <a:pt x="393" y="173"/>
                    <a:pt x="403" y="172"/>
                  </a:cubicBezTo>
                  <a:cubicBezTo>
                    <a:pt x="511" y="160"/>
                    <a:pt x="620" y="166"/>
                    <a:pt x="729" y="163"/>
                  </a:cubicBezTo>
                  <a:cubicBezTo>
                    <a:pt x="744" y="148"/>
                    <a:pt x="751" y="126"/>
                    <a:pt x="768" y="115"/>
                  </a:cubicBezTo>
                  <a:cubicBezTo>
                    <a:pt x="778" y="109"/>
                    <a:pt x="834" y="92"/>
                    <a:pt x="854" y="86"/>
                  </a:cubicBezTo>
                  <a:cubicBezTo>
                    <a:pt x="931" y="61"/>
                    <a:pt x="1008" y="35"/>
                    <a:pt x="1085" y="9"/>
                  </a:cubicBezTo>
                  <a:cubicBezTo>
                    <a:pt x="1130" y="13"/>
                    <a:pt x="1184" y="0"/>
                    <a:pt x="1219" y="28"/>
                  </a:cubicBezTo>
                  <a:cubicBezTo>
                    <a:pt x="1228" y="35"/>
                    <a:pt x="1228" y="51"/>
                    <a:pt x="1238" y="57"/>
                  </a:cubicBezTo>
                  <a:cubicBezTo>
                    <a:pt x="1259" y="70"/>
                    <a:pt x="1318" y="81"/>
                    <a:pt x="1344" y="86"/>
                  </a:cubicBezTo>
                  <a:cubicBezTo>
                    <a:pt x="1351" y="192"/>
                    <a:pt x="1361" y="257"/>
                    <a:pt x="1344" y="364"/>
                  </a:cubicBezTo>
                  <a:cubicBezTo>
                    <a:pt x="1340" y="387"/>
                    <a:pt x="1317" y="396"/>
                    <a:pt x="1305" y="412"/>
                  </a:cubicBezTo>
                  <a:cubicBezTo>
                    <a:pt x="1275" y="452"/>
                    <a:pt x="1265" y="488"/>
                    <a:pt x="1238" y="527"/>
                  </a:cubicBezTo>
                  <a:cubicBezTo>
                    <a:pt x="1216" y="595"/>
                    <a:pt x="1238" y="578"/>
                    <a:pt x="1190" y="595"/>
                  </a:cubicBezTo>
                  <a:cubicBezTo>
                    <a:pt x="1174" y="645"/>
                    <a:pt x="1174" y="697"/>
                    <a:pt x="1161" y="748"/>
                  </a:cubicBezTo>
                  <a:cubicBezTo>
                    <a:pt x="1154" y="843"/>
                    <a:pt x="1154" y="937"/>
                    <a:pt x="1123" y="1027"/>
                  </a:cubicBezTo>
                  <a:cubicBezTo>
                    <a:pt x="1117" y="1046"/>
                    <a:pt x="1118" y="1070"/>
                    <a:pt x="1104" y="1084"/>
                  </a:cubicBezTo>
                  <a:cubicBezTo>
                    <a:pt x="1097" y="1091"/>
                    <a:pt x="1084" y="1089"/>
                    <a:pt x="1075" y="1094"/>
                  </a:cubicBezTo>
                  <a:cubicBezTo>
                    <a:pt x="973" y="1150"/>
                    <a:pt x="1054" y="1119"/>
                    <a:pt x="989" y="1142"/>
                  </a:cubicBezTo>
                  <a:cubicBezTo>
                    <a:pt x="964" y="1166"/>
                    <a:pt x="953" y="1193"/>
                    <a:pt x="921" y="1209"/>
                  </a:cubicBezTo>
                  <a:cubicBezTo>
                    <a:pt x="854" y="1243"/>
                    <a:pt x="772" y="1253"/>
                    <a:pt x="701" y="1276"/>
                  </a:cubicBezTo>
                  <a:cubicBezTo>
                    <a:pt x="653" y="1273"/>
                    <a:pt x="604" y="1278"/>
                    <a:pt x="557" y="1267"/>
                  </a:cubicBezTo>
                  <a:cubicBezTo>
                    <a:pt x="546" y="1264"/>
                    <a:pt x="542" y="1249"/>
                    <a:pt x="537" y="1238"/>
                  </a:cubicBezTo>
                  <a:cubicBezTo>
                    <a:pt x="517" y="1198"/>
                    <a:pt x="495" y="1170"/>
                    <a:pt x="470" y="1132"/>
                  </a:cubicBezTo>
                  <a:cubicBezTo>
                    <a:pt x="461" y="1102"/>
                    <a:pt x="453" y="1037"/>
                    <a:pt x="422" y="1017"/>
                  </a:cubicBezTo>
                  <a:cubicBezTo>
                    <a:pt x="382" y="992"/>
                    <a:pt x="296" y="991"/>
                    <a:pt x="259" y="988"/>
                  </a:cubicBezTo>
                  <a:cubicBezTo>
                    <a:pt x="174" y="962"/>
                    <a:pt x="157" y="966"/>
                    <a:pt x="38" y="959"/>
                  </a:cubicBezTo>
                  <a:cubicBezTo>
                    <a:pt x="19" y="930"/>
                    <a:pt x="10" y="906"/>
                    <a:pt x="0" y="873"/>
                  </a:cubicBezTo>
                  <a:cubicBezTo>
                    <a:pt x="10" y="801"/>
                    <a:pt x="7" y="810"/>
                    <a:pt x="48" y="767"/>
                  </a:cubicBezTo>
                  <a:cubicBezTo>
                    <a:pt x="60" y="731"/>
                    <a:pt x="73" y="721"/>
                    <a:pt x="105" y="700"/>
                  </a:cubicBezTo>
                  <a:cubicBezTo>
                    <a:pt x="108" y="681"/>
                    <a:pt x="108" y="661"/>
                    <a:pt x="115" y="643"/>
                  </a:cubicBezTo>
                  <a:cubicBezTo>
                    <a:pt x="118" y="634"/>
                    <a:pt x="132" y="632"/>
                    <a:pt x="134" y="623"/>
                  </a:cubicBezTo>
                  <a:cubicBezTo>
                    <a:pt x="140" y="586"/>
                    <a:pt x="120" y="582"/>
                    <a:pt x="96" y="566"/>
                  </a:cubicBezTo>
                  <a:cubicBezTo>
                    <a:pt x="64" y="473"/>
                    <a:pt x="93" y="383"/>
                    <a:pt x="144" y="307"/>
                  </a:cubicBezTo>
                  <a:cubicBezTo>
                    <a:pt x="147" y="297"/>
                    <a:pt x="145" y="284"/>
                    <a:pt x="153" y="278"/>
                  </a:cubicBezTo>
                  <a:cubicBezTo>
                    <a:pt x="181" y="258"/>
                    <a:pt x="260" y="253"/>
                    <a:pt x="288" y="249"/>
                  </a:cubicBezTo>
                  <a:cubicBezTo>
                    <a:pt x="309" y="228"/>
                    <a:pt x="319" y="214"/>
                    <a:pt x="345" y="201"/>
                  </a:cubicBezTo>
                  <a:cubicBezTo>
                    <a:pt x="377" y="185"/>
                    <a:pt x="374" y="203"/>
                    <a:pt x="374" y="182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7242120" y="3535560"/>
              <a:ext cx="1244520" cy="1355400"/>
            </a:xfrm>
            <a:custGeom>
              <a:avLst/>
              <a:gdLst/>
              <a:ahLst/>
              <a:rect l="l" t="t" r="r" b="b"/>
              <a:pathLst>
                <a:path w="784" h="854">
                  <a:moveTo>
                    <a:pt x="240" y="345"/>
                  </a:moveTo>
                  <a:cubicBezTo>
                    <a:pt x="277" y="291"/>
                    <a:pt x="268" y="288"/>
                    <a:pt x="250" y="230"/>
                  </a:cubicBezTo>
                  <a:cubicBezTo>
                    <a:pt x="259" y="202"/>
                    <a:pt x="276" y="111"/>
                    <a:pt x="288" y="96"/>
                  </a:cubicBezTo>
                  <a:cubicBezTo>
                    <a:pt x="301" y="80"/>
                    <a:pt x="322" y="72"/>
                    <a:pt x="336" y="57"/>
                  </a:cubicBezTo>
                  <a:cubicBezTo>
                    <a:pt x="349" y="20"/>
                    <a:pt x="357" y="12"/>
                    <a:pt x="394" y="0"/>
                  </a:cubicBezTo>
                  <a:cubicBezTo>
                    <a:pt x="461" y="3"/>
                    <a:pt x="528" y="4"/>
                    <a:pt x="595" y="9"/>
                  </a:cubicBezTo>
                  <a:cubicBezTo>
                    <a:pt x="608" y="10"/>
                    <a:pt x="625" y="10"/>
                    <a:pt x="634" y="19"/>
                  </a:cubicBezTo>
                  <a:cubicBezTo>
                    <a:pt x="643" y="28"/>
                    <a:pt x="636" y="46"/>
                    <a:pt x="643" y="57"/>
                  </a:cubicBezTo>
                  <a:cubicBezTo>
                    <a:pt x="653" y="73"/>
                    <a:pt x="682" y="96"/>
                    <a:pt x="682" y="96"/>
                  </a:cubicBezTo>
                  <a:cubicBezTo>
                    <a:pt x="684" y="150"/>
                    <a:pt x="643" y="318"/>
                    <a:pt x="730" y="345"/>
                  </a:cubicBezTo>
                  <a:cubicBezTo>
                    <a:pt x="784" y="401"/>
                    <a:pt x="758" y="558"/>
                    <a:pt x="749" y="605"/>
                  </a:cubicBezTo>
                  <a:cubicBezTo>
                    <a:pt x="747" y="615"/>
                    <a:pt x="730" y="611"/>
                    <a:pt x="720" y="614"/>
                  </a:cubicBezTo>
                  <a:cubicBezTo>
                    <a:pt x="705" y="658"/>
                    <a:pt x="691" y="647"/>
                    <a:pt x="653" y="672"/>
                  </a:cubicBezTo>
                  <a:cubicBezTo>
                    <a:pt x="623" y="760"/>
                    <a:pt x="446" y="718"/>
                    <a:pt x="394" y="720"/>
                  </a:cubicBezTo>
                  <a:cubicBezTo>
                    <a:pt x="370" y="743"/>
                    <a:pt x="349" y="748"/>
                    <a:pt x="317" y="758"/>
                  </a:cubicBezTo>
                  <a:cubicBezTo>
                    <a:pt x="247" y="804"/>
                    <a:pt x="326" y="743"/>
                    <a:pt x="278" y="816"/>
                  </a:cubicBezTo>
                  <a:cubicBezTo>
                    <a:pt x="267" y="833"/>
                    <a:pt x="245" y="840"/>
                    <a:pt x="230" y="854"/>
                  </a:cubicBezTo>
                  <a:cubicBezTo>
                    <a:pt x="179" y="851"/>
                    <a:pt x="127" y="853"/>
                    <a:pt x="77" y="845"/>
                  </a:cubicBezTo>
                  <a:cubicBezTo>
                    <a:pt x="48" y="840"/>
                    <a:pt x="9" y="737"/>
                    <a:pt x="0" y="710"/>
                  </a:cubicBezTo>
                  <a:cubicBezTo>
                    <a:pt x="3" y="665"/>
                    <a:pt x="5" y="620"/>
                    <a:pt x="10" y="576"/>
                  </a:cubicBezTo>
                  <a:cubicBezTo>
                    <a:pt x="15" y="533"/>
                    <a:pt x="55" y="504"/>
                    <a:pt x="77" y="470"/>
                  </a:cubicBezTo>
                  <a:cubicBezTo>
                    <a:pt x="109" y="368"/>
                    <a:pt x="168" y="402"/>
                    <a:pt x="240" y="355"/>
                  </a:cubicBezTo>
                  <a:cubicBezTo>
                    <a:pt x="264" y="319"/>
                    <a:pt x="267" y="318"/>
                    <a:pt x="240" y="345"/>
                  </a:cubicBezTo>
                  <a:close/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10"/>
            <p:cNvSpPr/>
            <p:nvPr/>
          </p:nvSpPr>
          <p:spPr>
            <a:xfrm>
              <a:off x="7576920" y="4921200"/>
              <a:ext cx="838080" cy="85716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1352520" y="4498920"/>
              <a:ext cx="1662120" cy="1235160"/>
            </a:xfrm>
            <a:custGeom>
              <a:avLst/>
              <a:gdLst/>
              <a:ahLst/>
              <a:rect l="l" t="t" r="r" b="b"/>
              <a:pathLst>
                <a:path w="1047" h="778">
                  <a:moveTo>
                    <a:pt x="312" y="17"/>
                  </a:moveTo>
                  <a:cubicBezTo>
                    <a:pt x="398" y="45"/>
                    <a:pt x="278" y="0"/>
                    <a:pt x="360" y="55"/>
                  </a:cubicBezTo>
                  <a:cubicBezTo>
                    <a:pt x="418" y="94"/>
                    <a:pt x="595" y="87"/>
                    <a:pt x="667" y="94"/>
                  </a:cubicBezTo>
                  <a:cubicBezTo>
                    <a:pt x="742" y="117"/>
                    <a:pt x="656" y="82"/>
                    <a:pt x="705" y="132"/>
                  </a:cubicBezTo>
                  <a:cubicBezTo>
                    <a:pt x="711" y="138"/>
                    <a:pt x="770" y="151"/>
                    <a:pt x="772" y="151"/>
                  </a:cubicBezTo>
                  <a:cubicBezTo>
                    <a:pt x="811" y="158"/>
                    <a:pt x="888" y="170"/>
                    <a:pt x="888" y="170"/>
                  </a:cubicBezTo>
                  <a:cubicBezTo>
                    <a:pt x="909" y="177"/>
                    <a:pt x="924" y="178"/>
                    <a:pt x="936" y="199"/>
                  </a:cubicBezTo>
                  <a:cubicBezTo>
                    <a:pt x="941" y="208"/>
                    <a:pt x="939" y="220"/>
                    <a:pt x="945" y="228"/>
                  </a:cubicBezTo>
                  <a:cubicBezTo>
                    <a:pt x="958" y="244"/>
                    <a:pt x="985" y="251"/>
                    <a:pt x="1003" y="257"/>
                  </a:cubicBezTo>
                  <a:cubicBezTo>
                    <a:pt x="1020" y="310"/>
                    <a:pt x="1047" y="360"/>
                    <a:pt x="1012" y="420"/>
                  </a:cubicBezTo>
                  <a:cubicBezTo>
                    <a:pt x="1002" y="437"/>
                    <a:pt x="974" y="427"/>
                    <a:pt x="955" y="430"/>
                  </a:cubicBezTo>
                  <a:cubicBezTo>
                    <a:pt x="936" y="482"/>
                    <a:pt x="910" y="484"/>
                    <a:pt x="859" y="497"/>
                  </a:cubicBezTo>
                  <a:cubicBezTo>
                    <a:pt x="774" y="553"/>
                    <a:pt x="661" y="506"/>
                    <a:pt x="571" y="478"/>
                  </a:cubicBezTo>
                  <a:cubicBezTo>
                    <a:pt x="538" y="443"/>
                    <a:pt x="567" y="466"/>
                    <a:pt x="504" y="449"/>
                  </a:cubicBezTo>
                  <a:cubicBezTo>
                    <a:pt x="484" y="444"/>
                    <a:pt x="446" y="430"/>
                    <a:pt x="446" y="430"/>
                  </a:cubicBezTo>
                  <a:cubicBezTo>
                    <a:pt x="402" y="384"/>
                    <a:pt x="307" y="359"/>
                    <a:pt x="244" y="343"/>
                  </a:cubicBezTo>
                  <a:cubicBezTo>
                    <a:pt x="157" y="366"/>
                    <a:pt x="224" y="373"/>
                    <a:pt x="187" y="420"/>
                  </a:cubicBezTo>
                  <a:cubicBezTo>
                    <a:pt x="181" y="428"/>
                    <a:pt x="168" y="429"/>
                    <a:pt x="158" y="430"/>
                  </a:cubicBezTo>
                  <a:cubicBezTo>
                    <a:pt x="114" y="435"/>
                    <a:pt x="69" y="436"/>
                    <a:pt x="24" y="439"/>
                  </a:cubicBezTo>
                  <a:cubicBezTo>
                    <a:pt x="14" y="468"/>
                    <a:pt x="0" y="493"/>
                    <a:pt x="24" y="526"/>
                  </a:cubicBezTo>
                  <a:cubicBezTo>
                    <a:pt x="32" y="537"/>
                    <a:pt x="49" y="532"/>
                    <a:pt x="62" y="535"/>
                  </a:cubicBezTo>
                  <a:cubicBezTo>
                    <a:pt x="99" y="642"/>
                    <a:pt x="164" y="612"/>
                    <a:pt x="264" y="631"/>
                  </a:cubicBezTo>
                  <a:cubicBezTo>
                    <a:pt x="273" y="637"/>
                    <a:pt x="285" y="641"/>
                    <a:pt x="292" y="650"/>
                  </a:cubicBezTo>
                  <a:cubicBezTo>
                    <a:pt x="298" y="658"/>
                    <a:pt x="294" y="673"/>
                    <a:pt x="302" y="679"/>
                  </a:cubicBezTo>
                  <a:cubicBezTo>
                    <a:pt x="342" y="707"/>
                    <a:pt x="409" y="706"/>
                    <a:pt x="456" y="737"/>
                  </a:cubicBezTo>
                  <a:cubicBezTo>
                    <a:pt x="462" y="747"/>
                    <a:pt x="478" y="755"/>
                    <a:pt x="475" y="766"/>
                  </a:cubicBezTo>
                  <a:cubicBezTo>
                    <a:pt x="472" y="778"/>
                    <a:pt x="423" y="775"/>
                    <a:pt x="417" y="775"/>
                  </a:cubicBezTo>
                </a:path>
              </a:pathLst>
            </a:custGeom>
            <a:noFill/>
            <a:ln w="572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041720" y="4230720"/>
              <a:ext cx="715680" cy="736560"/>
            </a:xfrm>
            <a:custGeom>
              <a:avLst/>
              <a:gdLst/>
              <a:ahLst/>
              <a:rect l="l" t="t" r="r" b="b"/>
              <a:pathLst>
                <a:path w="451" h="464">
                  <a:moveTo>
                    <a:pt x="0" y="157"/>
                  </a:moveTo>
                  <a:cubicBezTo>
                    <a:pt x="32" y="154"/>
                    <a:pt x="65" y="156"/>
                    <a:pt x="96" y="147"/>
                  </a:cubicBezTo>
                  <a:cubicBezTo>
                    <a:pt x="109" y="143"/>
                    <a:pt x="114" y="126"/>
                    <a:pt x="125" y="119"/>
                  </a:cubicBezTo>
                  <a:cubicBezTo>
                    <a:pt x="134" y="113"/>
                    <a:pt x="144" y="112"/>
                    <a:pt x="154" y="109"/>
                  </a:cubicBezTo>
                  <a:cubicBezTo>
                    <a:pt x="184" y="63"/>
                    <a:pt x="219" y="46"/>
                    <a:pt x="269" y="32"/>
                  </a:cubicBezTo>
                  <a:cubicBezTo>
                    <a:pt x="298" y="24"/>
                    <a:pt x="355" y="3"/>
                    <a:pt x="355" y="3"/>
                  </a:cubicBezTo>
                  <a:cubicBezTo>
                    <a:pt x="384" y="6"/>
                    <a:pt x="416" y="0"/>
                    <a:pt x="442" y="13"/>
                  </a:cubicBezTo>
                  <a:cubicBezTo>
                    <a:pt x="451" y="18"/>
                    <a:pt x="438" y="34"/>
                    <a:pt x="432" y="42"/>
                  </a:cubicBezTo>
                  <a:cubicBezTo>
                    <a:pt x="391" y="104"/>
                    <a:pt x="414" y="39"/>
                    <a:pt x="384" y="99"/>
                  </a:cubicBezTo>
                  <a:cubicBezTo>
                    <a:pt x="379" y="108"/>
                    <a:pt x="381" y="121"/>
                    <a:pt x="374" y="128"/>
                  </a:cubicBezTo>
                  <a:cubicBezTo>
                    <a:pt x="367" y="135"/>
                    <a:pt x="355" y="135"/>
                    <a:pt x="346" y="138"/>
                  </a:cubicBezTo>
                  <a:cubicBezTo>
                    <a:pt x="320" y="162"/>
                    <a:pt x="308" y="185"/>
                    <a:pt x="278" y="205"/>
                  </a:cubicBezTo>
                  <a:cubicBezTo>
                    <a:pt x="255" y="274"/>
                    <a:pt x="238" y="271"/>
                    <a:pt x="307" y="253"/>
                  </a:cubicBezTo>
                  <a:cubicBezTo>
                    <a:pt x="317" y="250"/>
                    <a:pt x="326" y="246"/>
                    <a:pt x="336" y="243"/>
                  </a:cubicBezTo>
                  <a:cubicBezTo>
                    <a:pt x="346" y="246"/>
                    <a:pt x="362" y="243"/>
                    <a:pt x="365" y="253"/>
                  </a:cubicBezTo>
                  <a:cubicBezTo>
                    <a:pt x="370" y="272"/>
                    <a:pt x="325" y="295"/>
                    <a:pt x="317" y="301"/>
                  </a:cubicBezTo>
                  <a:cubicBezTo>
                    <a:pt x="299" y="329"/>
                    <a:pt x="277" y="350"/>
                    <a:pt x="259" y="378"/>
                  </a:cubicBezTo>
                  <a:cubicBezTo>
                    <a:pt x="248" y="415"/>
                    <a:pt x="240" y="438"/>
                    <a:pt x="211" y="464"/>
                  </a:cubicBezTo>
                </a:path>
              </a:pathLst>
            </a:custGeom>
            <a:noFill/>
            <a:ln w="572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Group 13"/>
            <p:cNvGrpSpPr/>
            <p:nvPr/>
          </p:nvGrpSpPr>
          <p:grpSpPr>
            <a:xfrm>
              <a:off x="5595840" y="4256280"/>
              <a:ext cx="1528560" cy="1579320"/>
              <a:chOff x="5595840" y="4256280"/>
              <a:chExt cx="1528560" cy="1579320"/>
            </a:xfrm>
          </p:grpSpPr>
          <p:sp>
            <p:nvSpPr>
              <p:cNvPr id="206" name="Line 14"/>
              <p:cNvSpPr/>
              <p:nvPr/>
            </p:nvSpPr>
            <p:spPr>
              <a:xfrm>
                <a:off x="6548400" y="4256280"/>
                <a:ext cx="360360" cy="2872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Line 15"/>
              <p:cNvSpPr/>
              <p:nvPr/>
            </p:nvSpPr>
            <p:spPr>
              <a:xfrm flipV="1">
                <a:off x="5783040" y="4513320"/>
                <a:ext cx="1079640" cy="2160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Line 16"/>
              <p:cNvSpPr/>
              <p:nvPr/>
            </p:nvSpPr>
            <p:spPr>
              <a:xfrm>
                <a:off x="5763960" y="4724280"/>
                <a:ext cx="1289160" cy="25092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Line 17"/>
              <p:cNvSpPr/>
              <p:nvPr/>
            </p:nvSpPr>
            <p:spPr>
              <a:xfrm flipH="1">
                <a:off x="6495840" y="4975200"/>
                <a:ext cx="628560" cy="8604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Line 18"/>
              <p:cNvSpPr/>
              <p:nvPr/>
            </p:nvSpPr>
            <p:spPr>
              <a:xfrm>
                <a:off x="5900400" y="5191200"/>
                <a:ext cx="609840" cy="61416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Line 19"/>
              <p:cNvSpPr/>
              <p:nvPr/>
            </p:nvSpPr>
            <p:spPr>
              <a:xfrm flipH="1">
                <a:off x="5595840" y="5191200"/>
                <a:ext cx="304560" cy="5842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2" name="Text Box 2"/>
          <p:cNvSpPr/>
          <p:nvPr/>
        </p:nvSpPr>
        <p:spPr>
          <a:xfrm>
            <a:off x="623880" y="512640"/>
            <a:ext cx="11228400" cy="106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тветы к самостоятельной работ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20" descr=""/>
          <p:cNvPicPr/>
          <p:nvPr/>
        </p:nvPicPr>
        <p:blipFill>
          <a:blip r:embed="rId1"/>
          <a:stretch/>
        </p:blipFill>
        <p:spPr>
          <a:xfrm>
            <a:off x="476280" y="1316160"/>
            <a:ext cx="11356920" cy="52149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"/>
          <p:cNvSpPr/>
          <p:nvPr/>
        </p:nvSpPr>
        <p:spPr>
          <a:xfrm>
            <a:off x="631800" y="176040"/>
            <a:ext cx="11228400" cy="72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ние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Овал 1"/>
          <p:cNvSpPr/>
          <p:nvPr/>
        </p:nvSpPr>
        <p:spPr>
          <a:xfrm>
            <a:off x="5029200" y="1662120"/>
            <a:ext cx="2757600" cy="1427040"/>
          </a:xfrm>
          <a:prstGeom prst="ellipse">
            <a:avLst/>
          </a:prstGeom>
          <a:noFill/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Овал 5"/>
          <p:cNvSpPr/>
          <p:nvPr/>
        </p:nvSpPr>
        <p:spPr>
          <a:xfrm>
            <a:off x="5126040" y="3089160"/>
            <a:ext cx="2868480" cy="1136880"/>
          </a:xfrm>
          <a:prstGeom prst="ellipse">
            <a:avLst/>
          </a:prstGeom>
          <a:noFill/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Овал 2"/>
          <p:cNvSpPr/>
          <p:nvPr/>
        </p:nvSpPr>
        <p:spPr>
          <a:xfrm>
            <a:off x="8118360" y="1662120"/>
            <a:ext cx="1122480" cy="11224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Овал 4"/>
          <p:cNvSpPr/>
          <p:nvPr/>
        </p:nvSpPr>
        <p:spPr>
          <a:xfrm rot="2220000">
            <a:off x="9235800" y="1247400"/>
            <a:ext cx="1832040" cy="2951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3630600" y="557856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3625920" y="498780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2706840" y="557856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2706840" y="439272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1735200" y="441468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3625920" y="384192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3630600" y="441468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977160" y="439272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6051600" y="498780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6954840" y="498780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10423440" y="384192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8609040" y="439092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2"/>
          <p:cNvSpPr/>
          <p:nvPr/>
        </p:nvSpPr>
        <p:spPr>
          <a:xfrm>
            <a:off x="9523440" y="441468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10436400" y="439884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10503000" y="498780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5"/>
          <p:cNvSpPr/>
          <p:nvPr/>
        </p:nvSpPr>
        <p:spPr>
          <a:xfrm>
            <a:off x="8609040" y="557676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9543960" y="557532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10479240" y="559440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28" descr=""/>
          <p:cNvPicPr/>
          <p:nvPr/>
        </p:nvPicPr>
        <p:blipFill>
          <a:blip r:embed="rId1"/>
          <a:stretch/>
        </p:blipFill>
        <p:spPr>
          <a:xfrm>
            <a:off x="463680" y="1746360"/>
            <a:ext cx="10739160" cy="3525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"/>
          <p:cNvSpPr/>
          <p:nvPr/>
        </p:nvSpPr>
        <p:spPr>
          <a:xfrm>
            <a:off x="631800" y="176040"/>
            <a:ext cx="11228400" cy="72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ние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8112240" y="349416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8069400" y="432108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3786120" y="269388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5"/>
          <p:cNvSpPr/>
          <p:nvPr/>
        </p:nvSpPr>
        <p:spPr>
          <a:xfrm>
            <a:off x="8104320" y="268452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26"/>
          <p:cNvSpPr/>
          <p:nvPr/>
        </p:nvSpPr>
        <p:spPr>
          <a:xfrm>
            <a:off x="3825720" y="3554280"/>
            <a:ext cx="6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3838680" y="435276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30"/>
          <p:cNvSpPr/>
          <p:nvPr/>
        </p:nvSpPr>
        <p:spPr>
          <a:xfrm>
            <a:off x="5005440" y="191124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1"/>
          <p:cNvSpPr/>
          <p:nvPr/>
        </p:nvSpPr>
        <p:spPr>
          <a:xfrm>
            <a:off x="5637240" y="191124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2"/>
          <p:cNvSpPr/>
          <p:nvPr/>
        </p:nvSpPr>
        <p:spPr>
          <a:xfrm>
            <a:off x="6238800" y="189396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3"/>
          <p:cNvSpPr/>
          <p:nvPr/>
        </p:nvSpPr>
        <p:spPr>
          <a:xfrm>
            <a:off x="6900840" y="192564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4"/>
          <p:cNvSpPr/>
          <p:nvPr/>
        </p:nvSpPr>
        <p:spPr>
          <a:xfrm>
            <a:off x="7564320" y="192564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35"/>
          <p:cNvSpPr/>
          <p:nvPr/>
        </p:nvSpPr>
        <p:spPr>
          <a:xfrm>
            <a:off x="8247240" y="192564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755640" y="609480"/>
            <a:ext cx="7777080" cy="142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755640" y="2409840"/>
            <a:ext cx="7777080" cy="14270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Точки и линии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755640" y="609480"/>
            <a:ext cx="7777080" cy="142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755640" y="2409840"/>
            <a:ext cx="6573960" cy="35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знать, какие линии замкнутые, а какие линии незамкнуты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45960" y="873000"/>
            <a:ext cx="5486400" cy="482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ж спросил ежа – сосе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Ты откуда, непосе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апасаюсь я к зи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ишь яблоки на м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ираю их в лес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есть принес да три нес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задумался сосе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Это мало или не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корее дай ответ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i.pinimg.com/originals/f0/ce/2e/f0ce2ec2de5a2c2a85088d784df707fc.jpg"/>
          <p:cNvPicPr/>
          <p:nvPr/>
        </p:nvPicPr>
        <p:blipFill>
          <a:blip r:embed="rId1"/>
          <a:stretch/>
        </p:blipFill>
        <p:spPr>
          <a:xfrm>
            <a:off x="6348240" y="1289160"/>
            <a:ext cx="51642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3"/>
          <p:cNvGrpSpPr/>
          <p:nvPr/>
        </p:nvGrpSpPr>
        <p:grpSpPr>
          <a:xfrm>
            <a:off x="795240" y="2716200"/>
            <a:ext cx="6438600" cy="3352320"/>
            <a:chOff x="795240" y="2716200"/>
            <a:chExt cx="6438600" cy="3352320"/>
          </a:xfrm>
        </p:grpSpPr>
        <p:grpSp>
          <p:nvGrpSpPr>
            <p:cNvPr id="45" name="Group 4"/>
            <p:cNvGrpSpPr/>
            <p:nvPr/>
          </p:nvGrpSpPr>
          <p:grpSpPr>
            <a:xfrm>
              <a:off x="795240" y="2716200"/>
              <a:ext cx="6438600" cy="3352320"/>
              <a:chOff x="795240" y="2716200"/>
              <a:chExt cx="6438600" cy="3352320"/>
            </a:xfrm>
          </p:grpSpPr>
          <p:sp>
            <p:nvSpPr>
              <p:cNvPr id="46" name="Rectangle 5"/>
              <p:cNvSpPr/>
              <p:nvPr/>
            </p:nvSpPr>
            <p:spPr>
              <a:xfrm>
                <a:off x="795240" y="2716200"/>
                <a:ext cx="6438600" cy="3352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Rectangle 6"/>
              <p:cNvSpPr/>
              <p:nvPr/>
            </p:nvSpPr>
            <p:spPr>
              <a:xfrm>
                <a:off x="1143000" y="3106080"/>
                <a:ext cx="1029960" cy="790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Oval 7"/>
              <p:cNvSpPr/>
              <p:nvPr/>
            </p:nvSpPr>
            <p:spPr>
              <a:xfrm>
                <a:off x="2585160" y="3106080"/>
                <a:ext cx="824040" cy="790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8"/>
              <p:cNvSpPr/>
              <p:nvPr/>
            </p:nvSpPr>
            <p:spPr>
              <a:xfrm>
                <a:off x="5315040" y="3156840"/>
                <a:ext cx="1609560" cy="1057320"/>
              </a:xfrm>
              <a:custGeom>
                <a:avLst/>
                <a:gdLst/>
                <a:ahLst/>
                <a:rect l="l" t="t" r="r" b="b"/>
                <a:pathLst>
                  <a:path w="1125" h="770">
                    <a:moveTo>
                      <a:pt x="0" y="65"/>
                    </a:moveTo>
                    <a:cubicBezTo>
                      <a:pt x="98" y="0"/>
                      <a:pt x="194" y="37"/>
                      <a:pt x="240" y="140"/>
                    </a:cubicBezTo>
                    <a:cubicBezTo>
                      <a:pt x="273" y="214"/>
                      <a:pt x="268" y="232"/>
                      <a:pt x="285" y="305"/>
                    </a:cubicBezTo>
                    <a:cubicBezTo>
                      <a:pt x="306" y="397"/>
                      <a:pt x="330" y="482"/>
                      <a:pt x="345" y="575"/>
                    </a:cubicBezTo>
                    <a:cubicBezTo>
                      <a:pt x="410" y="570"/>
                      <a:pt x="477" y="577"/>
                      <a:pt x="540" y="560"/>
                    </a:cubicBezTo>
                    <a:cubicBezTo>
                      <a:pt x="575" y="551"/>
                      <a:pt x="600" y="520"/>
                      <a:pt x="630" y="500"/>
                    </a:cubicBezTo>
                    <a:cubicBezTo>
                      <a:pt x="658" y="481"/>
                      <a:pt x="692" y="474"/>
                      <a:pt x="720" y="455"/>
                    </a:cubicBezTo>
                    <a:cubicBezTo>
                      <a:pt x="735" y="460"/>
                      <a:pt x="754" y="459"/>
                      <a:pt x="765" y="470"/>
                    </a:cubicBezTo>
                    <a:cubicBezTo>
                      <a:pt x="808" y="513"/>
                      <a:pt x="859" y="604"/>
                      <a:pt x="885" y="665"/>
                    </a:cubicBezTo>
                    <a:cubicBezTo>
                      <a:pt x="913" y="730"/>
                      <a:pt x="902" y="746"/>
                      <a:pt x="975" y="770"/>
                    </a:cubicBezTo>
                    <a:cubicBezTo>
                      <a:pt x="990" y="765"/>
                      <a:pt x="1009" y="766"/>
                      <a:pt x="1020" y="755"/>
                    </a:cubicBezTo>
                    <a:cubicBezTo>
                      <a:pt x="1031" y="744"/>
                      <a:pt x="1028" y="724"/>
                      <a:pt x="1035" y="710"/>
                    </a:cubicBezTo>
                    <a:cubicBezTo>
                      <a:pt x="1043" y="694"/>
                      <a:pt x="1058" y="681"/>
                      <a:pt x="1065" y="665"/>
                    </a:cubicBezTo>
                    <a:cubicBezTo>
                      <a:pt x="1078" y="636"/>
                      <a:pt x="1085" y="605"/>
                      <a:pt x="1095" y="575"/>
                    </a:cubicBezTo>
                    <a:cubicBezTo>
                      <a:pt x="1100" y="560"/>
                      <a:pt x="1105" y="545"/>
                      <a:pt x="1110" y="530"/>
                    </a:cubicBezTo>
                    <a:cubicBezTo>
                      <a:pt x="1115" y="515"/>
                      <a:pt x="1125" y="485"/>
                      <a:pt x="1125" y="485"/>
                    </a:cubicBezTo>
                    <a:cubicBezTo>
                      <a:pt x="1120" y="410"/>
                      <a:pt x="1118" y="335"/>
                      <a:pt x="1110" y="260"/>
                    </a:cubicBezTo>
                    <a:cubicBezTo>
                      <a:pt x="1099" y="165"/>
                      <a:pt x="981" y="115"/>
                      <a:pt x="900" y="95"/>
                    </a:cubicBezTo>
                    <a:cubicBezTo>
                      <a:pt x="830" y="100"/>
                      <a:pt x="758" y="93"/>
                      <a:pt x="690" y="110"/>
                    </a:cubicBezTo>
                    <a:cubicBezTo>
                      <a:pt x="636" y="123"/>
                      <a:pt x="669" y="233"/>
                      <a:pt x="675" y="245"/>
                    </a:cubicBezTo>
                    <a:cubicBezTo>
                      <a:pt x="694" y="283"/>
                      <a:pt x="734" y="275"/>
                      <a:pt x="765" y="275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>
                <a:off x="4156200" y="3019320"/>
                <a:ext cx="708120" cy="1627560"/>
              </a:xfrm>
              <a:custGeom>
                <a:avLst/>
                <a:gdLst/>
                <a:ahLst/>
                <a:rect l="l" t="t" r="r" b="b"/>
                <a:pathLst>
                  <a:path w="495" h="1185">
                    <a:moveTo>
                      <a:pt x="495" y="0"/>
                    </a:moveTo>
                    <a:cubicBezTo>
                      <a:pt x="476" y="5"/>
                      <a:pt x="412" y="19"/>
                      <a:pt x="390" y="30"/>
                    </a:cubicBezTo>
                    <a:cubicBezTo>
                      <a:pt x="307" y="71"/>
                      <a:pt x="239" y="182"/>
                      <a:pt x="210" y="270"/>
                    </a:cubicBezTo>
                    <a:cubicBezTo>
                      <a:pt x="215" y="340"/>
                      <a:pt x="216" y="410"/>
                      <a:pt x="225" y="480"/>
                    </a:cubicBezTo>
                    <a:cubicBezTo>
                      <a:pt x="235" y="551"/>
                      <a:pt x="258" y="619"/>
                      <a:pt x="270" y="690"/>
                    </a:cubicBezTo>
                    <a:cubicBezTo>
                      <a:pt x="265" y="725"/>
                      <a:pt x="268" y="762"/>
                      <a:pt x="255" y="795"/>
                    </a:cubicBezTo>
                    <a:cubicBezTo>
                      <a:pt x="242" y="828"/>
                      <a:pt x="190" y="849"/>
                      <a:pt x="165" y="870"/>
                    </a:cubicBezTo>
                    <a:cubicBezTo>
                      <a:pt x="122" y="906"/>
                      <a:pt x="119" y="916"/>
                      <a:pt x="90" y="960"/>
                    </a:cubicBezTo>
                    <a:cubicBezTo>
                      <a:pt x="76" y="1132"/>
                      <a:pt x="114" y="1128"/>
                      <a:pt x="0" y="1185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AutoShape 10"/>
              <p:cNvSpPr/>
              <p:nvPr/>
            </p:nvSpPr>
            <p:spPr>
              <a:xfrm>
                <a:off x="1143000" y="4885920"/>
                <a:ext cx="824040" cy="593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Line 11"/>
              <p:cNvSpPr/>
              <p:nvPr/>
            </p:nvSpPr>
            <p:spPr>
              <a:xfrm>
                <a:off x="2379240" y="4687920"/>
                <a:ext cx="1442160" cy="79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Line 12"/>
              <p:cNvSpPr/>
              <p:nvPr/>
            </p:nvSpPr>
            <p:spPr>
              <a:xfrm>
                <a:off x="3821400" y="4885920"/>
                <a:ext cx="267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>
                <a:off x="4971600" y="5256720"/>
                <a:ext cx="749520" cy="609480"/>
              </a:xfrm>
              <a:custGeom>
                <a:avLst/>
                <a:gdLst/>
                <a:ahLst/>
                <a:rect l="l" t="t" r="r" b="b"/>
                <a:pathLst>
                  <a:path w="524" h="444">
                    <a:moveTo>
                      <a:pt x="150" y="6"/>
                    </a:moveTo>
                    <a:cubicBezTo>
                      <a:pt x="82" y="29"/>
                      <a:pt x="65" y="76"/>
                      <a:pt x="15" y="126"/>
                    </a:cubicBezTo>
                    <a:cubicBezTo>
                      <a:pt x="10" y="141"/>
                      <a:pt x="0" y="155"/>
                      <a:pt x="0" y="171"/>
                    </a:cubicBezTo>
                    <a:cubicBezTo>
                      <a:pt x="0" y="216"/>
                      <a:pt x="8" y="261"/>
                      <a:pt x="15" y="306"/>
                    </a:cubicBezTo>
                    <a:cubicBezTo>
                      <a:pt x="18" y="322"/>
                      <a:pt x="19" y="340"/>
                      <a:pt x="30" y="351"/>
                    </a:cubicBezTo>
                    <a:cubicBezTo>
                      <a:pt x="105" y="426"/>
                      <a:pt x="186" y="427"/>
                      <a:pt x="285" y="441"/>
                    </a:cubicBezTo>
                    <a:cubicBezTo>
                      <a:pt x="355" y="436"/>
                      <a:pt x="427" y="444"/>
                      <a:pt x="495" y="426"/>
                    </a:cubicBezTo>
                    <a:cubicBezTo>
                      <a:pt x="510" y="422"/>
                      <a:pt x="510" y="397"/>
                      <a:pt x="510" y="381"/>
                    </a:cubicBezTo>
                    <a:cubicBezTo>
                      <a:pt x="510" y="296"/>
                      <a:pt x="524" y="206"/>
                      <a:pt x="495" y="126"/>
                    </a:cubicBezTo>
                    <a:cubicBezTo>
                      <a:pt x="484" y="96"/>
                      <a:pt x="435" y="106"/>
                      <a:pt x="405" y="96"/>
                    </a:cubicBezTo>
                    <a:cubicBezTo>
                      <a:pt x="388" y="90"/>
                      <a:pt x="376" y="73"/>
                      <a:pt x="360" y="66"/>
                    </a:cubicBezTo>
                    <a:cubicBezTo>
                      <a:pt x="331" y="53"/>
                      <a:pt x="296" y="54"/>
                      <a:pt x="270" y="36"/>
                    </a:cubicBezTo>
                    <a:cubicBezTo>
                      <a:pt x="255" y="26"/>
                      <a:pt x="242" y="10"/>
                      <a:pt x="225" y="6"/>
                    </a:cubicBezTo>
                    <a:cubicBezTo>
                      <a:pt x="201" y="0"/>
                      <a:pt x="175" y="6"/>
                      <a:pt x="15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AutoShape 14"/>
            <p:cNvSpPr/>
            <p:nvPr/>
          </p:nvSpPr>
          <p:spPr>
            <a:xfrm>
              <a:off x="3010320" y="4064760"/>
              <a:ext cx="587880" cy="62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Text Box 2"/>
          <p:cNvSpPr/>
          <p:nvPr/>
        </p:nvSpPr>
        <p:spPr>
          <a:xfrm>
            <a:off x="934920" y="285840"/>
            <a:ext cx="10355400" cy="14270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Пробное задание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55640" y="609480"/>
            <a:ext cx="7777080" cy="142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755640" y="2409840"/>
            <a:ext cx="7777080" cy="14270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Точки и линии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609480"/>
            <a:ext cx="7777080" cy="142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755640" y="2409840"/>
            <a:ext cx="6573960" cy="3548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знать, какие линии замкнутые, а какие линии незамкнуты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060560" y="249120"/>
            <a:ext cx="9663120" cy="1025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состоят из точе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img.1ku.ru/c81771d06501e988ca92146fab985ec5/wp-content/uploads/2019/04/1b092e3797ac7fb176a7984c2396ec98.jpg"/>
          <p:cNvPicPr/>
          <p:nvPr/>
        </p:nvPicPr>
        <p:blipFill>
          <a:blip r:embed="rId1"/>
          <a:stretch/>
        </p:blipFill>
        <p:spPr>
          <a:xfrm>
            <a:off x="1060560" y="1413000"/>
            <a:ext cx="5873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3"/>
          <p:cNvGrpSpPr/>
          <p:nvPr/>
        </p:nvGrpSpPr>
        <p:grpSpPr>
          <a:xfrm>
            <a:off x="398520" y="2928960"/>
            <a:ext cx="6962400" cy="3260520"/>
            <a:chOff x="398520" y="2928960"/>
            <a:chExt cx="6962400" cy="3260520"/>
          </a:xfrm>
        </p:grpSpPr>
        <p:grpSp>
          <p:nvGrpSpPr>
            <p:cNvPr id="64" name="Group 4"/>
            <p:cNvGrpSpPr/>
            <p:nvPr/>
          </p:nvGrpSpPr>
          <p:grpSpPr>
            <a:xfrm>
              <a:off x="398520" y="2928960"/>
              <a:ext cx="6962400" cy="3260520"/>
              <a:chOff x="398520" y="2928960"/>
              <a:chExt cx="6962400" cy="32605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98520" y="2928960"/>
                <a:ext cx="6962400" cy="3260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774360" y="3308040"/>
                <a:ext cx="1113840" cy="769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Oval 7"/>
              <p:cNvSpPr/>
              <p:nvPr/>
            </p:nvSpPr>
            <p:spPr>
              <a:xfrm>
                <a:off x="2333880" y="3308040"/>
                <a:ext cx="891000" cy="769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8"/>
              <p:cNvSpPr/>
              <p:nvPr/>
            </p:nvSpPr>
            <p:spPr>
              <a:xfrm>
                <a:off x="5286240" y="3357360"/>
                <a:ext cx="1740600" cy="1028520"/>
              </a:xfrm>
              <a:custGeom>
                <a:avLst/>
                <a:gdLst/>
                <a:ahLst/>
                <a:rect l="l" t="t" r="r" b="b"/>
                <a:pathLst>
                  <a:path w="1125" h="770">
                    <a:moveTo>
                      <a:pt x="0" y="65"/>
                    </a:moveTo>
                    <a:cubicBezTo>
                      <a:pt x="98" y="0"/>
                      <a:pt x="194" y="37"/>
                      <a:pt x="240" y="140"/>
                    </a:cubicBezTo>
                    <a:cubicBezTo>
                      <a:pt x="273" y="214"/>
                      <a:pt x="268" y="232"/>
                      <a:pt x="285" y="305"/>
                    </a:cubicBezTo>
                    <a:cubicBezTo>
                      <a:pt x="306" y="397"/>
                      <a:pt x="330" y="482"/>
                      <a:pt x="345" y="575"/>
                    </a:cubicBezTo>
                    <a:cubicBezTo>
                      <a:pt x="410" y="570"/>
                      <a:pt x="477" y="577"/>
                      <a:pt x="540" y="560"/>
                    </a:cubicBezTo>
                    <a:cubicBezTo>
                      <a:pt x="575" y="551"/>
                      <a:pt x="600" y="520"/>
                      <a:pt x="630" y="500"/>
                    </a:cubicBezTo>
                    <a:cubicBezTo>
                      <a:pt x="658" y="481"/>
                      <a:pt x="692" y="474"/>
                      <a:pt x="720" y="455"/>
                    </a:cubicBezTo>
                    <a:cubicBezTo>
                      <a:pt x="735" y="460"/>
                      <a:pt x="754" y="459"/>
                      <a:pt x="765" y="470"/>
                    </a:cubicBezTo>
                    <a:cubicBezTo>
                      <a:pt x="808" y="513"/>
                      <a:pt x="859" y="604"/>
                      <a:pt x="885" y="665"/>
                    </a:cubicBezTo>
                    <a:cubicBezTo>
                      <a:pt x="913" y="730"/>
                      <a:pt x="902" y="746"/>
                      <a:pt x="975" y="770"/>
                    </a:cubicBezTo>
                    <a:cubicBezTo>
                      <a:pt x="990" y="765"/>
                      <a:pt x="1009" y="766"/>
                      <a:pt x="1020" y="755"/>
                    </a:cubicBezTo>
                    <a:cubicBezTo>
                      <a:pt x="1031" y="744"/>
                      <a:pt x="1028" y="724"/>
                      <a:pt x="1035" y="710"/>
                    </a:cubicBezTo>
                    <a:cubicBezTo>
                      <a:pt x="1043" y="694"/>
                      <a:pt x="1058" y="681"/>
                      <a:pt x="1065" y="665"/>
                    </a:cubicBezTo>
                    <a:cubicBezTo>
                      <a:pt x="1078" y="636"/>
                      <a:pt x="1085" y="605"/>
                      <a:pt x="1095" y="575"/>
                    </a:cubicBezTo>
                    <a:cubicBezTo>
                      <a:pt x="1100" y="560"/>
                      <a:pt x="1105" y="545"/>
                      <a:pt x="1110" y="530"/>
                    </a:cubicBezTo>
                    <a:cubicBezTo>
                      <a:pt x="1115" y="515"/>
                      <a:pt x="1125" y="485"/>
                      <a:pt x="1125" y="485"/>
                    </a:cubicBezTo>
                    <a:cubicBezTo>
                      <a:pt x="1120" y="410"/>
                      <a:pt x="1118" y="335"/>
                      <a:pt x="1110" y="260"/>
                    </a:cubicBezTo>
                    <a:cubicBezTo>
                      <a:pt x="1099" y="165"/>
                      <a:pt x="981" y="115"/>
                      <a:pt x="900" y="95"/>
                    </a:cubicBezTo>
                    <a:cubicBezTo>
                      <a:pt x="830" y="100"/>
                      <a:pt x="758" y="93"/>
                      <a:pt x="690" y="110"/>
                    </a:cubicBezTo>
                    <a:cubicBezTo>
                      <a:pt x="636" y="123"/>
                      <a:pt x="669" y="233"/>
                      <a:pt x="675" y="245"/>
                    </a:cubicBezTo>
                    <a:cubicBezTo>
                      <a:pt x="694" y="283"/>
                      <a:pt x="734" y="275"/>
                      <a:pt x="765" y="275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9"/>
              <p:cNvSpPr/>
              <p:nvPr/>
            </p:nvSpPr>
            <p:spPr>
              <a:xfrm>
                <a:off x="4032720" y="3223800"/>
                <a:ext cx="765720" cy="1582920"/>
              </a:xfrm>
              <a:custGeom>
                <a:avLst/>
                <a:gdLst/>
                <a:ahLst/>
                <a:rect l="l" t="t" r="r" b="b"/>
                <a:pathLst>
                  <a:path w="495" h="1185">
                    <a:moveTo>
                      <a:pt x="495" y="0"/>
                    </a:moveTo>
                    <a:cubicBezTo>
                      <a:pt x="476" y="5"/>
                      <a:pt x="412" y="19"/>
                      <a:pt x="390" y="30"/>
                    </a:cubicBezTo>
                    <a:cubicBezTo>
                      <a:pt x="307" y="71"/>
                      <a:pt x="239" y="182"/>
                      <a:pt x="210" y="270"/>
                    </a:cubicBezTo>
                    <a:cubicBezTo>
                      <a:pt x="215" y="340"/>
                      <a:pt x="216" y="410"/>
                      <a:pt x="225" y="480"/>
                    </a:cubicBezTo>
                    <a:cubicBezTo>
                      <a:pt x="235" y="551"/>
                      <a:pt x="258" y="619"/>
                      <a:pt x="270" y="690"/>
                    </a:cubicBezTo>
                    <a:cubicBezTo>
                      <a:pt x="265" y="725"/>
                      <a:pt x="268" y="762"/>
                      <a:pt x="255" y="795"/>
                    </a:cubicBezTo>
                    <a:cubicBezTo>
                      <a:pt x="242" y="828"/>
                      <a:pt x="190" y="849"/>
                      <a:pt x="165" y="870"/>
                    </a:cubicBezTo>
                    <a:cubicBezTo>
                      <a:pt x="122" y="906"/>
                      <a:pt x="119" y="916"/>
                      <a:pt x="90" y="960"/>
                    </a:cubicBezTo>
                    <a:cubicBezTo>
                      <a:pt x="76" y="1132"/>
                      <a:pt x="114" y="1128"/>
                      <a:pt x="0" y="1185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AutoShape 10"/>
              <p:cNvSpPr/>
              <p:nvPr/>
            </p:nvSpPr>
            <p:spPr>
              <a:xfrm>
                <a:off x="774360" y="5039280"/>
                <a:ext cx="891000" cy="576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11"/>
              <p:cNvSpPr/>
              <p:nvPr/>
            </p:nvSpPr>
            <p:spPr>
              <a:xfrm>
                <a:off x="2111400" y="4846680"/>
                <a:ext cx="1559520" cy="76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12"/>
              <p:cNvSpPr/>
              <p:nvPr/>
            </p:nvSpPr>
            <p:spPr>
              <a:xfrm>
                <a:off x="3670920" y="5039280"/>
                <a:ext cx="2896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4914720" y="5400000"/>
                <a:ext cx="810720" cy="592920"/>
              </a:xfrm>
              <a:custGeom>
                <a:avLst/>
                <a:gdLst/>
                <a:ahLst/>
                <a:rect l="l" t="t" r="r" b="b"/>
                <a:pathLst>
                  <a:path w="524" h="444">
                    <a:moveTo>
                      <a:pt x="150" y="6"/>
                    </a:moveTo>
                    <a:cubicBezTo>
                      <a:pt x="82" y="29"/>
                      <a:pt x="65" y="76"/>
                      <a:pt x="15" y="126"/>
                    </a:cubicBezTo>
                    <a:cubicBezTo>
                      <a:pt x="10" y="141"/>
                      <a:pt x="0" y="155"/>
                      <a:pt x="0" y="171"/>
                    </a:cubicBezTo>
                    <a:cubicBezTo>
                      <a:pt x="0" y="216"/>
                      <a:pt x="8" y="261"/>
                      <a:pt x="15" y="306"/>
                    </a:cubicBezTo>
                    <a:cubicBezTo>
                      <a:pt x="18" y="322"/>
                      <a:pt x="19" y="340"/>
                      <a:pt x="30" y="351"/>
                    </a:cubicBezTo>
                    <a:cubicBezTo>
                      <a:pt x="105" y="426"/>
                      <a:pt x="186" y="427"/>
                      <a:pt x="285" y="441"/>
                    </a:cubicBezTo>
                    <a:cubicBezTo>
                      <a:pt x="355" y="436"/>
                      <a:pt x="427" y="444"/>
                      <a:pt x="495" y="426"/>
                    </a:cubicBezTo>
                    <a:cubicBezTo>
                      <a:pt x="510" y="422"/>
                      <a:pt x="510" y="397"/>
                      <a:pt x="510" y="381"/>
                    </a:cubicBezTo>
                    <a:cubicBezTo>
                      <a:pt x="510" y="296"/>
                      <a:pt x="524" y="206"/>
                      <a:pt x="495" y="126"/>
                    </a:cubicBezTo>
                    <a:cubicBezTo>
                      <a:pt x="484" y="96"/>
                      <a:pt x="435" y="106"/>
                      <a:pt x="405" y="96"/>
                    </a:cubicBezTo>
                    <a:cubicBezTo>
                      <a:pt x="388" y="90"/>
                      <a:pt x="376" y="73"/>
                      <a:pt x="360" y="66"/>
                    </a:cubicBezTo>
                    <a:cubicBezTo>
                      <a:pt x="331" y="53"/>
                      <a:pt x="296" y="54"/>
                      <a:pt x="270" y="36"/>
                    </a:cubicBezTo>
                    <a:cubicBezTo>
                      <a:pt x="255" y="26"/>
                      <a:pt x="242" y="10"/>
                      <a:pt x="225" y="6"/>
                    </a:cubicBezTo>
                    <a:cubicBezTo>
                      <a:pt x="201" y="0"/>
                      <a:pt x="175" y="6"/>
                      <a:pt x="15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AutoShape 14"/>
            <p:cNvSpPr/>
            <p:nvPr/>
          </p:nvSpPr>
          <p:spPr>
            <a:xfrm>
              <a:off x="2793600" y="4240440"/>
              <a:ext cx="635760" cy="60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 Box 2"/>
          <p:cNvSpPr/>
          <p:nvPr/>
        </p:nvSpPr>
        <p:spPr>
          <a:xfrm>
            <a:off x="293760" y="243000"/>
            <a:ext cx="11567880" cy="1937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иним цветом – замкнутые лини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расные – незамкнутые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10"/>
          <p:cNvGrpSpPr/>
          <p:nvPr/>
        </p:nvGrpSpPr>
        <p:grpSpPr>
          <a:xfrm>
            <a:off x="723960" y="2835360"/>
            <a:ext cx="233280" cy="579240"/>
            <a:chOff x="723960" y="2835360"/>
            <a:chExt cx="233280" cy="579240"/>
          </a:xfrm>
        </p:grpSpPr>
        <p:sp>
          <p:nvSpPr>
            <p:cNvPr id="77" name="Oval 11"/>
            <p:cNvSpPr/>
            <p:nvPr/>
          </p:nvSpPr>
          <p:spPr>
            <a:xfrm>
              <a:off x="744480" y="3241800"/>
              <a:ext cx="149400" cy="172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WordArt 14"/>
            <p:cNvSpPr txBox="1"/>
            <p:nvPr/>
          </p:nvSpPr>
          <p:spPr>
            <a:xfrm>
              <a:off x="723960" y="2835360"/>
              <a:ext cx="23328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</p:grpSp>
      <p:grpSp>
        <p:nvGrpSpPr>
          <p:cNvPr id="79" name="Group 10"/>
          <p:cNvGrpSpPr/>
          <p:nvPr/>
        </p:nvGrpSpPr>
        <p:grpSpPr>
          <a:xfrm>
            <a:off x="2657520" y="2828880"/>
            <a:ext cx="233280" cy="579240"/>
            <a:chOff x="2657520" y="2828880"/>
            <a:chExt cx="233280" cy="579240"/>
          </a:xfrm>
        </p:grpSpPr>
        <p:sp>
          <p:nvSpPr>
            <p:cNvPr id="80" name="Oval 11"/>
            <p:cNvSpPr/>
            <p:nvPr/>
          </p:nvSpPr>
          <p:spPr>
            <a:xfrm>
              <a:off x="2678040" y="3235320"/>
              <a:ext cx="149400" cy="172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WordArt 14"/>
            <p:cNvSpPr txBox="1"/>
            <p:nvPr/>
          </p:nvSpPr>
          <p:spPr>
            <a:xfrm>
              <a:off x="2657520" y="2828880"/>
              <a:ext cx="23328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</p:grpSp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4714920" y="2781360"/>
            <a:ext cx="255600" cy="590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5224320" y="2940120"/>
            <a:ext cx="257400" cy="5922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3"/>
          <a:stretch/>
        </p:blipFill>
        <p:spPr>
          <a:xfrm>
            <a:off x="3446640" y="3747960"/>
            <a:ext cx="255240" cy="590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4"/>
          <a:stretch/>
        </p:blipFill>
        <p:spPr>
          <a:xfrm>
            <a:off x="1154160" y="4559400"/>
            <a:ext cx="255600" cy="590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5"/>
          <a:stretch/>
        </p:blipFill>
        <p:spPr>
          <a:xfrm>
            <a:off x="2048040" y="4371840"/>
            <a:ext cx="255600" cy="590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"/>
          <p:cNvPicPr/>
          <p:nvPr/>
        </p:nvPicPr>
        <p:blipFill>
          <a:blip r:embed="rId6"/>
          <a:stretch/>
        </p:blipFill>
        <p:spPr>
          <a:xfrm>
            <a:off x="3624120" y="4533840"/>
            <a:ext cx="255600" cy="5922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"/>
          <p:cNvPicPr/>
          <p:nvPr/>
        </p:nvPicPr>
        <p:blipFill>
          <a:blip r:embed="rId7"/>
          <a:stretch/>
        </p:blipFill>
        <p:spPr>
          <a:xfrm>
            <a:off x="4867200" y="5186520"/>
            <a:ext cx="25560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633240" y="1484280"/>
            <a:ext cx="4404960" cy="2580840"/>
            <a:chOff x="633240" y="1484280"/>
            <a:chExt cx="4404960" cy="2580840"/>
          </a:xfrm>
        </p:grpSpPr>
        <p:sp>
          <p:nvSpPr>
            <p:cNvPr id="90" name="Rectangle 3"/>
            <p:cNvSpPr/>
            <p:nvPr/>
          </p:nvSpPr>
          <p:spPr>
            <a:xfrm>
              <a:off x="633240" y="1484280"/>
              <a:ext cx="4404960" cy="258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1312920" y="2284560"/>
              <a:ext cx="3087360" cy="1613160"/>
            </a:xfrm>
            <a:custGeom>
              <a:avLst/>
              <a:gdLst/>
              <a:ahLst/>
              <a:rect l="l" t="t" r="r" b="b"/>
              <a:pathLst>
                <a:path w="1234" h="900">
                  <a:moveTo>
                    <a:pt x="241" y="90"/>
                  </a:moveTo>
                  <a:cubicBezTo>
                    <a:pt x="309" y="67"/>
                    <a:pt x="300" y="40"/>
                    <a:pt x="361" y="0"/>
                  </a:cubicBezTo>
                  <a:cubicBezTo>
                    <a:pt x="436" y="5"/>
                    <a:pt x="512" y="3"/>
                    <a:pt x="586" y="15"/>
                  </a:cubicBezTo>
                  <a:cubicBezTo>
                    <a:pt x="633" y="23"/>
                    <a:pt x="677" y="114"/>
                    <a:pt x="691" y="135"/>
                  </a:cubicBezTo>
                  <a:cubicBezTo>
                    <a:pt x="744" y="215"/>
                    <a:pt x="934" y="243"/>
                    <a:pt x="1021" y="255"/>
                  </a:cubicBezTo>
                  <a:cubicBezTo>
                    <a:pt x="1063" y="269"/>
                    <a:pt x="1076" y="269"/>
                    <a:pt x="1111" y="300"/>
                  </a:cubicBezTo>
                  <a:cubicBezTo>
                    <a:pt x="1143" y="328"/>
                    <a:pt x="1201" y="390"/>
                    <a:pt x="1201" y="390"/>
                  </a:cubicBezTo>
                  <a:cubicBezTo>
                    <a:pt x="1211" y="420"/>
                    <a:pt x="1233" y="448"/>
                    <a:pt x="1231" y="480"/>
                  </a:cubicBezTo>
                  <a:cubicBezTo>
                    <a:pt x="1226" y="560"/>
                    <a:pt x="1234" y="642"/>
                    <a:pt x="1216" y="720"/>
                  </a:cubicBezTo>
                  <a:cubicBezTo>
                    <a:pt x="1212" y="735"/>
                    <a:pt x="1187" y="734"/>
                    <a:pt x="1171" y="735"/>
                  </a:cubicBezTo>
                  <a:cubicBezTo>
                    <a:pt x="1056" y="744"/>
                    <a:pt x="941" y="745"/>
                    <a:pt x="826" y="750"/>
                  </a:cubicBezTo>
                  <a:cubicBezTo>
                    <a:pt x="799" y="777"/>
                    <a:pt x="739" y="849"/>
                    <a:pt x="691" y="870"/>
                  </a:cubicBezTo>
                  <a:cubicBezTo>
                    <a:pt x="662" y="883"/>
                    <a:pt x="601" y="900"/>
                    <a:pt x="601" y="900"/>
                  </a:cubicBezTo>
                  <a:cubicBezTo>
                    <a:pt x="536" y="895"/>
                    <a:pt x="470" y="897"/>
                    <a:pt x="406" y="885"/>
                  </a:cubicBezTo>
                  <a:cubicBezTo>
                    <a:pt x="347" y="874"/>
                    <a:pt x="370" y="841"/>
                    <a:pt x="331" y="810"/>
                  </a:cubicBezTo>
                  <a:cubicBezTo>
                    <a:pt x="319" y="800"/>
                    <a:pt x="301" y="800"/>
                    <a:pt x="286" y="795"/>
                  </a:cubicBezTo>
                  <a:cubicBezTo>
                    <a:pt x="266" y="765"/>
                    <a:pt x="256" y="725"/>
                    <a:pt x="226" y="705"/>
                  </a:cubicBezTo>
                  <a:cubicBezTo>
                    <a:pt x="129" y="640"/>
                    <a:pt x="40" y="597"/>
                    <a:pt x="1" y="480"/>
                  </a:cubicBezTo>
                  <a:cubicBezTo>
                    <a:pt x="6" y="425"/>
                    <a:pt x="0" y="368"/>
                    <a:pt x="16" y="315"/>
                  </a:cubicBezTo>
                  <a:cubicBezTo>
                    <a:pt x="21" y="298"/>
                    <a:pt x="43" y="288"/>
                    <a:pt x="61" y="285"/>
                  </a:cubicBezTo>
                  <a:cubicBezTo>
                    <a:pt x="125" y="273"/>
                    <a:pt x="191" y="275"/>
                    <a:pt x="256" y="270"/>
                  </a:cubicBezTo>
                  <a:cubicBezTo>
                    <a:pt x="271" y="265"/>
                    <a:pt x="290" y="266"/>
                    <a:pt x="301" y="255"/>
                  </a:cubicBezTo>
                  <a:cubicBezTo>
                    <a:pt x="353" y="203"/>
                    <a:pt x="287" y="113"/>
                    <a:pt x="241" y="90"/>
                  </a:cubicBez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WordArt 5"/>
            <p:cNvSpPr txBox="1"/>
            <p:nvPr/>
          </p:nvSpPr>
          <p:spPr>
            <a:xfrm>
              <a:off x="1339560" y="1535760"/>
              <a:ext cx="302436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+mn-lt"/>
                </a:rPr>
                <a:t>Замкнута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+mn-lt"/>
                <a:ea typeface="+mn-lt"/>
              </a:endParaRPr>
            </a:p>
          </p:txBody>
        </p:sp>
      </p:grpSp>
      <p:grpSp>
        <p:nvGrpSpPr>
          <p:cNvPr id="93" name="Group 6"/>
          <p:cNvGrpSpPr/>
          <p:nvPr/>
        </p:nvGrpSpPr>
        <p:grpSpPr>
          <a:xfrm>
            <a:off x="3686040" y="4245120"/>
            <a:ext cx="3651120" cy="2234880"/>
            <a:chOff x="3686040" y="4245120"/>
            <a:chExt cx="3651120" cy="2234880"/>
          </a:xfrm>
        </p:grpSpPr>
        <p:sp>
          <p:nvSpPr>
            <p:cNvPr id="94" name="Rectangle 7"/>
            <p:cNvSpPr/>
            <p:nvPr/>
          </p:nvSpPr>
          <p:spPr>
            <a:xfrm>
              <a:off x="3686040" y="4245120"/>
              <a:ext cx="3651120" cy="22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>
              <a:off x="4090680" y="5055840"/>
              <a:ext cx="2598840" cy="1288800"/>
            </a:xfrm>
            <a:custGeom>
              <a:avLst/>
              <a:gdLst/>
              <a:ahLst/>
              <a:rect l="l" t="t" r="r" b="b"/>
              <a:pathLst>
                <a:path w="1253" h="831">
                  <a:moveTo>
                    <a:pt x="390" y="30"/>
                  </a:moveTo>
                  <a:cubicBezTo>
                    <a:pt x="233" y="44"/>
                    <a:pt x="184" y="19"/>
                    <a:pt x="135" y="165"/>
                  </a:cubicBezTo>
                  <a:cubicBezTo>
                    <a:pt x="158" y="234"/>
                    <a:pt x="194" y="299"/>
                    <a:pt x="150" y="375"/>
                  </a:cubicBezTo>
                  <a:cubicBezTo>
                    <a:pt x="132" y="406"/>
                    <a:pt x="60" y="435"/>
                    <a:pt x="60" y="435"/>
                  </a:cubicBezTo>
                  <a:cubicBezTo>
                    <a:pt x="0" y="525"/>
                    <a:pt x="11" y="550"/>
                    <a:pt x="30" y="675"/>
                  </a:cubicBezTo>
                  <a:cubicBezTo>
                    <a:pt x="32" y="691"/>
                    <a:pt x="32" y="711"/>
                    <a:pt x="45" y="720"/>
                  </a:cubicBezTo>
                  <a:cubicBezTo>
                    <a:pt x="71" y="738"/>
                    <a:pt x="109" y="732"/>
                    <a:pt x="135" y="750"/>
                  </a:cubicBezTo>
                  <a:cubicBezTo>
                    <a:pt x="150" y="760"/>
                    <a:pt x="165" y="770"/>
                    <a:pt x="180" y="780"/>
                  </a:cubicBezTo>
                  <a:cubicBezTo>
                    <a:pt x="275" y="775"/>
                    <a:pt x="372" y="784"/>
                    <a:pt x="465" y="765"/>
                  </a:cubicBezTo>
                  <a:cubicBezTo>
                    <a:pt x="500" y="758"/>
                    <a:pt x="555" y="705"/>
                    <a:pt x="555" y="705"/>
                  </a:cubicBezTo>
                  <a:cubicBezTo>
                    <a:pt x="691" y="722"/>
                    <a:pt x="801" y="749"/>
                    <a:pt x="915" y="825"/>
                  </a:cubicBezTo>
                  <a:cubicBezTo>
                    <a:pt x="1081" y="811"/>
                    <a:pt x="1089" y="831"/>
                    <a:pt x="1185" y="735"/>
                  </a:cubicBezTo>
                  <a:cubicBezTo>
                    <a:pt x="1222" y="625"/>
                    <a:pt x="1253" y="495"/>
                    <a:pt x="1140" y="420"/>
                  </a:cubicBezTo>
                  <a:cubicBezTo>
                    <a:pt x="1130" y="405"/>
                    <a:pt x="1124" y="386"/>
                    <a:pt x="1110" y="375"/>
                  </a:cubicBezTo>
                  <a:cubicBezTo>
                    <a:pt x="1083" y="354"/>
                    <a:pt x="996" y="342"/>
                    <a:pt x="960" y="330"/>
                  </a:cubicBezTo>
                  <a:cubicBezTo>
                    <a:pt x="891" y="227"/>
                    <a:pt x="911" y="274"/>
                    <a:pt x="885" y="195"/>
                  </a:cubicBezTo>
                  <a:cubicBezTo>
                    <a:pt x="916" y="101"/>
                    <a:pt x="891" y="0"/>
                    <a:pt x="78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WordArt 9"/>
            <p:cNvSpPr txBox="1"/>
            <p:nvPr/>
          </p:nvSpPr>
          <p:spPr>
            <a:xfrm>
              <a:off x="4241520" y="4313160"/>
              <a:ext cx="2506680" cy="33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+mn-lt"/>
                </a:rPr>
                <a:t>Незамкнута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+mn-lt"/>
                <a:ea typeface="+mn-lt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1614240" y="1801800"/>
            <a:ext cx="1238040" cy="630000"/>
            <a:chOff x="1614240" y="1801800"/>
            <a:chExt cx="1238040" cy="630000"/>
          </a:xfrm>
        </p:grpSpPr>
        <p:sp>
          <p:nvSpPr>
            <p:cNvPr id="98" name="Oval 11"/>
            <p:cNvSpPr/>
            <p:nvPr/>
          </p:nvSpPr>
          <p:spPr>
            <a:xfrm>
              <a:off x="2158920" y="2208240"/>
              <a:ext cx="149400" cy="172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rc 12"/>
            <p:cNvSpPr/>
            <p:nvPr/>
          </p:nvSpPr>
          <p:spPr>
            <a:xfrm flipH="1">
              <a:off x="1613880" y="2143080"/>
              <a:ext cx="502920" cy="21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rc 13"/>
            <p:cNvSpPr/>
            <p:nvPr/>
          </p:nvSpPr>
          <p:spPr>
            <a:xfrm flipH="1">
              <a:off x="2328120" y="2216160"/>
              <a:ext cx="523800" cy="215640"/>
            </a:xfrm>
            <a:custGeom>
              <a:avLst/>
              <a:gdLst/>
              <a:ahLst/>
              <a:rect l="l" t="t" r="r" b="b"/>
              <a:pathLst>
                <a:path fill="none" w="22422" h="21600">
                  <a:moveTo>
                    <a:pt x="-1" y="15604"/>
                  </a:moveTo>
                  <a:cubicBezTo>
                    <a:pt x="2669" y="6362"/>
                    <a:pt x="11130" y="0"/>
                    <a:pt x="20751" y="0"/>
                  </a:cubicBezTo>
                  <a:cubicBezTo>
                    <a:pt x="21308" y="0"/>
                    <a:pt x="21866" y="21"/>
                    <a:pt x="22422" y="64"/>
                  </a:cubicBezTo>
                </a:path>
                <a:path stroke="0" w="22422" h="21600">
                  <a:moveTo>
                    <a:pt x="-1" y="15604"/>
                  </a:moveTo>
                  <a:cubicBezTo>
                    <a:pt x="2669" y="6362"/>
                    <a:pt x="11130" y="0"/>
                    <a:pt x="20751" y="0"/>
                  </a:cubicBezTo>
                  <a:cubicBezTo>
                    <a:pt x="21308" y="0"/>
                    <a:pt x="21866" y="21"/>
                    <a:pt x="22422" y="64"/>
                  </a:cubicBezTo>
                  <a:lnTo>
                    <a:pt x="20751" y="21600"/>
                  </a:lnTo>
                  <a:lnTo>
                    <a:pt x="-1" y="15604"/>
                  </a:lnTo>
                  <a:close/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WordArt 14"/>
            <p:cNvSpPr txBox="1"/>
            <p:nvPr/>
          </p:nvSpPr>
          <p:spPr>
            <a:xfrm>
              <a:off x="2138400" y="1801800"/>
              <a:ext cx="23328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4241880" y="4645080"/>
            <a:ext cx="2107800" cy="533160"/>
            <a:chOff x="4241880" y="4645080"/>
            <a:chExt cx="2107800" cy="533160"/>
          </a:xfrm>
        </p:grpSpPr>
        <p:sp>
          <p:nvSpPr>
            <p:cNvPr id="103" name="Oval 16"/>
            <p:cNvSpPr/>
            <p:nvPr/>
          </p:nvSpPr>
          <p:spPr>
            <a:xfrm>
              <a:off x="4889520" y="5005440"/>
              <a:ext cx="149040" cy="172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5610240" y="4933800"/>
              <a:ext cx="149040" cy="173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Arc 18"/>
            <p:cNvSpPr/>
            <p:nvPr/>
          </p:nvSpPr>
          <p:spPr>
            <a:xfrm flipH="1">
              <a:off x="4241880" y="4933800"/>
              <a:ext cx="5032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rc 19"/>
            <p:cNvSpPr/>
            <p:nvPr/>
          </p:nvSpPr>
          <p:spPr>
            <a:xfrm flipH="1">
              <a:off x="5825520" y="4933800"/>
              <a:ext cx="523800" cy="216000"/>
            </a:xfrm>
            <a:custGeom>
              <a:avLst/>
              <a:gdLst/>
              <a:ahLst/>
              <a:rect l="l" t="t" r="r" b="b"/>
              <a:pathLst>
                <a:path fill="none" w="22422" h="21600">
                  <a:moveTo>
                    <a:pt x="-1" y="15604"/>
                  </a:moveTo>
                  <a:cubicBezTo>
                    <a:pt x="2669" y="6362"/>
                    <a:pt x="11130" y="0"/>
                    <a:pt x="20751" y="0"/>
                  </a:cubicBezTo>
                  <a:cubicBezTo>
                    <a:pt x="21308" y="0"/>
                    <a:pt x="21866" y="21"/>
                    <a:pt x="22422" y="64"/>
                  </a:cubicBezTo>
                </a:path>
                <a:path stroke="0" w="22422" h="21600">
                  <a:moveTo>
                    <a:pt x="-1" y="15604"/>
                  </a:moveTo>
                  <a:cubicBezTo>
                    <a:pt x="2669" y="6362"/>
                    <a:pt x="11130" y="0"/>
                    <a:pt x="20751" y="0"/>
                  </a:cubicBezTo>
                  <a:cubicBezTo>
                    <a:pt x="21308" y="0"/>
                    <a:pt x="21866" y="21"/>
                    <a:pt x="22422" y="64"/>
                  </a:cubicBezTo>
                  <a:lnTo>
                    <a:pt x="20751" y="21600"/>
                  </a:lnTo>
                  <a:lnTo>
                    <a:pt x="-1" y="15604"/>
                  </a:lnTo>
                  <a:close/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WordArt 20"/>
            <p:cNvSpPr txBox="1"/>
            <p:nvPr/>
          </p:nvSpPr>
          <p:spPr>
            <a:xfrm>
              <a:off x="4995720" y="4645080"/>
              <a:ext cx="23364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  <p:sp>
          <p:nvSpPr>
            <p:cNvPr id="108" name="WordArt 21"/>
            <p:cNvSpPr txBox="1"/>
            <p:nvPr/>
          </p:nvSpPr>
          <p:spPr>
            <a:xfrm>
              <a:off x="5373720" y="4660920"/>
              <a:ext cx="19368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109" name="Text Box 2"/>
          <p:cNvSpPr/>
          <p:nvPr/>
        </p:nvSpPr>
        <p:spPr>
          <a:xfrm>
            <a:off x="631800" y="176040"/>
            <a:ext cx="11228400" cy="1060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амкнутая и незамкнутая лин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93760" y="243000"/>
            <a:ext cx="11567880" cy="1937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иним цветом – замкнутые фигур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расные – незамкнутые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442800" y="2960640"/>
            <a:ext cx="6964200" cy="3260520"/>
            <a:chOff x="442800" y="2960640"/>
            <a:chExt cx="6964200" cy="3260520"/>
          </a:xfrm>
        </p:grpSpPr>
        <p:grpSp>
          <p:nvGrpSpPr>
            <p:cNvPr id="112" name="Group 4"/>
            <p:cNvGrpSpPr/>
            <p:nvPr/>
          </p:nvGrpSpPr>
          <p:grpSpPr>
            <a:xfrm>
              <a:off x="442800" y="2960640"/>
              <a:ext cx="6964200" cy="3260520"/>
              <a:chOff x="442800" y="2960640"/>
              <a:chExt cx="6964200" cy="3260520"/>
            </a:xfrm>
          </p:grpSpPr>
          <p:sp>
            <p:nvSpPr>
              <p:cNvPr id="113" name="Rectangle 5"/>
              <p:cNvSpPr/>
              <p:nvPr/>
            </p:nvSpPr>
            <p:spPr>
              <a:xfrm>
                <a:off x="442800" y="2960640"/>
                <a:ext cx="6964200" cy="3260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Rectangle 6"/>
              <p:cNvSpPr/>
              <p:nvPr/>
            </p:nvSpPr>
            <p:spPr>
              <a:xfrm>
                <a:off x="819000" y="3339720"/>
                <a:ext cx="1114200" cy="769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val 7"/>
              <p:cNvSpPr/>
              <p:nvPr/>
            </p:nvSpPr>
            <p:spPr>
              <a:xfrm>
                <a:off x="2378880" y="3339720"/>
                <a:ext cx="891360" cy="769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5331600" y="3389040"/>
                <a:ext cx="1740960" cy="1028520"/>
              </a:xfrm>
              <a:custGeom>
                <a:avLst/>
                <a:gdLst/>
                <a:ahLst/>
                <a:rect l="l" t="t" r="r" b="b"/>
                <a:pathLst>
                  <a:path w="1125" h="770">
                    <a:moveTo>
                      <a:pt x="0" y="65"/>
                    </a:moveTo>
                    <a:cubicBezTo>
                      <a:pt x="98" y="0"/>
                      <a:pt x="194" y="37"/>
                      <a:pt x="240" y="140"/>
                    </a:cubicBezTo>
                    <a:cubicBezTo>
                      <a:pt x="273" y="214"/>
                      <a:pt x="268" y="232"/>
                      <a:pt x="285" y="305"/>
                    </a:cubicBezTo>
                    <a:cubicBezTo>
                      <a:pt x="306" y="397"/>
                      <a:pt x="330" y="482"/>
                      <a:pt x="345" y="575"/>
                    </a:cubicBezTo>
                    <a:cubicBezTo>
                      <a:pt x="410" y="570"/>
                      <a:pt x="477" y="577"/>
                      <a:pt x="540" y="560"/>
                    </a:cubicBezTo>
                    <a:cubicBezTo>
                      <a:pt x="575" y="551"/>
                      <a:pt x="600" y="520"/>
                      <a:pt x="630" y="500"/>
                    </a:cubicBezTo>
                    <a:cubicBezTo>
                      <a:pt x="658" y="481"/>
                      <a:pt x="692" y="474"/>
                      <a:pt x="720" y="455"/>
                    </a:cubicBezTo>
                    <a:cubicBezTo>
                      <a:pt x="735" y="460"/>
                      <a:pt x="754" y="459"/>
                      <a:pt x="765" y="470"/>
                    </a:cubicBezTo>
                    <a:cubicBezTo>
                      <a:pt x="808" y="513"/>
                      <a:pt x="859" y="604"/>
                      <a:pt x="885" y="665"/>
                    </a:cubicBezTo>
                    <a:cubicBezTo>
                      <a:pt x="913" y="730"/>
                      <a:pt x="902" y="746"/>
                      <a:pt x="975" y="770"/>
                    </a:cubicBezTo>
                    <a:cubicBezTo>
                      <a:pt x="990" y="765"/>
                      <a:pt x="1009" y="766"/>
                      <a:pt x="1020" y="755"/>
                    </a:cubicBezTo>
                    <a:cubicBezTo>
                      <a:pt x="1031" y="744"/>
                      <a:pt x="1028" y="724"/>
                      <a:pt x="1035" y="710"/>
                    </a:cubicBezTo>
                    <a:cubicBezTo>
                      <a:pt x="1043" y="694"/>
                      <a:pt x="1058" y="681"/>
                      <a:pt x="1065" y="665"/>
                    </a:cubicBezTo>
                    <a:cubicBezTo>
                      <a:pt x="1078" y="636"/>
                      <a:pt x="1085" y="605"/>
                      <a:pt x="1095" y="575"/>
                    </a:cubicBezTo>
                    <a:cubicBezTo>
                      <a:pt x="1100" y="560"/>
                      <a:pt x="1105" y="545"/>
                      <a:pt x="1110" y="530"/>
                    </a:cubicBezTo>
                    <a:cubicBezTo>
                      <a:pt x="1115" y="515"/>
                      <a:pt x="1125" y="485"/>
                      <a:pt x="1125" y="485"/>
                    </a:cubicBezTo>
                    <a:cubicBezTo>
                      <a:pt x="1120" y="410"/>
                      <a:pt x="1118" y="335"/>
                      <a:pt x="1110" y="260"/>
                    </a:cubicBezTo>
                    <a:cubicBezTo>
                      <a:pt x="1099" y="165"/>
                      <a:pt x="981" y="115"/>
                      <a:pt x="900" y="95"/>
                    </a:cubicBezTo>
                    <a:cubicBezTo>
                      <a:pt x="830" y="100"/>
                      <a:pt x="758" y="93"/>
                      <a:pt x="690" y="110"/>
                    </a:cubicBezTo>
                    <a:cubicBezTo>
                      <a:pt x="636" y="123"/>
                      <a:pt x="669" y="233"/>
                      <a:pt x="675" y="245"/>
                    </a:cubicBezTo>
                    <a:cubicBezTo>
                      <a:pt x="694" y="283"/>
                      <a:pt x="734" y="275"/>
                      <a:pt x="765" y="275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4078080" y="3255480"/>
                <a:ext cx="766080" cy="1582920"/>
              </a:xfrm>
              <a:custGeom>
                <a:avLst/>
                <a:gdLst/>
                <a:ahLst/>
                <a:rect l="l" t="t" r="r" b="b"/>
                <a:pathLst>
                  <a:path w="495" h="1185">
                    <a:moveTo>
                      <a:pt x="495" y="0"/>
                    </a:moveTo>
                    <a:cubicBezTo>
                      <a:pt x="476" y="5"/>
                      <a:pt x="412" y="19"/>
                      <a:pt x="390" y="30"/>
                    </a:cubicBezTo>
                    <a:cubicBezTo>
                      <a:pt x="307" y="71"/>
                      <a:pt x="239" y="182"/>
                      <a:pt x="210" y="270"/>
                    </a:cubicBezTo>
                    <a:cubicBezTo>
                      <a:pt x="215" y="340"/>
                      <a:pt x="216" y="410"/>
                      <a:pt x="225" y="480"/>
                    </a:cubicBezTo>
                    <a:cubicBezTo>
                      <a:pt x="235" y="551"/>
                      <a:pt x="258" y="619"/>
                      <a:pt x="270" y="690"/>
                    </a:cubicBezTo>
                    <a:cubicBezTo>
                      <a:pt x="265" y="725"/>
                      <a:pt x="268" y="762"/>
                      <a:pt x="255" y="795"/>
                    </a:cubicBezTo>
                    <a:cubicBezTo>
                      <a:pt x="242" y="828"/>
                      <a:pt x="190" y="849"/>
                      <a:pt x="165" y="870"/>
                    </a:cubicBezTo>
                    <a:cubicBezTo>
                      <a:pt x="122" y="906"/>
                      <a:pt x="119" y="916"/>
                      <a:pt x="90" y="960"/>
                    </a:cubicBezTo>
                    <a:cubicBezTo>
                      <a:pt x="76" y="1132"/>
                      <a:pt x="114" y="1128"/>
                      <a:pt x="0" y="1185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>
                <a:off x="819000" y="5070960"/>
                <a:ext cx="891360" cy="576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1"/>
              <p:cNvSpPr/>
              <p:nvPr/>
            </p:nvSpPr>
            <p:spPr>
              <a:xfrm>
                <a:off x="2156040" y="4878360"/>
                <a:ext cx="1559880" cy="76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2"/>
              <p:cNvSpPr/>
              <p:nvPr/>
            </p:nvSpPr>
            <p:spPr>
              <a:xfrm>
                <a:off x="3715920" y="5070960"/>
                <a:ext cx="2896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4960080" y="5431680"/>
                <a:ext cx="810720" cy="592920"/>
              </a:xfrm>
              <a:custGeom>
                <a:avLst/>
                <a:gdLst/>
                <a:ahLst/>
                <a:rect l="l" t="t" r="r" b="b"/>
                <a:pathLst>
                  <a:path w="524" h="444">
                    <a:moveTo>
                      <a:pt x="150" y="6"/>
                    </a:moveTo>
                    <a:cubicBezTo>
                      <a:pt x="82" y="29"/>
                      <a:pt x="65" y="76"/>
                      <a:pt x="15" y="126"/>
                    </a:cubicBezTo>
                    <a:cubicBezTo>
                      <a:pt x="10" y="141"/>
                      <a:pt x="0" y="155"/>
                      <a:pt x="0" y="171"/>
                    </a:cubicBezTo>
                    <a:cubicBezTo>
                      <a:pt x="0" y="216"/>
                      <a:pt x="8" y="261"/>
                      <a:pt x="15" y="306"/>
                    </a:cubicBezTo>
                    <a:cubicBezTo>
                      <a:pt x="18" y="322"/>
                      <a:pt x="19" y="340"/>
                      <a:pt x="30" y="351"/>
                    </a:cubicBezTo>
                    <a:cubicBezTo>
                      <a:pt x="105" y="426"/>
                      <a:pt x="186" y="427"/>
                      <a:pt x="285" y="441"/>
                    </a:cubicBezTo>
                    <a:cubicBezTo>
                      <a:pt x="355" y="436"/>
                      <a:pt x="427" y="444"/>
                      <a:pt x="495" y="426"/>
                    </a:cubicBezTo>
                    <a:cubicBezTo>
                      <a:pt x="510" y="422"/>
                      <a:pt x="510" y="397"/>
                      <a:pt x="510" y="381"/>
                    </a:cubicBezTo>
                    <a:cubicBezTo>
                      <a:pt x="510" y="296"/>
                      <a:pt x="524" y="206"/>
                      <a:pt x="495" y="126"/>
                    </a:cubicBezTo>
                    <a:cubicBezTo>
                      <a:pt x="484" y="96"/>
                      <a:pt x="435" y="106"/>
                      <a:pt x="405" y="96"/>
                    </a:cubicBezTo>
                    <a:cubicBezTo>
                      <a:pt x="388" y="90"/>
                      <a:pt x="376" y="73"/>
                      <a:pt x="360" y="66"/>
                    </a:cubicBezTo>
                    <a:cubicBezTo>
                      <a:pt x="331" y="53"/>
                      <a:pt x="296" y="54"/>
                      <a:pt x="270" y="36"/>
                    </a:cubicBezTo>
                    <a:cubicBezTo>
                      <a:pt x="255" y="26"/>
                      <a:pt x="242" y="10"/>
                      <a:pt x="225" y="6"/>
                    </a:cubicBezTo>
                    <a:cubicBezTo>
                      <a:pt x="201" y="0"/>
                      <a:pt x="175" y="6"/>
                      <a:pt x="15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AutoShape 14"/>
            <p:cNvSpPr/>
            <p:nvPr/>
          </p:nvSpPr>
          <p:spPr>
            <a:xfrm>
              <a:off x="2838600" y="4272120"/>
              <a:ext cx="635760" cy="60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10"/>
          <p:cNvGrpSpPr/>
          <p:nvPr/>
        </p:nvGrpSpPr>
        <p:grpSpPr>
          <a:xfrm>
            <a:off x="723960" y="2835360"/>
            <a:ext cx="233280" cy="579240"/>
            <a:chOff x="723960" y="2835360"/>
            <a:chExt cx="233280" cy="579240"/>
          </a:xfrm>
        </p:grpSpPr>
        <p:sp>
          <p:nvSpPr>
            <p:cNvPr id="124" name="Oval 11"/>
            <p:cNvSpPr/>
            <p:nvPr/>
          </p:nvSpPr>
          <p:spPr>
            <a:xfrm>
              <a:off x="744480" y="3241800"/>
              <a:ext cx="149400" cy="172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WordArt 14"/>
            <p:cNvSpPr txBox="1"/>
            <p:nvPr/>
          </p:nvSpPr>
          <p:spPr>
            <a:xfrm>
              <a:off x="723960" y="2835360"/>
              <a:ext cx="23328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</p:grpSp>
      <p:grpSp>
        <p:nvGrpSpPr>
          <p:cNvPr id="126" name="Group 10"/>
          <p:cNvGrpSpPr/>
          <p:nvPr/>
        </p:nvGrpSpPr>
        <p:grpSpPr>
          <a:xfrm>
            <a:off x="2741760" y="2828880"/>
            <a:ext cx="233280" cy="579240"/>
            <a:chOff x="2741760" y="2828880"/>
            <a:chExt cx="233280" cy="579240"/>
          </a:xfrm>
        </p:grpSpPr>
        <p:sp>
          <p:nvSpPr>
            <p:cNvPr id="127" name="Oval 11"/>
            <p:cNvSpPr/>
            <p:nvPr/>
          </p:nvSpPr>
          <p:spPr>
            <a:xfrm>
              <a:off x="2762280" y="3235320"/>
              <a:ext cx="149400" cy="172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WordArt 14"/>
            <p:cNvSpPr txBox="1"/>
            <p:nvPr/>
          </p:nvSpPr>
          <p:spPr>
            <a:xfrm>
              <a:off x="2741760" y="2828880"/>
              <a:ext cx="23328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66"/>
                  </a:solidFill>
                  <a:latin typeface="+mn-lt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+mn-lt"/>
                <a:ea typeface="+mn-lt"/>
              </a:endParaRPr>
            </a:p>
          </p:txBody>
        </p:sp>
      </p:grpSp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4714920" y="2781360"/>
            <a:ext cx="255600" cy="590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"/>
          <p:cNvPicPr/>
          <p:nvPr/>
        </p:nvPicPr>
        <p:blipFill>
          <a:blip r:embed="rId2"/>
          <a:stretch/>
        </p:blipFill>
        <p:spPr>
          <a:xfrm>
            <a:off x="5224320" y="2940120"/>
            <a:ext cx="25740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"/>
          <p:cNvPicPr/>
          <p:nvPr/>
        </p:nvPicPr>
        <p:blipFill>
          <a:blip r:embed="rId3"/>
          <a:stretch/>
        </p:blipFill>
        <p:spPr>
          <a:xfrm>
            <a:off x="3446640" y="3747960"/>
            <a:ext cx="255240" cy="590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4"/>
          <a:stretch/>
        </p:blipFill>
        <p:spPr>
          <a:xfrm>
            <a:off x="1154160" y="4559400"/>
            <a:ext cx="255600" cy="5904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"/>
          <p:cNvPicPr/>
          <p:nvPr/>
        </p:nvPicPr>
        <p:blipFill>
          <a:blip r:embed="rId5"/>
          <a:stretch/>
        </p:blipFill>
        <p:spPr>
          <a:xfrm>
            <a:off x="2048040" y="4371840"/>
            <a:ext cx="255600" cy="5907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"/>
          <p:cNvPicPr/>
          <p:nvPr/>
        </p:nvPicPr>
        <p:blipFill>
          <a:blip r:embed="rId6"/>
          <a:stretch/>
        </p:blipFill>
        <p:spPr>
          <a:xfrm>
            <a:off x="3624120" y="4533840"/>
            <a:ext cx="255600" cy="592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7"/>
          <a:stretch/>
        </p:blipFill>
        <p:spPr>
          <a:xfrm>
            <a:off x="4867200" y="5186520"/>
            <a:ext cx="25560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6:08:49Z</dcterms:created>
  <dc:creator>111</dc:creator>
  <dc:description/>
  <dc:language>en-US</dc:language>
  <cp:lastModifiedBy>Ксения</cp:lastModifiedBy>
  <dcterms:modified xsi:type="dcterms:W3CDTF">2022-11-05T13:51:27Z</dcterms:modified>
  <cp:revision>27</cp:revision>
  <dc:subject/>
  <dc:title>Слайд 1</dc:title>
</cp:coreProperties>
</file>