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A2D32-4BD3-4709-A6AD-70F1A8B83C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96719-C7C0-4F9C-A213-42A1E2FBF5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C531D-CC2E-4D34-825C-F746DE5A0A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29C1B-631F-452E-A8DB-B1C48AFC1A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06ED6-0E25-483A-AD35-D820429003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F6657-A556-451A-8E57-7E0DC1FC1E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82AD9-2B00-4765-9DC0-B3DE5C13AE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5681F-7346-458F-B8CB-CEB1F24809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B59AE-927A-4891-A857-C70B595531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6C96C-12F6-4DF7-9474-304039D424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09FDA-467A-4221-BE81-3EDBD8193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C05A3-8083-4C3D-BA7F-651F8DD5C5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9682E-8A18-4F52-8B4C-2B7FFF3F6A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4FF5D-D1BD-4A76-87D1-EABAC185A1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ED457-13B3-4A7D-8D36-940D8CCEE7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4F992-62EA-40D2-BC6D-737AD8E260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63D18-A744-406B-B2A4-2E01E5E145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678A6-8385-4474-91E7-1D40034FAB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8B858-6263-4BC7-9232-49E1E5FD5C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2FED5-5107-4FB0-B21E-376AEB8367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5293-C8A4-40B6-95B7-CAD6837BA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9725-BD4B-4620-9C26-DFCE1A0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DC6C4-CA4A-4B21-82DE-5F16A474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87E90-9E87-4C48-9044-C6267BEF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28E36-57A8-43FE-A85D-7E8E24EE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CEB8-C3B1-49D1-A95D-22F5C9E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85390-12FD-42E9-9607-A8D2EA9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0BD7-0B74-4DA2-94E6-371793B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B8892-20C3-4D35-8706-5D7985E2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9B167-33E9-479B-9242-217266E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70993-E649-43C4-8E9D-4A58798BA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60C2-2D28-4F9E-8ACD-D779715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B15A-F442-4191-AF25-D1AE0F73DF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995CF-E554-44FB-AEC2-79E36549EF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96C08-C610-4174-87E7-62185736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C3C1-3A48-4C73-B873-008D1E98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EBEB-2621-4791-BE2F-193BDB3B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A784B-48EC-451C-B29A-07309F26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B7319-5965-4BA5-B0A2-5EDF1A7F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E978E-8DD6-4052-B021-3AB6909F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3572-36FA-4EBF-A8D5-6BDC973E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B0EA4-F464-43DA-A919-89D36C0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9D1B7-64A0-48CA-A659-C9C3A977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2DC89-810B-4A24-AAFB-43B5CE6B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5A3B9-28B4-4DFB-A128-B551743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46D32-A730-46AE-8D6A-210A1CAFD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983-D2F4-4607-854B-8E5BC43E2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8A81-161F-4065-AD4E-96974F5D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E734-EE85-4354-BF16-8EF85E5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6C34-2465-4010-93B4-338D5728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0DB0-E5A0-4EEB-BB34-A219C37C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70DA-BA57-4659-B3E1-9CACE1EC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F0CE-2CD0-4A4F-8DD3-2E992048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AB3B-F467-4529-9106-0FCBA06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302C-4F87-4632-8F73-596B6D52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2956-8AE9-49B0-8DC0-CC2B936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FFEF-890E-4699-B4B2-FBEB40FF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756D-ACC6-40B5-BA8A-20BED23B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9A8C-E957-44C4-8783-EC71DBAE9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9A801-32EA-459D-AED2-6DDE53C0E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0D34B-3A3C-4859-9BCE-7D03D10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48D16-93F2-49A0-A7D2-EFB9C0C1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0A03-CC95-42D0-9018-39EE7932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AC616-CC1A-4EA8-957C-1A462624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A8FBB-5968-4A1B-94DC-82EDDDF7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A261A-684B-48F5-9BD0-94145476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76F61-4BBA-47D7-AB1C-AAFF0425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C1255-E3F9-451E-AEC1-2561A6C0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EB478-A0E6-412C-99BA-4E851685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B4105-741D-43D6-B6E3-CF6662B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6DCFC-D354-4D97-B0D4-09098A8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6E228-C150-4044-AEA2-617EA1101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9DC78-F0E4-4674-A341-E7DD7B0DE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062F-068C-41A4-AE07-1E5A0415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59025-9E9C-423E-B03A-994442C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81E0A-7F92-4981-9D00-357ACA5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18B01-72B3-478C-B6E7-74AB37F7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807B8-541E-4DC4-989E-A3D565A1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8A7F6-FD82-44B9-B434-9C14BBB0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4776C-BFCE-43DE-A5B9-564809A4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1DF2C-D33D-4AE3-A7DE-0108D91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C34B20-5F3B-44F3-ACC7-098383CE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EACCA-18EA-4890-9B14-E92DCFD6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E0910-48CF-4CF0-8512-78107A21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7E94-A204-4A0B-82BD-5597FB4D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683B3-6E66-47CB-B063-B5761DB4D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062A-5520-4AAD-A7C8-426C2D7C5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8DCB-A214-41B5-9BC7-327CCB1B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77F9-D4FA-4067-A15A-AC27C410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EC3A-608A-47A1-81DC-713710AB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0661-3C1E-4810-83D8-52107287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3FAF-6C27-4DAD-B524-3A39285C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EABC-46AC-4724-9905-5BCBBF8F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A7B9-71E6-4ADB-B9A9-101ED280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F9AA-4EAB-4D54-9796-2DFCD31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5EC3-3FCB-4007-A0A3-61627B55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4021-73B2-464C-81F9-89F498EF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178C-D9A1-4E7A-B9CD-A46B9EC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38011-DC00-4E72-9EA5-6A56F23415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78814-02DD-4691-B76B-421B49943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45E8A-0FF9-4DE7-8436-FF98F43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002E2-CD3D-428F-AC5D-9380DC77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F74F3-9195-43F9-8936-079F345C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801CC-E1FE-4625-9638-8D65156B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6CFD9-1CD6-4133-A4D6-E71A78F6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92CEB-0012-45AF-B5B3-1ADF9438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F5DC-2078-4470-9442-7958FA02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93E7F-30C8-4BC3-87DC-BF086E37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D6003-F547-4BEE-98A8-72520F0D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3E2E3-8A4B-441C-A533-8E3343DF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BA187-CED8-4A4A-A05D-AE8DDB0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98218-5825-4391-862F-333D10E41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60505C-0AC1-420D-A1A1-C368491C93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F5D29-D73E-42D1-9681-AC7FECF9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9BA426-BDCA-4116-A6DF-F7168834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67EE7-0E2C-4E1D-809D-DF992C5A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C46150-592F-40B9-BE54-2B99AC38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8F74-271A-4227-9FB9-6594BBC1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6346800" cy="61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3FDB4-B7A0-46DE-9C1B-940868D1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12B83-7DAD-4A86-BBA3-CB0C655D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E56729-5ABF-4B1A-8586-1C1F4A0A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0B0FC2-A631-4DDE-8571-BAB014B3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09480" y="4186800"/>
            <a:ext cx="634680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AC815-6572-47BF-AF0A-1BFD9E41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861720" y="216036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861720" y="4186800"/>
            <a:ext cx="309708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6DC24F-9485-4E14-A19C-7A111033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275544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01400" y="216036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0948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275544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4901400" y="4186800"/>
            <a:ext cx="2043360" cy="18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C9D6E-3C63-45D9-960A-A2FE6DBABE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F869A-D20E-4917-B890-91D9C04B1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39592-203D-4DEA-A7BC-9C83116F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8237-C447-4ECA-85B4-A777F0B9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1" name=""/>
            <p:cNvSpPr/>
            <p:nvPr/>
          </p:nvSpPr>
          <p:spPr>
            <a:xfrm>
              <a:off x="-7920" y="4013280"/>
              <a:ext cx="455400" cy="285120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1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29DB7-C8FF-448C-824E-D154D9BBAEC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53" name=""/>
            <p:cNvSpPr/>
            <p:nvPr/>
          </p:nvSpPr>
          <p:spPr>
            <a:xfrm>
              <a:off x="-7920" y="4013280"/>
              <a:ext cx="455400" cy="285120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9.11.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AFCC22-6C88-441F-9EC1-D9D5654D1D5F}" type="slidenum">
              <a: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105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-7920" y="-7920"/>
              <a:ext cx="861480" cy="56959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5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9.11.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C6C523-212C-4D9F-8DAE-C35A48EACE0E}" type="slidenum">
              <a: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157" name=""/>
            <p:cNvSpPr/>
            <p:nvPr/>
          </p:nvSpPr>
          <p:spPr>
            <a:xfrm>
              <a:off x="-7920" y="4013280"/>
              <a:ext cx="455400" cy="285120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9.11.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EBDB24-43F9-48DD-A1B3-9FA9624563B3}" type="slidenum">
              <a: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211" name=""/>
            <p:cNvSpPr/>
            <p:nvPr/>
          </p:nvSpPr>
          <p:spPr>
            <a:xfrm>
              <a:off x="-7920" y="4013280"/>
              <a:ext cx="455400" cy="285120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9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9.11.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0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18FEEF-4350-4D74-B323-2556F52E5A6E}" type="slidenum">
              <a: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265" name=""/>
            <p:cNvSpPr/>
            <p:nvPr/>
          </p:nvSpPr>
          <p:spPr>
            <a:xfrm>
              <a:off x="-7920" y="4013280"/>
              <a:ext cx="455400" cy="285120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1"/>
          </p:nvPr>
        </p:nvSpPr>
        <p:spPr>
          <a:xfrm>
            <a:off x="6705360" y="4206600"/>
            <a:ext cx="957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9.11.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2"/>
          </p:nvPr>
        </p:nvSpPr>
        <p:spPr>
          <a:xfrm>
            <a:off x="8319600" y="1440"/>
            <a:ext cx="7448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9B1A90C-AFB2-4A74-8A5E-E8146FE8FE98}" type="slidenum">
              <a: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316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-7920" y="-7920"/>
              <a:ext cx="861480" cy="56959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3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9.11.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4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B6D0ED-947F-4232-9C39-CDC7FBDDB6BC}" type="slidenum">
              <a: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368" name=""/>
            <p:cNvSpPr/>
            <p:nvPr/>
          </p:nvSpPr>
          <p:spPr>
            <a:xfrm>
              <a:off x="-7920" y="4013280"/>
              <a:ext cx="455400" cy="285120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5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9.11.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6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7BB95A-99CF-426E-8281-EE38988E9F6D}" type="slidenum">
              <a: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7920" y="-7920"/>
            <a:ext cx="9167400" cy="6872400"/>
            <a:chOff x="-7920" y="-7920"/>
            <a:chExt cx="9167400" cy="6872400"/>
          </a:xfrm>
        </p:grpSpPr>
        <p:sp>
          <p:nvSpPr>
            <p:cNvPr id="422" name=""/>
            <p:cNvSpPr/>
            <p:nvPr/>
          </p:nvSpPr>
          <p:spPr>
            <a:xfrm>
              <a:off x="-7920" y="4013280"/>
              <a:ext cx="455400" cy="285120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129640" y="4175280"/>
              <a:ext cx="402012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42320" y="0"/>
              <a:ext cx="1217160" cy="685476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91480" y="0"/>
              <a:ext cx="2268000" cy="6864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4320" y="-7920"/>
              <a:ext cx="1945440" cy="6864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37320" y="3919680"/>
              <a:ext cx="2511000" cy="293508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08840" y="-7920"/>
              <a:ext cx="2140920" cy="6864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294400" y="-7920"/>
              <a:ext cx="855360" cy="6864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75520" y="-7920"/>
              <a:ext cx="1064880" cy="6864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59680" y="4894200"/>
              <a:ext cx="1091520" cy="196236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346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09480" y="216036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7"/>
          </p:nvPr>
        </p:nvSpPr>
        <p:spPr>
          <a:xfrm>
            <a:off x="5405400" y="6041880"/>
            <a:ext cx="682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9.11.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18"/>
          </p:nvPr>
        </p:nvSpPr>
        <p:spPr>
          <a:xfrm>
            <a:off x="6445080" y="6041880"/>
            <a:ext cx="51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2EC423-2D46-43A0-9551-7412DA1BD23D}" type="slidenum">
              <a:rPr b="0" lang="ru-RU" sz="900" spc="-1" strike="noStrike">
                <a:solidFill>
                  <a:srgbClr val="90c226"/>
                </a:solidFill>
                <a:latin typeface="Times New Roman"/>
                <a:ea typeface="Arial Unicode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28760" y="164304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44d26"/>
                </a:solidFill>
                <a:latin typeface="Trebuchet MS"/>
              </a:rPr>
              <a:t>ВПР по английскому язы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2520" y="2781360"/>
            <a:ext cx="8408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Структура ВПР по английскому языку в 7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360" y="5099040"/>
            <a:ext cx="9074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44d26"/>
                </a:solidFill>
                <a:latin typeface="Trebuchet MS"/>
                <a:ea typeface="Arial Unicode MS"/>
              </a:rPr>
              <a:t>Выполнил: учител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44d26"/>
                </a:solidFill>
                <a:latin typeface="Trebuchet MS"/>
                <a:ea typeface="Arial Unicode MS"/>
              </a:rPr>
              <a:t>иностранных язык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44d26"/>
                </a:solidFill>
                <a:latin typeface="Trebuchet MS"/>
                <a:ea typeface="Arial Unicode MS"/>
              </a:rPr>
              <a:t>Базарова Б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57200" y="1143000"/>
            <a:ext cx="8229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Ч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ановление соответствия между текстами и те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57200" y="1143000"/>
            <a:ext cx="8229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Грам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н текст с пропусками. Для каждого пропуска нужно выбрать верную грамматическую форму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57200" y="1143000"/>
            <a:ext cx="8229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Лекс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н текст с пропусками. Для каждого пропуска нужно выбрать слово, подходящее по с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57200" y="1143000"/>
            <a:ext cx="8229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57200" y="1143000"/>
            <a:ext cx="8229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4400" y="115920"/>
            <a:ext cx="82296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38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задании 1 по аудированию участник получает 1 балл за каждое правильно установленное соответствие. Максимум за успешное выполнение задания 1 – 5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дания 2 и 3 оцениваются с учетом правильности и полноты ответа в соответствии с критериями. Максимум за успешное выполнение задания 2 – 2 балла. Максимум за успешное выполнение задания 3 – 8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08000" y="692280"/>
            <a:ext cx="822960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В заданиях 4 (чтение с пониманием основного содержания текста), 5 (употребление грамматических форм в связном тексте) и 6 (употребление лексических единиц в связном тексте) участник получает 1 балл за каждый правильно выбранный ответ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Максимум за успешное выполнение задания 4 – 5 баллов, задания 5 – 5 баллов, задания 6 – 5 баллов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Максимальный первичный балл за верное выполнение всей работы – 30 балл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4040" y="121932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аждый вариант проверочной работы включает 6 заданий и состоит из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двух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частей: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исьменной и уст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 выполнение работы дается 45 мину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500040" y="6429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Письменная часть В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исьменная часть содержит задания по аудированию, чтению, грамматике и лекс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28760" y="6429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Устная часть В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стная часть включает в себя задания по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чтению текста вслух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 по г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оворению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(монологическая речь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Ауд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беседа или высказывание в распространённых стандартных ситуациях повседневного общения. Длительность звучания текста не более 1,5 минут. Текст предъявляется дваж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57200" y="1143000"/>
            <a:ext cx="8229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49320" y="571680"/>
            <a:ext cx="909468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Ч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большие сообщения, сказки, диалоги на бытовые темы, несложные рассказы. Объем текстов – до 300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57200" y="1143000"/>
            <a:ext cx="8229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Монологическая ре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e7bc29"/>
              </a:buClr>
              <a:buFont typeface="Georgia"/>
              <a:buChar char="•"/>
              <a:tabLst>
                <a:tab algn="l" pos="3636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исание по плану одной из трех предложенных фотографий(устная речь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элигма Дамдинова</cp:lastModifiedBy>
  <dcterms:modified xsi:type="dcterms:W3CDTF">2022-11-08T16:59:55Z</dcterms:modified>
  <cp:revision>1</cp:revision>
  <dc:subject/>
  <dc:title>ВПР по английскому языку</dc:title>
</cp:coreProperties>
</file>