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E44-AB7A-474E-AC86-71F58ED8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09D-CE8B-49B8-8754-9BC00DC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D66B-697E-4E29-8094-F8F03BC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9C459-FFA9-4C70-BC60-EF631E9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F891D-7D94-4EA5-A634-DA2F88B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4C84-89F2-4CB1-9B66-ED9861E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3E50C-14D7-47EA-A94E-E789EE84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09468-B753-4462-A1A2-D436156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6AC8-0B90-401C-888E-E2A540CE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5F1C6-594F-4567-AB8B-4DC96B03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71B5B-4B50-428B-BCA9-436C3E84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EC0E0-FED1-4D60-9343-1F427393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7E7-593F-4393-A5C0-2F107FFB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65FD8-D0F7-4A4E-B6BF-7303BEE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6DCB4-A80E-4909-8782-6C44A498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9F4E2-E14E-47F4-9A7E-1B7EC0D3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C3DBB-2F4F-4E9E-9D67-BEBBF60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9FAAD-8812-446B-9302-E347A0D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BE7DA-098F-4017-B420-CC39EA49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9763A-FDC1-443B-930D-F56EB8B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11E54-2B46-47B6-99D7-A9F31D7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F3B4B-7410-44A8-8C37-40C70A76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7367D-BED2-4B18-A8C5-75DD74DE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37E-BD03-4E26-AAC6-A30E0F03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7690-23C3-4B06-8CF8-105F6E5A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133A-BC60-4528-8905-2A0F10FB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AD039-25E8-4115-A58A-59D164ED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9A380-1C52-48B0-9CA2-AAF88C3A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F6B5-23C0-4E98-BE33-2269CB2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42E80-B8AA-4086-8C6D-3507E70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E21D-5D78-4477-8AB3-5461A9B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D602B-C5AF-4FD7-A733-87E97E3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E268-379C-4DCA-AC6C-27907AB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DB05-9C3F-420F-BB96-0FB3F58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3C5B-D429-446A-BFC8-04B62780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E35C-436B-4751-98FE-26CCD5C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7A4A-65CA-4006-B2D3-7A1F9FB4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71E0-55E3-461C-86D0-9BE7CF69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7115-9BD6-4AF4-9411-9DAFC6C4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1D83-EC0B-4559-B925-06C20E6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22DFA-AB3F-424E-BD52-77E99CE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B9BD-145E-46EB-9792-183A08C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F37DB-2389-45B3-B0C6-58FE7068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BC537-7B3D-4360-938D-9CBACE1F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23301-7AF1-429A-A85D-EE4879D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26F-764F-4E5A-AF6D-728FB39F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01EAA-C546-4672-86FA-9D4B7AE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82488-C350-4967-A95A-4CC4D7C4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A7E02-71B9-4F8E-BDC2-C9137B3F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65663-9ADF-4C64-A3EB-C0635AF0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3BE65-E8DF-44A1-ADA7-593C05D0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B550-D3E2-4875-B1B2-AD35869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6F3-46DC-4489-8E34-A0001A8C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606C-63BE-4566-9DE1-29886F90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71B5-21DE-4423-B177-A93BAEC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57B-5603-42FE-93FF-7586461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A97-5E5D-4AAB-9E7F-AC8C08D6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77E1-7236-4849-9BBE-E5D59A0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7586-250E-4B0E-BAC6-7D508E4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9331-BD52-4B4E-AF3E-E889117C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E750-9C02-4E9A-9856-0886FBB3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13E-514D-42DA-9E47-07F7D712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5AAC-80B9-4E4D-8E74-32260534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526D-6650-4732-B3B0-0D9A1B8D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F7CE-A31A-49E7-8C2F-0D450C9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B81C-B117-4296-AC53-11413DC8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3D97-7FB1-41C4-A7FF-949A859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5A5-0CAB-4B0C-AE79-2A12CC8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5210-FE96-423B-9B1F-759278A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BD28-4358-4878-9588-053E447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210C-FA98-48A9-AA55-986BE06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84E4-7F6D-4F3A-A9E1-6CB8901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829E-F4A4-48BB-81B1-E53B3A07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33D7-3EFF-4452-B538-3C96D663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98E4-16D5-4DD9-96DB-09DDAB30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80EC-A250-46DA-8AD6-3409DE9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99C6-1804-40A2-B888-308731C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7E8D-83A4-40F7-98C5-D0D2338A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1EE-C868-42C4-906A-4E08F86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E7D1-1291-4491-BC0C-A084E24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C1E5-F46E-48FD-856A-39A8C1A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316A-EBE5-4F7F-85F4-9302D9B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28B5-CFC0-4AB1-AC94-52FABD7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1FF2-C1F4-411A-9E33-A00024A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EBBD-2A0B-4463-A062-7E258F3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CD4F-2211-4337-B548-535781B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3ADC-754E-4849-ADB4-8B611334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2E33-606A-4937-A853-BDE4A8C6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E19F-6A45-42DB-AF33-11D412BD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432-B87F-4670-90C9-A2F402A4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DAD7-879A-4F3E-870D-92A61EFF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BA8A-D978-491B-8C7B-738CFB8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4E8-1A03-42BC-AEE4-E41351F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DB3B-4491-4135-A7AF-04B4A37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A8475-5486-4D72-A420-4F04D805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159C-F816-4AB9-A5D6-1819AF7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7A1A-1EF7-4EEE-91D6-0F31167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29EC-B652-4269-9D4B-022E935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CBDC6-204B-4131-A145-BF254B7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CE63-C05E-48F9-A590-1324279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616-05D9-44AC-9CC9-F702420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8470-8A9B-477C-B41B-314BFDFF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E6A2-0DE4-473D-892A-27786699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9670-DF07-4992-AC3C-FFE9D8C5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E3D36-EB13-44BC-97ED-0F337F6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7E3B-CBD3-43B5-BA9E-446381BC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5292-2D4D-40A2-97B7-B56C59D9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E337-809E-4C6F-B9E3-2A3D30AF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506A-DDF6-47D5-92A1-EA5908D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82F1-7CB7-48FE-AA0C-B5EAEDB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9280D-AFAC-4AA0-A837-93ECA41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6F5-A03E-48A4-898C-E803537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99602-07A1-483C-8C91-02B38CB7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F042-768E-493B-904E-6496F306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8C3FF-79D8-4F55-9DC8-126BF556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446D-4D9A-4D4C-A75E-9E5BB1F7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ED17-FB5F-44C7-BA85-73D7A2D5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08A3-FB6E-438D-A69D-7F93C9E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BC98C-0468-428C-AF00-615D49E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3DA2B-7E2C-4754-BBB5-41501465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2E55-D469-4210-85EC-24F0FD5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44EF-3B73-4BBD-B1E4-47EAEAA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4AF-F5E3-4D30-A424-1F6A356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8C651-7D80-43F6-8FA3-144FE2C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C821C-A8CD-4756-BF52-C8C5A80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A0C8B-66D0-465E-871D-ED4ED2B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4446D-A390-4508-9493-6A91C23C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D678-0927-4D36-A961-00E8B2EF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EF79-FFA4-4138-9D36-CF0BE41A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CDCF-92B7-45C7-8994-CD99993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053B-9C5F-4C64-9637-9337AE3E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A43C-2D0B-4C1A-A6A5-7D7B5575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22AE-2136-45EC-8516-33BF4B6A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657-D2FA-47B8-A876-CBDD141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B2FB-5ED1-413D-9A49-7E42E41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3F6B3-C279-4A50-BD6A-E2AB259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CF2A-7AE6-4837-957E-C91D3C4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B53E-E9E1-4E8D-8DA4-BC8E91A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BE39-32A3-4192-92A6-3879553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512E-DB2A-4938-8065-E8C83853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4EDD-1B7C-4DBC-B826-671EF7D0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53FE0-1A75-4360-9310-4179ADED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715C-C465-4A1F-9302-CC3B318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CBFF7-28F2-480D-8B24-7A152F8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AEB-73F0-46F9-B62A-C3A766C97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2C81-086E-4CBA-9A83-9F68AAFE4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F4C-C4DB-48C3-94FC-9C1BD5D2D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A0A-0256-48AB-8607-D0C981481E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898-F79B-49B3-A1B3-999B0E9FB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008-30D7-499C-B413-8109E4CE2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185F-C4CD-4CBD-A65B-65507832F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90C-B7E0-4C52-803B-8A3BA3AE2A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610-0A86-40F4-AD5B-073578CE0A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3BD-2129-4A79-88E4-3BC23242A1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5FF-2903-41C8-BF2F-1C9A4F1D1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597-2376-411D-B445-DF6A48C5FD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31" name="Объект 3" descr=""/>
          <p:cNvPicPr/>
          <p:nvPr/>
        </p:nvPicPr>
        <p:blipFill>
          <a:blip r:embed="rId1"/>
          <a:stretch/>
        </p:blipFill>
        <p:spPr>
          <a:xfrm>
            <a:off x="-811080" y="-171360"/>
            <a:ext cx="10136160" cy="760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5:26:40Z</dcterms:created>
  <dc:creator>Катя</dc:creator>
  <dc:description/>
  <dc:language>en-US</dc:language>
  <cp:lastModifiedBy>Poul</cp:lastModifiedBy>
  <dcterms:modified xsi:type="dcterms:W3CDTF">2022-11-08T08:40:37Z</dcterms:modified>
  <cp:revision>75</cp:revision>
  <dc:subject/>
  <dc:title>День птиц</dc:title>
</cp:coreProperties>
</file>