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2CA-5FB9-47E8-91FD-E81643B6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DD7B-7029-4FD1-B115-70C18FC2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B496-B373-49C4-A89B-A3FB07930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8EFB-AE25-4404-ABC7-AFC439AB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2533-66B0-4D8A-A60D-05C3F251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03A-09F4-49D0-B0E7-29FB2FC3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880-348E-4E42-8678-0871FED5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69E2-77C0-4D32-9459-4ED1ADF7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A3A-8254-4CD1-A23D-162A14C9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E06-F8FA-478B-9010-07F34D56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11A-4424-4835-BA8E-E9B68954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A0B0-68FF-426F-9E3C-F133478F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1D65-4B27-4046-9EA6-64C1000AF7B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айди лишнее слово в каждой строке. Почему лишнее?</a:t>
            </a: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жалеет      помогает      ненавидит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ипит       звенит        режет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стит       веселится    печали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214200" y="2286000"/>
            <a:ext cx="8143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372080" cy="1131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ставь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опущенны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глаголы</a:t>
            </a:r>
            <a:br>
              <a:rPr sz="4000"/>
            </a:br>
            <a:br>
              <a:rPr sz="29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отивоположные по значению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ениться -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рустить -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ля сравнение предметов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ней  …… ,           как хрусталь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ланер …….,  как птиц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229600" cy="71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овтор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285840" y="785880"/>
            <a:ext cx="8643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лаго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это часть речи, которая обозначает действие предмета и отвечает на вопросы что делать?   что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лаголы бывают близкими по значе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например: смотрит-глядит, работает- труд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лаголы бывают противоположными по значе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например: говорить-молчать, прятать-нахо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лаголы используют для   срав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згляд притягивает, как магн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Для отрицанияс глаголами используют частицу 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Не с глаголами пишется отдельн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ставь частицу не, запиш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571680" y="1857240"/>
            <a:ext cx="792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тыдно  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уме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, стыдно  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учить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714240" y="3105000"/>
            <a:ext cx="8072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рой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 другому яму, сам в нее 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попадешь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714240" y="1643040"/>
            <a:ext cx="785844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 пословицы. Определи по смыслу, какие из них потеряли частицу не перед глаго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лезами горю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не поможе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шу маслом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не испортишь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емеро одног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не жду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Запиши пословицы. Где нужно, ставь частицу не перед глаго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928800" y="500040"/>
            <a:ext cx="600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омашнее задание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Упр.128, стр.1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Тема урока: Составление рассказа по плану.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Интересный досуг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85840" y="357120"/>
            <a:ext cx="4214880" cy="6188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 план и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Вступление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гла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Главная часть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нтересный дос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ниги и журна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ра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нкур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мпью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Заключение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дём в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4857840" y="785880"/>
            <a:ext cx="4000320" cy="5943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нтересный дос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бята, кто на каникулы останется дома, приглашаем вас в детскую городскую библиоте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 нас вы интересно проведёте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ходите! Мы ждём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2"/>
          <p:cNvSpPr/>
          <p:nvPr/>
        </p:nvSpPr>
        <p:spPr>
          <a:xfrm>
            <a:off x="857160" y="428760"/>
            <a:ext cx="7500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равни текст с планом. Какие пункты плана не раскрыты в текс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полни текст перечисленными в плане фак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иши план и текст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дчеркни глаг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суди получившийся текст с одноклассниками: какая основная мысль содержится в тексте, какими фактами она подтвержд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14T14:29:32Z</dcterms:created>
  <dc:creator>Алексей</dc:creator>
  <dc:description/>
  <dc:language>en-US</dc:language>
  <cp:lastModifiedBy>user</cp:lastModifiedBy>
  <dcterms:modified xsi:type="dcterms:W3CDTF">2022-11-08T08:48:38Z</dcterms:modified>
  <cp:revision>53</cp:revision>
  <dc:subject/>
  <dc:title>Слайд 1</dc:title>
</cp:coreProperties>
</file>